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44A-6334-489E-9FB8-D9AA6F8DE8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3B8-1E8F-4BDB-8EAF-34483F0A54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4F8-9E18-40DB-8FF1-59F88EB89F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73F8-67CC-4381-AF44-97DBFF12CF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855B-C316-4652-AB02-4960DAA7A1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A020-4960-46B8-93DD-FDFC758178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1040" y="4642920"/>
            <a:ext cx="53658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0CD-1334-4A6D-BEA9-A66263E2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2CF-8795-49F7-BA6D-D86ABB8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C91-AEFC-4E09-B13C-EC79F75C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500-F448-4F0E-BF8F-98AFE2CB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817-356E-4280-83E3-7FD59460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BA8-0B24-4311-9903-66EEEA0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404-1BE3-46EB-876B-3587BEDB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8D9-8906-443C-82DA-73B09A1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53C-1334-4F24-B769-2902983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71E-A2A8-4ED8-9AD1-1F26A88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012-8D80-4DFF-AA12-1C5E5AF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60B-C044-4561-953F-364AC69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86B-2733-4B62-95F3-1E1202B7A9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риб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71680" y="428760"/>
            <a:ext cx="8143560" cy="60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16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рибы: съедобные  и</a:t>
            </a:r>
            <a:endParaRPr b="1" lang="en-US" sz="3200" spc="1" strike="noStrike">
              <a:ln w="3168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168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3200" spc="1" strike="noStrike">
                <a:ln w="31680">
                  <a:solidFill>
                    <a:srgbClr val="66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есъедобные. </a:t>
            </a:r>
            <a:endParaRPr b="1" lang="en-US" sz="3200" spc="1" strike="noStrike">
              <a:ln w="31680">
                <a:solidFill>
                  <a:srgbClr val="66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1680">
                  <a:solidFill>
                    <a:srgbClr val="66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авила сбора грибов</a:t>
            </a:r>
            <a:endParaRPr b="1" lang="en-US" sz="3200" spc="1" strike="noStrike">
              <a:ln w="31680">
                <a:solidFill>
                  <a:srgbClr val="66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есъедобные грибы, встречающиеся в нашем кра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2" descr="C:\Users\nezabudka\Desktop\Аттестация\К работе\22 ложные опята.jpeg"/>
          <p:cNvPicPr/>
          <p:nvPr/>
        </p:nvPicPr>
        <p:blipFill>
          <a:blip r:embed="rId1"/>
          <a:stretch/>
        </p:blipFill>
        <p:spPr>
          <a:xfrm>
            <a:off x="46836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nezabudka\Desktop\Аттестация\К работе\22 мухомор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nezabudka\Desktop\Аттестация\К работе\21а.jpeg"/>
          <p:cNvPicPr/>
          <p:nvPr/>
        </p:nvPicPr>
        <p:blipFill>
          <a:blip r:embed="rId3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755640" y="190080"/>
            <a:ext cx="8388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ff99"/>
                </a:solidFill>
                <a:uFillTx/>
                <a:latin typeface="Times New Roman"/>
              </a:rPr>
              <a:t>Первая помощ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ff99"/>
                </a:solidFill>
                <a:uFillTx/>
                <a:latin typeface="Times New Roman"/>
              </a:rPr>
              <a:t>при отравлении грибам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медленно вызвать врач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мыть желудок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пить активированный уголь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инять слабительно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74560" y="40716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ccff99"/>
                </a:solidFill>
                <a:uFillTx/>
                <a:latin typeface="Times New Roman"/>
              </a:rPr>
              <a:t>Правила</a:t>
            </a:r>
            <a:r>
              <a:rPr b="1" lang="ru-RU" sz="36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ccff99"/>
                </a:solidFill>
                <a:uFillTx/>
                <a:latin typeface="Times New Roman"/>
              </a:rPr>
              <a:t> сбора гриб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знаешь гриб - не бери его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икогда не пробуй гриб на вкус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собирай грибы у дорог и предприятий!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собирай старые, перезрелые грибы!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собирай грибы с клубневидным утолщением, окруженной оболочк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зай гриб ножиком, чтобы не повредить грибниц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Красная книга Краснодарско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f2f2"/>
                </a:solidFill>
                <a:latin typeface="Comic Sans MS"/>
              </a:rPr>
              <a:t>Некоторые редкие виды грибов занесены в Красную книгу Краснодарского края. Их сбор запрещен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2" descr="C:\Users\nezabudka\Desktop\Аттестация\К работе\27б.png"/>
          <p:cNvPicPr/>
          <p:nvPr/>
        </p:nvPicPr>
        <p:blipFill>
          <a:blip r:embed="rId1"/>
          <a:stretch/>
        </p:blipFill>
        <p:spPr>
          <a:xfrm>
            <a:off x="5508720" y="1916280"/>
            <a:ext cx="273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2f2"/>
                </a:solidFill>
                <a:latin typeface="Comic Sans MS"/>
              </a:rPr>
              <a:t>Цезарский гри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C:\Users\nezabudka\Desktop\Аттестация\К работе\17 цезарский гриб.jpeg"/>
          <p:cNvPicPr/>
          <p:nvPr/>
        </p:nvPicPr>
        <p:blipFill>
          <a:blip r:embed="rId1"/>
          <a:stretch/>
        </p:blipFill>
        <p:spPr>
          <a:xfrm>
            <a:off x="971640" y="242100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2f2"/>
                </a:solidFill>
                <a:latin typeface="Comic Sans MS"/>
              </a:rPr>
              <a:t>Гриб-бар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C:\Users\nezabudka\Desktop\Аттестация\К работе\20 баран.jpeg"/>
          <p:cNvPicPr/>
          <p:nvPr/>
        </p:nvPicPr>
        <p:blipFill>
          <a:blip r:embed="rId2"/>
          <a:stretch/>
        </p:blipFill>
        <p:spPr>
          <a:xfrm>
            <a:off x="4572000" y="2852640"/>
            <a:ext cx="404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2f2"/>
                </a:solidFill>
                <a:latin typeface="Comic Sans MS"/>
              </a:rPr>
              <a:t>Гриб-каштанов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2f2"/>
                </a:solidFill>
                <a:latin typeface="Comic Sans MS"/>
              </a:rPr>
              <a:t>Гриб-синя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C:\Users\nezabudka\Desktop\Аттестация\К работе\18 каштановик.jpeg"/>
          <p:cNvPicPr/>
          <p:nvPr/>
        </p:nvPicPr>
        <p:blipFill>
          <a:blip r:embed="rId1"/>
          <a:stretch/>
        </p:blipFill>
        <p:spPr>
          <a:xfrm>
            <a:off x="684360" y="2421000"/>
            <a:ext cx="3600360" cy="36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nezabudka\Desktop\Аттестация\К работе\19 синяк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nezabudka\Desktop\Аттестация\К работе\19а.jpeg"/>
          <p:cNvPicPr/>
          <p:nvPr/>
        </p:nvPicPr>
        <p:blipFill>
          <a:blip r:embed="rId3"/>
          <a:stretch/>
        </p:blipFill>
        <p:spPr>
          <a:xfrm>
            <a:off x="5003640" y="2421000"/>
            <a:ext cx="26956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дведем ито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28960" y="1428840"/>
            <a:ext cx="57578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зови съедобные и несъедобные грибы, встречающиеся в Краснодарском кра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Что необходимо сделать при отравлении гриб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акие правила сбора грибов нужно зн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2306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5ffff"/>
                </a:solidFill>
                <a:latin typeface="Tahoma"/>
              </a:rPr>
              <a:t>Рефлексия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Я  узнал ….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ahoma"/>
              </a:rPr>
              <a:t>Я  научился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Было трудно 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68360" y="11592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Times New Roman"/>
              </a:rPr>
              <a:t>ЦЕЛИ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йти  различие между похожими съедобными и ядовитыми гриб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формулировать правила сбора гри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учить правила первой медицинской помощи при отравлении гриб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47320" y="476280"/>
            <a:ext cx="84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Всякий гриб в руки берут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а не всякий в кузовок кладут.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5" descr="корзина с грибами олег баранов"/>
          <p:cNvPicPr/>
          <p:nvPr/>
        </p:nvPicPr>
        <p:blipFill>
          <a:blip r:embed="rId1"/>
          <a:stretch/>
        </p:blipFill>
        <p:spPr>
          <a:xfrm>
            <a:off x="1908000" y="2276640"/>
            <a:ext cx="4608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4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Грибы в нашем крае в основном растут летом и осенью. Их можно встретить в лесу и в поле. Вспомните, какие съедобные и несъедобные грибы вы знаете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2" descr="C:\Users\nezabudka\Desktop\Аттестация\К работе\21 опята.jpeg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8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356000" y="2060640"/>
            <a:ext cx="4788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2f2"/>
                </a:solidFill>
                <a:latin typeface="Comic Sans MS"/>
              </a:rPr>
              <a:t>Опя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астут преимущественно на пн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2f2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2f2"/>
                </a:solidFill>
                <a:latin typeface="Comic Sans MS"/>
              </a:rPr>
              <a:t>Маслята и рыж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стречаю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д соснами и еля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nezabudka\Desktop\Аттестация\К работе\16 маслята.jpeg"/>
          <p:cNvPicPr/>
          <p:nvPr/>
        </p:nvPicPr>
        <p:blipFill>
          <a:blip r:embed="rId2"/>
          <a:stretch/>
        </p:blipFill>
        <p:spPr>
          <a:xfrm>
            <a:off x="468360" y="1484280"/>
            <a:ext cx="2693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2f2"/>
                </a:solidFill>
                <a:latin typeface="Comic Sans MS"/>
              </a:rPr>
              <a:t>Подосинов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оседствуют не только с осиной, но и с сосной, ель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6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ffff"/>
                </a:solidFill>
                <a:latin typeface="Comic Sans MS"/>
              </a:rPr>
              <a:t>Лисич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Растёт на полянах  и склон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Объект 5" descr="C:\Users\user\Pictures\Cantharellus-cibarius-03.jpg"/>
          <p:cNvPicPr/>
          <p:nvPr/>
        </p:nvPicPr>
        <p:blipFill>
          <a:blip r:embed="rId1"/>
          <a:stretch/>
        </p:blipFill>
        <p:spPr>
          <a:xfrm>
            <a:off x="108000" y="198900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20:32:31Z</dcterms:created>
  <dc:creator>user</dc:creator>
  <dc:description/>
  <dc:language>en-US</dc:language>
  <cp:lastModifiedBy>user</cp:lastModifiedBy>
  <dcterms:modified xsi:type="dcterms:W3CDTF">2017-10-12T20:50:32Z</dcterms:modified>
  <cp:revision>154</cp:revision>
  <dc:subject/>
  <dc:title>Заголовок слайда отсутствует</dc:title>
</cp:coreProperties>
</file>