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65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5C5D-0FEB-4D6E-9AA7-CB6988C91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482-3E43-4451-B918-B407EFB82A38}" type="slidenum">
              <a:rPr b="0" lang="ru-RU" sz="1200" spc="-1" strike="noStrike">
                <a:solidFill>
                  <a:srgbClr val="1736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4C7-2B2D-4855-A728-4D585D45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B0C-4B1F-495A-BB04-533B6D5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DF8-2FE6-469E-81C8-E23170B2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7DA-0803-4664-ABF3-A3F99D84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147-108C-4EE8-B6DD-7D84F8E2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21C-FBA7-4823-A653-27045BB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654-933F-4A9C-80C9-FEC2702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7BB-C860-4462-92FF-C0A0D32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7B0-2461-4F15-A8CB-CCDF35AD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3A3-4F1A-4EA5-941D-C9218F5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9DE-06F8-42DA-82AA-84105FB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DF5-1987-462C-866B-D55F0C28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65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736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6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65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7365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7365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909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48F-B962-4239-89CE-09BC9C9C8324}" type="datetime">
              <a:rPr b="0" lang="ru-RU" sz="1200" spc="-1" strike="noStrike">
                <a:solidFill>
                  <a:srgbClr val="8b909c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909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4EAF-8F38-4034-A248-0F567B44B80C}" type="slidenum">
              <a:rPr b="0" lang="ru-RU" sz="1200" spc="-1" strike="noStrike">
                <a:solidFill>
                  <a:srgbClr val="8b909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471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65d"/>
                </a:solidFill>
                <a:latin typeface="Arial"/>
              </a:rPr>
              <a:t>Базы данных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MS Access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6227640" y="260280"/>
            <a:ext cx="2675160" cy="868320"/>
          </a:xfrm>
          <a:prstGeom prst="rect">
            <a:avLst/>
          </a:prstGeom>
          <a:solidFill>
            <a:srgbClr val="cc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Занятие 1</a:t>
            </a:r>
            <a:endParaRPr b="0" lang="en-US" sz="44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142560"/>
            <a:ext cx="7047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65d"/>
                </a:solidFill>
                <a:latin typeface="Calibri"/>
              </a:rPr>
              <a:t>Что такое БД и информационная система</a:t>
            </a:r>
            <a:br>
              <a:rPr sz="2800"/>
            </a:br>
            <a:endParaRPr b="0" lang="en-US" sz="28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11280" y="71424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65d"/>
                </a:solidFill>
                <a:latin typeface="Calibri"/>
              </a:rPr>
              <a:t>Имеется большой объем данных о какой-то реальной системе объектов или событий.  Приведите примеры.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11280" y="1700280"/>
            <a:ext cx="831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Бд - совокупность определенным образом организованной информации на какую – то тему ( рамках некоторой предметной области). Примеры: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БД книжного фонда библиотеки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БД кадрового состава учреждения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БД законодательных актов в области уголовного права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6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БД современных эстрадных песен и т. д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7365d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12600" y="262080"/>
            <a:ext cx="91692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87280" y="27000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b909c"/>
                </a:solidFill>
                <a:uFillTx/>
                <a:latin typeface="Calibri"/>
              </a:rPr>
              <a:t>База данных </a:t>
            </a:r>
            <a:r>
              <a:rPr b="1" lang="ru-RU" sz="5400" spc="-1" strike="noStrike">
                <a:solidFill>
                  <a:srgbClr val="8b909c"/>
                </a:solidFill>
                <a:latin typeface="Calibri"/>
              </a:rPr>
              <a:t>–</a:t>
            </a:r>
            <a:endParaRPr b="0" lang="en-US" sz="5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8760" y="1989000"/>
            <a:ext cx="791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65d"/>
                </a:solidFill>
                <a:latin typeface="Calibri"/>
              </a:rPr>
              <a:t>организованная совокупность данных, предназначенных для длительного хранения во внешней памяти компьютера и постоянного  применения</a:t>
            </a:r>
            <a:endParaRPr b="0" lang="en-US" sz="4400" spc="-1" strike="noStrike">
              <a:solidFill>
                <a:srgbClr val="17365d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7120" y="5929200"/>
            <a:ext cx="6256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428760" y="3333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65d"/>
                </a:solidFill>
                <a:latin typeface="Calibri"/>
              </a:rPr>
              <a:t>Сама БД не может обслужить  запросы пользователя на поиск и обработку информации. БД – это только «информационный склад». Обслуживание пользователя осуществляет информационная система.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611280" y="1773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Информационная система – это совокупность БД и всего комплекса аппаратно – программных средств для ее хранения, изменения и поиска информации, для взаимодействия с пользователем.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Примеры: продажа билетов на самолеты и поезда. </a:t>
            </a:r>
            <a:r>
              <a:rPr b="1" lang="en-US" sz="3200" spc="-1" strike="noStrike">
                <a:solidFill>
                  <a:srgbClr val="17365d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-это тоже пример глобальной информационной системы.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1" descr=""/>
          <p:cNvPicPr/>
          <p:nvPr/>
        </p:nvPicPr>
        <p:blipFill>
          <a:blip r:embed="rId1"/>
          <a:stretch/>
        </p:blipFill>
        <p:spPr>
          <a:xfrm>
            <a:off x="-165240" y="0"/>
            <a:ext cx="940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413080" y="979560"/>
          <a:ext cx="6095880" cy="11127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……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</a:t>
                      </a: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</a:t>
                      </a: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365d"/>
                          </a:solidFill>
                          <a:latin typeface="Calibri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17365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4"/>
          <p:cNvSpPr/>
          <p:nvPr/>
        </p:nvSpPr>
        <p:spPr>
          <a:xfrm>
            <a:off x="2556000" y="51768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65d"/>
                </a:solidFill>
                <a:latin typeface="Calibri"/>
              </a:rPr>
              <a:t>поле1          поле2              поле3              поле4               поле5     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116000" y="9795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65d"/>
                </a:solidFill>
                <a:latin typeface="Calibri"/>
              </a:rPr>
              <a:t>Запись1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65d"/>
                </a:solidFill>
                <a:latin typeface="Calibri"/>
              </a:rPr>
              <a:t>запись2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258920" y="2708280"/>
            <a:ext cx="72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65d"/>
                </a:solidFill>
                <a:latin typeface="Calibri"/>
              </a:rPr>
              <a:t>В реляционной БД </a:t>
            </a:r>
            <a:r>
              <a:rPr b="1" i="1" lang="ru-RU" sz="2400" spc="-1" strike="noStrike">
                <a:solidFill>
                  <a:srgbClr val="17365d"/>
                </a:solidFill>
                <a:latin typeface="Calibri"/>
              </a:rPr>
              <a:t>строка</a:t>
            </a:r>
            <a:r>
              <a:rPr b="0" lang="ru-RU" sz="2400" spc="-1" strike="noStrike">
                <a:solidFill>
                  <a:srgbClr val="17365d"/>
                </a:solidFill>
                <a:latin typeface="Calibri"/>
              </a:rPr>
              <a:t> таблица называется  </a:t>
            </a:r>
            <a:r>
              <a:rPr b="1" i="1" lang="ru-RU" sz="2400" spc="-1" strike="noStrike">
                <a:solidFill>
                  <a:srgbClr val="17365d"/>
                </a:solidFill>
                <a:latin typeface="Calibri"/>
              </a:rPr>
              <a:t>записью</a:t>
            </a:r>
            <a:r>
              <a:rPr b="0" lang="ru-RU" sz="2400" spc="-1" strike="noStrike">
                <a:solidFill>
                  <a:srgbClr val="17365d"/>
                </a:solidFill>
                <a:latin typeface="Calibri"/>
              </a:rPr>
              <a:t>, а </a:t>
            </a:r>
            <a:r>
              <a:rPr b="1" i="1" lang="ru-RU" sz="2400" spc="-1" strike="noStrike">
                <a:solidFill>
                  <a:srgbClr val="17365d"/>
                </a:solidFill>
                <a:latin typeface="Calibri"/>
              </a:rPr>
              <a:t>столбец – полем.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116000" y="4076640"/>
            <a:ext cx="71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65d"/>
                </a:solidFill>
                <a:latin typeface="Calibri"/>
              </a:rPr>
              <a:t>В реляционной БД не должно быть совпадающих записей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493560" y="476280"/>
            <a:ext cx="80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65d"/>
                </a:solidFill>
                <a:latin typeface="Arial"/>
              </a:rPr>
              <a:t>Разные поля отличаются именем. Записи различаются значениями ключей.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493560" y="1844640"/>
            <a:ext cx="804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Первичным ключом в базе данных называют поле(или совокупность полей), значение которого  не повторяется у разных записей.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39640" y="1773360"/>
            <a:ext cx="860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Calibri"/>
              </a:rPr>
              <a:t>множество значений, которые может принимать данное поле в различных записях.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Calibri"/>
              </a:rPr>
              <a:t>От типа величины зависят те действия, которые можно с ней принимать.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-числовой тип ( только числа)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-символьный тип(слова, тексты, коды и т.д.)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-тип «дата»(только дата)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65d"/>
                </a:solidFill>
                <a:latin typeface="Calibri"/>
              </a:rPr>
              <a:t>-логический тип (да/нет или истина/ложь)</a:t>
            </a: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671040" y="476280"/>
            <a:ext cx="53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65d"/>
                </a:solidFill>
                <a:latin typeface="Calibri"/>
              </a:rPr>
              <a:t>Тип поля определяет </a:t>
            </a:r>
            <a:endParaRPr b="0" lang="en-US" sz="44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1:51:35Z</dcterms:created>
  <dc:creator>Admin</dc:creator>
  <dc:description>http://aida.ucoz.ru</dc:description>
  <dc:language>en-US</dc:language>
  <cp:lastModifiedBy>Татьяна Валерьевна</cp:lastModifiedBy>
  <dcterms:modified xsi:type="dcterms:W3CDTF">2017-12-26T08:11:13Z</dcterms:modified>
  <cp:revision>3</cp:revision>
  <dc:subject/>
  <dc:title>Базы данных MS Access</dc:title>
</cp:coreProperties>
</file>