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437-150E-48C3-B6C6-8A0F1698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A93-8EA7-4BE8-8662-E177BF8C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537-E158-457E-84D0-0FAF386D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33F-795D-40E2-8722-D679F697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FB3-BE1A-423B-B11B-83227F1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CBC-A6E9-4269-AFED-7D903E06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730-5376-444C-8CB5-D10B067F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FDB-6980-44E2-BEF8-47770C6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331-CCC0-4972-BBD7-3748C4C9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5FD-B06F-461D-9AD2-B7A256F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3C2-3AB1-429C-8D46-F4C2324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780-977B-40E7-9EFD-66BA150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2015-2FFE-4903-9F3F-966D2DD68B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8072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Чем отличается Дед Мороз от Санта Клаус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929200" y="3000240"/>
            <a:ext cx="1982880" cy="264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ost-5054-1212581946"/>
          <p:cNvPicPr/>
          <p:nvPr/>
        </p:nvPicPr>
        <p:blipFill>
          <a:blip r:embed="rId3"/>
          <a:stretch/>
        </p:blipFill>
        <p:spPr>
          <a:xfrm>
            <a:off x="1555920" y="2643120"/>
            <a:ext cx="2016000" cy="2714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хняя одеж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857160"/>
            <a:ext cx="4214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 Деда Мороза – тёплая шуба до пят; подпоясанная. штаны не видны под шубой . На севере без шубы замёрзнешь. В руках Дед Мороз держит посо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2920" y="928800"/>
            <a:ext cx="403884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 Санта-Клауса – короткая куртка, штаны.  В Европе зимой тепл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руках у Санта-Клауса – ничего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6424560" y="3139920"/>
            <a:ext cx="1440000" cy="187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2328840" y="2992320"/>
            <a:ext cx="1347840" cy="165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2:44:00Z</dcterms:created>
  <dc:creator>SPA</dc:creator>
  <dc:description/>
  <dc:language>en-US</dc:language>
  <cp:lastModifiedBy>Аня</cp:lastModifiedBy>
  <dcterms:modified xsi:type="dcterms:W3CDTF">2017-12-26T18:28:20Z</dcterms:modified>
  <cp:revision>72</cp:revision>
  <dc:subject/>
  <dc:title>Слайд 1</dc:title>
</cp:coreProperties>
</file>