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1A1-E426-4B22-A3B6-B27BDDB4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32A-E0CD-4D7F-BD7E-5D33983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F9F-D10D-424A-9084-8009E4E3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57D-1BBA-4F9A-804A-A106B4E8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E095-910B-4571-9D0C-00D6AC41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CE56-BB09-40AA-8D35-87C4AE3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E89B-A7CC-4308-9EA9-EFC3E396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24D0-6515-4AEB-9C9F-5230682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A24-B44F-4229-96D1-86B9BEB6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5B6F-7791-4BC5-A4D1-3B717BF7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E650-7D7E-4521-98D7-FDC5107F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8EF-343A-44C1-9686-5999759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5257-FA0A-4474-993A-009BFD9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1346-889B-4388-A2FC-ED4153D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5D2-A154-45B9-A1EB-0856DD41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6DBF-EB62-4283-B93B-21CE011A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3E17-BBD7-4925-B25E-83E29E65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36D-BCD4-4ACA-807C-02F096FC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699-4973-402C-A2FF-8BC9C65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9D2-6906-4AB1-986C-6CAEDD0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8EC-59F1-4E4D-8349-6BDD901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371-8254-4623-9D5E-8EBF289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F0D-4A22-4E02-8EF7-29D5521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32B-A881-4F03-8A56-90A00A1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B3A9-E3F1-4642-8A0A-902452173F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835-1C8F-4DF6-9603-A228FB2E44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444600"/>
            <a:ext cx="7413480" cy="258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989840" cy="2951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444600" y="3284640"/>
            <a:ext cx="80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уководитель ШМО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ысшей квалификационной категори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Алёшина Галина Викторовн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24000" y="5516640"/>
            <a:ext cx="859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ffff"/>
                </a:solidFill>
                <a:latin typeface="Arial"/>
              </a:rPr>
              <a:t>РМО учителей начальных класс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ffff"/>
                </a:solidFill>
                <a:latin typeface="Arial"/>
              </a:rPr>
              <a:t>27 ноября 2017 год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Мозговой штурм»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способ поощрения активности учеников и быстрого генерирования и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приём может быть использован для решения конкретной проблемы или поиска ответа на вопро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ам предлагается высказывать как можно большее количество вариантов решения, в том числе и самых фантастич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тем из общего числа высказанных идей отбираются наиболее удач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атематическая «карусель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тематическая "карусель" – это командное соревнование по решению задач. Побеждает команда, набравшая наибольшее число оч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ект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стоятельное исследование различных тем, проводимое учениками в течение некоторого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т приём лучше использовать в 3 - 4 классах, когда дети уже могут выполнять самостоятельный поиск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езентации позволяют учителю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глядно представлять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нтенсифицировать процесс   объяснения нового материала;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регулировать объем и скорость выводимой информации посредством анимации;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вышать познавательную активность обучающихся;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Презентации позволяют ученикам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глядно представить учебный материал (отметили 75% обучающихся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делать урок более интересным (отметили 63% обучающихся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нтенсификация процесса объяснения нового материала (отметили 35% обучающихся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ловесные ассоци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ём, который используется при изучении новых понятий, на уроках (например, геометрический материал на уроках математик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исование (черчение)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ём используется с целью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блюда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выков совместной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вообра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Общий галдёж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ём, применяемый для смены темпа урока, своеобразная физкультминутка, возможность общения в парах или групп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спроизведение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ий способ усвоения и понимания информации – это воспроизведение её в другой фор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,прослушав задание, изобразить его в таблице или сх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Формы интерактивного обучения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учающие игры (игры-метафоры, иллюстративные игр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общественных ресур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аждый учит каждог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левые иг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тандартные уроки (математический экспресс, урок-поиск, урок-размышление, урок-ринг, урок открытых мыслей, урок-защита диссертации; уроки, которые ведут ученики; урок-турнир и друг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скусс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терактивные формы и методы обучения в начальной школ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искусс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скусс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исследование, рассмотрение) — это всестороннее обсуждение спорного вопроса в публичном собрании, в частной беседе, спо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угими словами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скусс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ключается в коллективном обсуждении какого-либо вопроса, проблемы или сопоставлении информации, идей, мнений, предложен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оведения дискуссии могут быть очень разнообразными: обучение, тренинг, диагностика, преобразование, изменение установок, стимулирование творчества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олевая иг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левые иг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каждый участник имеет или определенное задание, или определенную роль, которую он должен исполнить в соответствии с зада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Каждый учит каждого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жет использоваться при изучении нового материала или при обобщении основных понятий и идей. Суть данного метода состоит в том, что учащиеся учат друг друга в парах сменного соста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 друг друга — это один из самых эффективных способов усвоить информацию по предмету и применить на практике важные навыки и умения объяснять трудный материал, задавать вопросы, слушать, общаться и др.  Учащиеся также смогут с помощью своих товарищей обозреть общую картину понятий и фактов, которые необходимо изучить во время занятия, урока, которые, в свою очередь, вызовут вопросы и повысят интерес. Таким образом, данный метод инициирует интерес, побуждает задавать дополнительные вопросы, дает возможность ученикам принимать активное участие в процессе обучения и обмениваться своими знаниями с одноклассник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активное обуч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зволяет решать одновременно несколько задач, главной из которых является развитие коммуникативных умений и навык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ое обучение помогает установлению эмоциональных контактов между учащимися, обеспечивает воспитательную задачу, поскольку приучает работать в команде, прислушиваться к мнению своих товарищей, обеспечивает высокую мотивацию, прочность знаний, творчество и фантазию, коммуникабельность, активную жизненную позицию, ценность индивидуальности, свободу самовыражения, акцент на деятельность, взаимоуважение и демократичнос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интерактивных форм в процессе обучения, как показывает практика, снимает нервную нагрузку обучающихся, дает возможность менять формы их деятельности, переключать внимание на узловые вопросы темы занят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1760" y="98064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терактивность – способность взаимодействовать или находиться в режиме беседы, диалога с чем-либо (компьютер), с кем-либо (человек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Интерактивные методы обучения позволяют решать следующие задач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е включение каждого ученика в процесс усвоения учебного материа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ышение познавательной мотив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 навыкам успешного общения(умения слушать и слышать друг друга, выстраивать диалог, задавать вопросы на понимани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навыков самостоятельной учебной деятельности: определение ведущих и промежуточных задач, умение предусматривать последствия своего выбора, его объективная оце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ние лидерских каче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ние работать с командой и в коман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имать на себя ответственность за совместную и собственную деятельность по достижению результа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Интерактивное обучение – это диалоговое обу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троится на лин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ченик – учени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ченик – группа учащихс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ченик – аудитор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руппа учащихся – аудитор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ченик – компьютер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шает три главные задач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чебно-познавательная задача (узнать, определить…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ммуникативно-развивающая  (развитие учебных умений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циально-ориентированна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Основные особенности интерактив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удительная активизация познавательн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ый поиск решения пробле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роли учителя на роль организатора или консульта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ключение монологического преподнесения матери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логовый характ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Разработаны специальные приёмы для интерактива (для работы в парах, группами, коллективно):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ы и групп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Мозг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й штур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Математическая карусел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Общий галдёж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есные ассоци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роизведение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ссмотрим некоторые из них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33"/>
                </a:solidFill>
                <a:latin typeface="Times New Roman"/>
              </a:rPr>
              <a:t>Пары и групп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метод даёт ученикам больше возможностей для участия и взаимодейств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ы могут формироваться произвольно, по желанию учеников, но чаще всего планируя на уроке групповую работу, учитель заранее делит класс на группы, учитывая уровень учебных навыков, успехов учеников и характер межличностных отно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7:19:45Z</dcterms:created>
  <dc:creator>сухушина</dc:creator>
  <dc:description/>
  <dc:language>en-US</dc:language>
  <cp:lastModifiedBy> Алёшина</cp:lastModifiedBy>
  <dcterms:modified xsi:type="dcterms:W3CDTF">2017-11-20T08:09:48Z</dcterms:modified>
  <cp:revision>115</cp:revision>
  <dc:subject/>
  <dc:title>Интерактивные формы и методы обучения в начальной школе</dc:title>
</cp:coreProperties>
</file>