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6C3-6EBC-47B7-9D9F-36437394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269-FB9A-4A97-B2A2-813F41E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8B4-46AF-4D89-B362-1E51428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BD7-E067-4F49-BCA7-7EF6115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011-1F05-4D86-8B97-DF7061FD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EDC-2AA4-47A4-84B0-D86B0A16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702-EA4F-48EF-9C17-88A8504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49B-4CBD-4AD7-924C-F4B0085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DBE-FDA8-4F29-AE30-7C0649A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888-5907-4D79-8E0D-F04A25F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C53-F9DB-4F27-B7FB-950A721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68F-89DB-4018-8801-F2576CA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326-8749-4E89-A71E-6B93C9A0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5640" y="838080"/>
            <a:ext cx="72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"Развитие мелкой моторики средствами Арт- терапии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32228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вершенствование условий для развития мелкой моторики у детей с ОВЗ. посредством арт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Основные задачи</a:t>
            </a: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Тренировать тонкие движения пальцев и кистей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Формирова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здать условия для накопления ребёнком практического двигательного опыта, развития навыка ручной умел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пособствовать развитию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038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val 14"/>
          <p:cNvGrpSpPr/>
          <p:nvPr/>
        </p:nvGrpSpPr>
        <p:grpSpPr>
          <a:xfrm>
            <a:off x="1295280" y="3886200"/>
            <a:ext cx="5333760" cy="2370960"/>
            <a:chOff x="1295280" y="3886200"/>
            <a:chExt cx="5333760" cy="2370960"/>
          </a:xfrm>
        </p:grpSpPr>
        <p:pic>
          <p:nvPicPr>
            <p:cNvPr id="48" name="Oval 14" descr=""/>
            <p:cNvPicPr/>
            <p:nvPr/>
          </p:nvPicPr>
          <p:blipFill>
            <a:blip r:embed="rId2"/>
            <a:stretch/>
          </p:blipFill>
          <p:spPr>
            <a:xfrm>
              <a:off x="1295280" y="3886200"/>
              <a:ext cx="53337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078280" y="4236120"/>
              <a:ext cx="376380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86000" y="4648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886200"/>
            <a:ext cx="4647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80024"/>
                </a:solidFill>
                <a:latin typeface="Arial"/>
              </a:rPr>
              <a:t>Методы и приемы работы: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массаж кистей рук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е игры со стих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нетрадиционное рис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бассей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теа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4"/>
          <p:cNvGrpSpPr/>
          <p:nvPr/>
        </p:nvGrpSpPr>
        <p:grpSpPr>
          <a:xfrm>
            <a:off x="4724280" y="762120"/>
            <a:ext cx="3505320" cy="1075680"/>
            <a:chOff x="4724280" y="762120"/>
            <a:chExt cx="3505320" cy="1075680"/>
          </a:xfrm>
        </p:grpSpPr>
        <p:pic>
          <p:nvPicPr>
            <p:cNvPr id="56" name="Oval 14" descr=""/>
            <p:cNvPicPr/>
            <p:nvPr/>
          </p:nvPicPr>
          <p:blipFill>
            <a:blip r:embed="rId2"/>
            <a:stretch/>
          </p:blipFill>
          <p:spPr>
            <a:xfrm>
              <a:off x="4724280" y="762120"/>
              <a:ext cx="3505320" cy="10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38720" y="920880"/>
              <a:ext cx="24732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12"/>
          <p:cNvGrpSpPr/>
          <p:nvPr/>
        </p:nvGrpSpPr>
        <p:grpSpPr>
          <a:xfrm>
            <a:off x="914400" y="2437560"/>
            <a:ext cx="7620120" cy="2439720"/>
            <a:chOff x="914400" y="2437560"/>
            <a:chExt cx="7620120" cy="2439720"/>
          </a:xfrm>
        </p:grpSpPr>
        <p:pic>
          <p:nvPicPr>
            <p:cNvPr id="59" name="Rectangle 12" descr=""/>
            <p:cNvPicPr/>
            <p:nvPr/>
          </p:nvPicPr>
          <p:blipFill>
            <a:blip r:embed="rId3"/>
            <a:stretch/>
          </p:blipFill>
          <p:spPr>
            <a:xfrm>
              <a:off x="914400" y="2536560"/>
              <a:ext cx="76201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2437560"/>
              <a:ext cx="7620120" cy="24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Аристотель отмечал: занятие рисованием способствует разностороннему развитию ребен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Об этом писали выдающиеся педагоги Я.А. Коменский, И.Г.Песталоцци, Ф.В. Фрёбель"</a:t>
              </a:r>
              <a:r>
                <a:rPr b="0" i="1" lang="ru-RU" sz="2000" spc="-1" strike="noStrike">
                  <a:solidFill>
                    <a:srgbClr val="4824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чеными доказано, что течение мыслей  и зрительно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восприяти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 детей,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пропорционально скорости движения ру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5"/>
          <p:cNvGrpSpPr/>
          <p:nvPr/>
        </p:nvGrpSpPr>
        <p:grpSpPr>
          <a:xfrm>
            <a:off x="5105520" y="915120"/>
            <a:ext cx="2971800" cy="792360"/>
            <a:chOff x="5105520" y="915120"/>
            <a:chExt cx="2971800" cy="792360"/>
          </a:xfrm>
        </p:grpSpPr>
        <p:pic>
          <p:nvPicPr>
            <p:cNvPr id="62" name="Rectangle 15" descr=""/>
            <p:cNvPicPr/>
            <p:nvPr/>
          </p:nvPicPr>
          <p:blipFill>
            <a:blip r:embed="rId4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05520" y="915120"/>
              <a:ext cx="29718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660033"/>
                  </a:solidFill>
                  <a:latin typeface="Arial"/>
                </a:rPr>
                <a:t>"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Ум ребенка находи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 кончиках его пальцев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".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i="1" lang="ru-RU" sz="1600" spc="-1" strike="noStrike">
                  <a:solidFill>
                    <a:srgbClr val="660033"/>
                  </a:solidFill>
                  <a:latin typeface="Arial"/>
                </a:rPr>
                <a:t>В.А.Сухомлинский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6" descr=""/>
          <p:cNvPicPr/>
          <p:nvPr/>
        </p:nvPicPr>
        <p:blipFill>
          <a:blip r:embed="rId5">
            <a:lum contrast="-30000"/>
          </a:blip>
          <a:stretch/>
        </p:blipFill>
        <p:spPr>
          <a:xfrm>
            <a:off x="3276720" y="4419720"/>
            <a:ext cx="2590560" cy="167616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grpSp>
        <p:nvGrpSpPr>
          <p:cNvPr id="65" name="Oval 14"/>
          <p:cNvGrpSpPr/>
          <p:nvPr/>
        </p:nvGrpSpPr>
        <p:grpSpPr>
          <a:xfrm>
            <a:off x="914400" y="762120"/>
            <a:ext cx="3429000" cy="1000080"/>
            <a:chOff x="914400" y="762120"/>
            <a:chExt cx="3429000" cy="1000080"/>
          </a:xfrm>
        </p:grpSpPr>
        <p:pic>
          <p:nvPicPr>
            <p:cNvPr id="66" name="Oval 14" descr=""/>
            <p:cNvPicPr/>
            <p:nvPr/>
          </p:nvPicPr>
          <p:blipFill>
            <a:blip r:embed="rId6"/>
            <a:stretch/>
          </p:blipFill>
          <p:spPr>
            <a:xfrm>
              <a:off x="914400" y="762120"/>
              <a:ext cx="3429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17680" y="909720"/>
              <a:ext cx="2419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1600" y="91440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Рука – своего 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внешний мозг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660033"/>
                </a:solidFill>
                <a:latin typeface="Arial"/>
              </a:rPr>
              <a:t>И.К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12"/>
          <p:cNvGrpSpPr/>
          <p:nvPr/>
        </p:nvGrpSpPr>
        <p:grpSpPr>
          <a:xfrm>
            <a:off x="1219320" y="685800"/>
            <a:ext cx="6705360" cy="2244600"/>
            <a:chOff x="1219320" y="685800"/>
            <a:chExt cx="6705360" cy="2244600"/>
          </a:xfrm>
        </p:grpSpPr>
        <p:pic>
          <p:nvPicPr>
            <p:cNvPr id="73" name="Rectangle 12" descr=""/>
            <p:cNvPicPr/>
            <p:nvPr/>
          </p:nvPicPr>
          <p:blipFill>
            <a:blip r:embed="rId2"/>
            <a:stretch/>
          </p:blipFill>
          <p:spPr>
            <a:xfrm>
              <a:off x="1219320" y="685800"/>
              <a:ext cx="67053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19320" y="938160"/>
              <a:ext cx="6705360" cy="17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У многих детей с  умственной отсталостью наблюдается эмоциональный отклик на нетрадиционные способы рисования: пальчиковая живопись,  рисование солью,  пластилином,  крупой  и на круп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15"/>
          <p:cNvGrpSpPr/>
          <p:nvPr/>
        </p:nvGrpSpPr>
        <p:grpSpPr>
          <a:xfrm>
            <a:off x="5105520" y="1036800"/>
            <a:ext cx="2971800" cy="549000"/>
            <a:chOff x="5105520" y="1036800"/>
            <a:chExt cx="2971800" cy="549000"/>
          </a:xfrm>
        </p:grpSpPr>
        <p:pic>
          <p:nvPicPr>
            <p:cNvPr id="76" name="Rectangle 15" descr=""/>
            <p:cNvPicPr/>
            <p:nvPr/>
          </p:nvPicPr>
          <p:blipFill>
            <a:blip r:embed="rId3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05520" y="1189080"/>
              <a:ext cx="297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990720" y="2362320"/>
            <a:ext cx="2286000" cy="167616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2133720" cy="160020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grpSp>
        <p:nvGrpSpPr>
          <p:cNvPr id="80" name="Oval 14"/>
          <p:cNvGrpSpPr/>
          <p:nvPr/>
        </p:nvGrpSpPr>
        <p:grpSpPr>
          <a:xfrm>
            <a:off x="990720" y="4267080"/>
            <a:ext cx="5333400" cy="1914120"/>
            <a:chOff x="990720" y="4267080"/>
            <a:chExt cx="5333400" cy="1914120"/>
          </a:xfrm>
        </p:grpSpPr>
        <p:pic>
          <p:nvPicPr>
            <p:cNvPr id="81" name="Oval 14" descr=""/>
            <p:cNvPicPr/>
            <p:nvPr/>
          </p:nvPicPr>
          <p:blipFill>
            <a:blip r:embed="rId6"/>
            <a:stretch/>
          </p:blipFill>
          <p:spPr>
            <a:xfrm>
              <a:off x="990720" y="4267080"/>
              <a:ext cx="5333400" cy="19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773720" y="4549320"/>
              <a:ext cx="37634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00200" y="4572000"/>
            <a:ext cx="4114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0024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480024"/>
                </a:solidFill>
                <a:latin typeface="Arial"/>
              </a:rPr>
              <a:t>Художественная деятельность способствует развитию чувств, учит детей  обследовать предмет, развивает наблюд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0024"/>
                </a:solidFill>
                <a:latin typeface="Arial"/>
              </a:rPr>
              <a:t>Я. 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2133360" cy="1638360"/>
          </a:xfrm>
          <a:prstGeom prst="rect">
            <a:avLst/>
          </a:prstGeom>
          <a:ln w="25560">
            <a:solidFill>
              <a:srgbClr val="6424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Rectangle 12"/>
          <p:cNvGrpSpPr/>
          <p:nvPr/>
        </p:nvGrpSpPr>
        <p:grpSpPr>
          <a:xfrm>
            <a:off x="1066680" y="821520"/>
            <a:ext cx="7543800" cy="3232080"/>
            <a:chOff x="1066680" y="821520"/>
            <a:chExt cx="7543800" cy="3232080"/>
          </a:xfrm>
        </p:grpSpPr>
        <p:pic>
          <p:nvPicPr>
            <p:cNvPr id="89" name="Rectangle 12" descr=""/>
            <p:cNvPicPr/>
            <p:nvPr/>
          </p:nvPicPr>
          <p:blipFill>
            <a:blip r:embed="rId2"/>
            <a:stretch/>
          </p:blipFill>
          <p:spPr>
            <a:xfrm>
              <a:off x="1066680" y="1319040"/>
              <a:ext cx="75438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066680" y="821520"/>
              <a:ext cx="7543800" cy="323208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0024"/>
                  </a:solidFill>
                  <a:latin typeface="Arial"/>
                </a:rPr>
                <a:t>Арттерапия- метод коррекции и развития посредством художественного творчеств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Разделяют  две формы арттерапии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пассивная</a:t>
              </a:r>
              <a:r>
                <a:rPr b="0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ребенок «потребляет» художественные произведения, созданные другими: рассматривает картины, слушает книги, музык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активная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lnSpc>
                  <a:spcPct val="100000"/>
                </a:lnSpc>
                <a:buClr>
                  <a:srgbClr val="4218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21800"/>
                  </a:solidFill>
                  <a:latin typeface="Times New Roman"/>
                </a:rPr>
                <a:t>побуждение ребенка к созданию продуктов творчества: (рисунки,  сказки и историй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2895480" cy="213336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ectangle 12"/>
          <p:cNvGrpSpPr/>
          <p:nvPr/>
        </p:nvGrpSpPr>
        <p:grpSpPr>
          <a:xfrm>
            <a:off x="762120" y="1370520"/>
            <a:ext cx="7619760" cy="4574160"/>
            <a:chOff x="762120" y="1370520"/>
            <a:chExt cx="7619760" cy="4574160"/>
          </a:xfrm>
        </p:grpSpPr>
        <p:pic>
          <p:nvPicPr>
            <p:cNvPr id="96" name="Rectangle 12" descr=""/>
            <p:cNvPicPr/>
            <p:nvPr/>
          </p:nvPicPr>
          <p:blipFill>
            <a:blip r:embed="rId2"/>
            <a:stretch/>
          </p:blipFill>
          <p:spPr>
            <a:xfrm>
              <a:off x="762120" y="2865240"/>
              <a:ext cx="76197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62120" y="1370520"/>
              <a:ext cx="7619760" cy="4574160"/>
            </a:xfrm>
            <a:prstGeom prst="rect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зотерапия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– работа с рисунком и цветом: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библи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творческое чтение произведени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музы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через восприятие музы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маг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воздействие образом, театрализация;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сказ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посредством сказки, притчи, легенд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инези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танцевально-двигательная терапия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драма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разыгрывание какого либо сюжет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гровая 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основана на использовании ролевой иг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укл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основан на процессах идентификации ребенка с любимым героем мультфильма, сказки и с любимой игрушко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оррекционная ритмика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ид активной музыкальной терапии и кинезитерапии;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186640" y="60948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24"/>
                </a:solidFill>
                <a:latin typeface="Arial"/>
              </a:rPr>
              <a:t>Основные виды  арт-терапии</a:t>
            </a: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07" name="Oval 14" descr=""/>
            <p:cNvPicPr/>
            <p:nvPr/>
          </p:nvPicPr>
          <p:blipFill>
            <a:blip r:embed="rId3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3429000"/>
            <a:ext cx="75438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важную роль искусства   в работе с   проблемными  детьми указывали педагоги прошлого Э. Сеген, Ж. Демор,  отечественные психологи и врачи Л. С. Выготский, А. И. Граборов, В. П. Кащен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Коррекционный эфф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детей с различными проблемами в развитии отмечали: (Т.А.Добровольская, О.А.Карабано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эффективность при работе детьми с задержкой психического развития (Л.В.Кузнецова, Е.А.Медведе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при ДЦП (Г.В.Кузнецова) и др.</a:t>
            </a: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11" name="Oval 14" descr=""/>
            <p:cNvPicPr/>
            <p:nvPr/>
          </p:nvPicPr>
          <p:blipFill>
            <a:blip r:embed="rId4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914400" y="121932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Основываясь на гуманистическом подходе, арттерапия преследует единую цель - гармоническое развитие ребенка с проблемами, расширение возможностей его социальной адаптации посредством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18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858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Развитие мелкой моторики рук через арттерапию затрагивает все образовательные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боте с детьми с ТМНР, я делаю акцент на нетрадиционную  технику рисования, мы рисуем солью, крупой, пластилином, семенам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мках коррекционных мероприятий на занятиях мы используем музыкальную терапию и танцеваль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895840" cy="2504880"/>
          </a:xfrm>
          <a:prstGeom prst="rect">
            <a:avLst/>
          </a:prstGeom>
          <a:ln w="19080">
            <a:solidFill>
              <a:srgbClr val="6424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2"/>
          <p:cNvGrpSpPr/>
          <p:nvPr/>
        </p:nvGrpSpPr>
        <p:grpSpPr>
          <a:xfrm>
            <a:off x="990720" y="2075040"/>
            <a:ext cx="7619760" cy="1590480"/>
            <a:chOff x="990720" y="2075040"/>
            <a:chExt cx="7619760" cy="1590480"/>
          </a:xfrm>
        </p:grpSpPr>
        <p:pic>
          <p:nvPicPr>
            <p:cNvPr id="127" name="Rectangle 12" descr=""/>
            <p:cNvPicPr/>
            <p:nvPr/>
          </p:nvPicPr>
          <p:blipFill>
            <a:blip r:embed="rId2"/>
            <a:stretch/>
          </p:blipFill>
          <p:spPr>
            <a:xfrm>
              <a:off x="990720" y="2075040"/>
              <a:ext cx="761976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990720" y="2714760"/>
              <a:ext cx="7619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685800"/>
            <a:ext cx="76201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Перед началом занятий  мы моем руки и полотенцем растираем ребёнку ладошки и каждый пальчи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Для пальчиковой гимнастики используем массажные мячики, Су Джок и пальчиковый бассейн, где в процессе игры массируются пальцы, ладони, а  проговаривание стишков и потешек обогащает словарный запа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438280" cy="236232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2209680" cy="266688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733920" y="403848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37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670536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Изучая особенности развития мелкой моторики детей, есть основание утверждать, что наши предки, забавляя детишек играми в ладушки и в «сороку- белобоку», занимались вовсе не бессмысленным занятие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Поглаживания, похлопывания и разминание пальчиков, которые происходят во время этих забав, активизируют нервные 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на ладош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Развивающаяся тон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является своеобразным «двигателе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всех психических процессов</a:t>
            </a:r>
            <a:r>
              <a:rPr b="1" lang="ru-RU" sz="2200" spc="-1" strike="noStrike">
                <a:solidFill>
                  <a:srgbClr val="480024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528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Как отмечал </a:t>
            </a:r>
            <a:r>
              <a:rPr b="1" i="1" lang="en-US" sz="2000" spc="-1" strike="noStrike">
                <a:solidFill>
                  <a:srgbClr val="480024"/>
                </a:solidFill>
                <a:latin typeface="Arial"/>
              </a:rPr>
              <a:t>В.А. Сухомлинский</a:t>
            </a:r>
            <a:r>
              <a:rPr b="0" lang="en-US" sz="20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детский рисунок, процесс его создания это частица духовной жизн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7:31:54Z</dcterms:created>
  <dc:creator>Лана</dc:creator>
  <dc:description/>
  <dc:language>en-US</dc:language>
  <cp:lastModifiedBy>Лана</cp:lastModifiedBy>
  <dcterms:modified xsi:type="dcterms:W3CDTF">2017-12-26T15:11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