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358-C28B-4E3D-A243-6940CFD6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20B-C866-42BE-9415-EA8BE89E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4B5-E5EB-4711-8D46-6D533F86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DD5-A9BF-44F4-8804-A90B5C5B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BB57-3AD1-45A7-90BB-77E0A5A5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629-DE7C-4482-9227-C368FB59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80D-9D63-4E4F-9FCB-930A2172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826-59B1-4D78-8F11-BD0E69E0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F0B-0BB5-4DE5-9F82-03F7DC47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DF6-1AC8-49B8-A217-78BB3D63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AE9-C2B6-4A3C-926E-38682502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6638-7AD4-461C-B3E4-3B72D3B6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7AC-CAB1-42F3-91B1-08BA99959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05640" y="838080"/>
            <a:ext cx="725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"Развитие мелкой моторики средствами Арт- терапии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322280"/>
            <a:ext cx="754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80024"/>
                </a:solidFill>
                <a:latin typeface="Arial"/>
              </a:rPr>
              <a:t>Цел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овершенствование условий для развития мелкой моторики у детей с ОВЗ. посредством арттерап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480024"/>
                </a:solidFill>
                <a:latin typeface="Arial"/>
              </a:rPr>
              <a:t>Основные задачи</a:t>
            </a:r>
            <a:r>
              <a:rPr b="1" lang="ru-RU" sz="2000" spc="-1" strike="noStrike">
                <a:solidFill>
                  <a:srgbClr val="480024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Тренировать тонкие движения пальцев и кистей ру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Формирова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оздать условия для накопления ребёнком практического двигательного опыта, развития навыка ручной умел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Способствовать развитию творческих способ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038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Oval 14"/>
          <p:cNvGrpSpPr/>
          <p:nvPr/>
        </p:nvGrpSpPr>
        <p:grpSpPr>
          <a:xfrm>
            <a:off x="1295280" y="3886200"/>
            <a:ext cx="5333760" cy="2370960"/>
            <a:chOff x="1295280" y="3886200"/>
            <a:chExt cx="5333760" cy="2370960"/>
          </a:xfrm>
        </p:grpSpPr>
        <p:pic>
          <p:nvPicPr>
            <p:cNvPr id="48" name="Oval 14" descr=""/>
            <p:cNvPicPr/>
            <p:nvPr/>
          </p:nvPicPr>
          <p:blipFill>
            <a:blip r:embed="rId2"/>
            <a:stretch/>
          </p:blipFill>
          <p:spPr>
            <a:xfrm>
              <a:off x="1295280" y="3886200"/>
              <a:ext cx="53337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078280" y="4236120"/>
              <a:ext cx="376380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286000" y="46483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886200"/>
            <a:ext cx="46479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80024"/>
                </a:solidFill>
                <a:latin typeface="Arial"/>
              </a:rPr>
              <a:t>Методы и приемы работы: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массаж кистей рук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е игры со стих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нетрадиционное рисов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й бассей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480024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480024"/>
                </a:solidFill>
                <a:latin typeface="Arial"/>
                <a:ea typeface="Arial"/>
              </a:rPr>
              <a:t>пальчиковый теат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4"/>
          <p:cNvGrpSpPr/>
          <p:nvPr/>
        </p:nvGrpSpPr>
        <p:grpSpPr>
          <a:xfrm>
            <a:off x="4724280" y="762120"/>
            <a:ext cx="3505320" cy="1075680"/>
            <a:chOff x="4724280" y="762120"/>
            <a:chExt cx="3505320" cy="1075680"/>
          </a:xfrm>
        </p:grpSpPr>
        <p:pic>
          <p:nvPicPr>
            <p:cNvPr id="56" name="Oval 14" descr=""/>
            <p:cNvPicPr/>
            <p:nvPr/>
          </p:nvPicPr>
          <p:blipFill>
            <a:blip r:embed="rId2"/>
            <a:stretch/>
          </p:blipFill>
          <p:spPr>
            <a:xfrm>
              <a:off x="4724280" y="762120"/>
              <a:ext cx="3505320" cy="107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238720" y="920880"/>
              <a:ext cx="247320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Rectangle 12"/>
          <p:cNvGrpSpPr/>
          <p:nvPr/>
        </p:nvGrpSpPr>
        <p:grpSpPr>
          <a:xfrm>
            <a:off x="914400" y="2437560"/>
            <a:ext cx="7620120" cy="2439720"/>
            <a:chOff x="914400" y="2437560"/>
            <a:chExt cx="7620120" cy="2439720"/>
          </a:xfrm>
        </p:grpSpPr>
        <p:pic>
          <p:nvPicPr>
            <p:cNvPr id="59" name="Rectangle 12" descr=""/>
            <p:cNvPicPr/>
            <p:nvPr/>
          </p:nvPicPr>
          <p:blipFill>
            <a:blip r:embed="rId3"/>
            <a:stretch/>
          </p:blipFill>
          <p:spPr>
            <a:xfrm>
              <a:off x="914400" y="2536560"/>
              <a:ext cx="762012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914400" y="2437560"/>
              <a:ext cx="7620120" cy="243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Аристотель отмечал: занятие рисованием способствует разностороннему развитию ребен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Об этом писали выдающиеся педагоги Я.А. Коменский, И.Г.Песталоцци, Ф.В. Фрёбель"</a:t>
              </a:r>
              <a:r>
                <a:rPr b="0" i="1" lang="ru-RU" sz="2000" spc="-1" strike="noStrike">
                  <a:solidFill>
                    <a:srgbClr val="4824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Учеными доказано, что течение мыслей  и зрительное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восприятие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у детей,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пропорционально скорости движения рук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33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5"/>
          <p:cNvGrpSpPr/>
          <p:nvPr/>
        </p:nvGrpSpPr>
        <p:grpSpPr>
          <a:xfrm>
            <a:off x="5105520" y="915120"/>
            <a:ext cx="2971800" cy="792360"/>
            <a:chOff x="5105520" y="915120"/>
            <a:chExt cx="2971800" cy="792360"/>
          </a:xfrm>
        </p:grpSpPr>
        <p:pic>
          <p:nvPicPr>
            <p:cNvPr id="62" name="Rectangle 15" descr=""/>
            <p:cNvPicPr/>
            <p:nvPr/>
          </p:nvPicPr>
          <p:blipFill>
            <a:blip r:embed="rId4"/>
            <a:stretch/>
          </p:blipFill>
          <p:spPr>
            <a:xfrm>
              <a:off x="5108760" y="1036800"/>
              <a:ext cx="2968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05520" y="915120"/>
              <a:ext cx="29718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660033"/>
                  </a:solidFill>
                  <a:latin typeface="Arial"/>
                </a:rPr>
                <a:t>"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Ум ребенка находитс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на кончиках его пальцев</a:t>
              </a:r>
              <a:r>
                <a:rPr b="0" lang="ru-RU" sz="1600" spc="-1" strike="noStrike">
                  <a:solidFill>
                    <a:srgbClr val="660033"/>
                  </a:solidFill>
                  <a:latin typeface="Arial"/>
                </a:rPr>
                <a:t>".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i="1" lang="ru-RU" sz="1600" spc="-1" strike="noStrike">
                  <a:solidFill>
                    <a:srgbClr val="660033"/>
                  </a:solidFill>
                  <a:latin typeface="Arial"/>
                </a:rPr>
                <a:t>В.А.Сухомлинский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16" descr=""/>
          <p:cNvPicPr/>
          <p:nvPr/>
        </p:nvPicPr>
        <p:blipFill>
          <a:blip r:embed="rId5">
            <a:lum contrast="-30000"/>
          </a:blip>
          <a:stretch/>
        </p:blipFill>
        <p:spPr>
          <a:xfrm>
            <a:off x="3276720" y="4419720"/>
            <a:ext cx="2590560" cy="1676160"/>
          </a:xfrm>
          <a:prstGeom prst="rect">
            <a:avLst/>
          </a:prstGeom>
          <a:ln w="12600">
            <a:solidFill>
              <a:srgbClr val="660033"/>
            </a:solidFill>
            <a:miter/>
          </a:ln>
        </p:spPr>
      </p:pic>
      <p:grpSp>
        <p:nvGrpSpPr>
          <p:cNvPr id="65" name="Oval 14"/>
          <p:cNvGrpSpPr/>
          <p:nvPr/>
        </p:nvGrpSpPr>
        <p:grpSpPr>
          <a:xfrm>
            <a:off x="914400" y="762120"/>
            <a:ext cx="3429000" cy="1000080"/>
            <a:chOff x="914400" y="762120"/>
            <a:chExt cx="3429000" cy="1000080"/>
          </a:xfrm>
        </p:grpSpPr>
        <p:pic>
          <p:nvPicPr>
            <p:cNvPr id="66" name="Oval 14" descr=""/>
            <p:cNvPicPr/>
            <p:nvPr/>
          </p:nvPicPr>
          <p:blipFill>
            <a:blip r:embed="rId6"/>
            <a:stretch/>
          </p:blipFill>
          <p:spPr>
            <a:xfrm>
              <a:off x="914400" y="762120"/>
              <a:ext cx="3429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417680" y="909720"/>
              <a:ext cx="24195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1600" y="91440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"Рука – своего р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внешний мозг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660033"/>
                </a:solidFill>
                <a:latin typeface="Arial"/>
              </a:rPr>
              <a:t>И.К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12"/>
          <p:cNvGrpSpPr/>
          <p:nvPr/>
        </p:nvGrpSpPr>
        <p:grpSpPr>
          <a:xfrm>
            <a:off x="1219320" y="685800"/>
            <a:ext cx="6705360" cy="2244600"/>
            <a:chOff x="1219320" y="685800"/>
            <a:chExt cx="6705360" cy="2244600"/>
          </a:xfrm>
        </p:grpSpPr>
        <p:pic>
          <p:nvPicPr>
            <p:cNvPr id="73" name="Rectangle 12" descr=""/>
            <p:cNvPicPr/>
            <p:nvPr/>
          </p:nvPicPr>
          <p:blipFill>
            <a:blip r:embed="rId2"/>
            <a:stretch/>
          </p:blipFill>
          <p:spPr>
            <a:xfrm>
              <a:off x="1219320" y="685800"/>
              <a:ext cx="67053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19320" y="938160"/>
              <a:ext cx="6705360" cy="17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    </a:t>
              </a:r>
              <a:r>
                <a:rPr b="0" lang="ru-RU" sz="1800" spc="-1" strike="noStrike">
                  <a:solidFill>
                    <a:srgbClr val="482400"/>
                  </a:solidFill>
                  <a:latin typeface="Arial"/>
                </a:rPr>
                <a:t>У многих детей с  умственной отсталостью наблюдается эмоциональный отклик на нетрадиционные способы рисования: пальчиковая живопись,  рисование солью,  пластилином,  крупой  и на круп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663300"/>
                  </a:solidFill>
                  <a:latin typeface="Arial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Rectangle 15"/>
          <p:cNvGrpSpPr/>
          <p:nvPr/>
        </p:nvGrpSpPr>
        <p:grpSpPr>
          <a:xfrm>
            <a:off x="5105520" y="1036800"/>
            <a:ext cx="2971800" cy="549000"/>
            <a:chOff x="5105520" y="1036800"/>
            <a:chExt cx="2971800" cy="549000"/>
          </a:xfrm>
        </p:grpSpPr>
        <p:pic>
          <p:nvPicPr>
            <p:cNvPr id="76" name="Rectangle 15" descr=""/>
            <p:cNvPicPr/>
            <p:nvPr/>
          </p:nvPicPr>
          <p:blipFill>
            <a:blip r:embed="rId3"/>
            <a:stretch/>
          </p:blipFill>
          <p:spPr>
            <a:xfrm>
              <a:off x="5108760" y="1036800"/>
              <a:ext cx="296820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05520" y="1189080"/>
              <a:ext cx="29718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990720" y="2362320"/>
            <a:ext cx="2286000" cy="1676160"/>
          </a:xfrm>
          <a:prstGeom prst="rect">
            <a:avLst/>
          </a:prstGeom>
          <a:ln w="25560">
            <a:solidFill>
              <a:srgbClr val="480024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943600" y="2362320"/>
            <a:ext cx="2133720" cy="1600200"/>
          </a:xfrm>
          <a:prstGeom prst="rect">
            <a:avLst/>
          </a:prstGeom>
          <a:ln w="25560">
            <a:solidFill>
              <a:srgbClr val="480024"/>
            </a:solidFill>
            <a:miter/>
          </a:ln>
        </p:spPr>
      </p:pic>
      <p:grpSp>
        <p:nvGrpSpPr>
          <p:cNvPr id="80" name="Oval 14"/>
          <p:cNvGrpSpPr/>
          <p:nvPr/>
        </p:nvGrpSpPr>
        <p:grpSpPr>
          <a:xfrm>
            <a:off x="990720" y="4267080"/>
            <a:ext cx="5333400" cy="1914120"/>
            <a:chOff x="990720" y="4267080"/>
            <a:chExt cx="5333400" cy="1914120"/>
          </a:xfrm>
        </p:grpSpPr>
        <p:pic>
          <p:nvPicPr>
            <p:cNvPr id="81" name="Oval 14" descr=""/>
            <p:cNvPicPr/>
            <p:nvPr/>
          </p:nvPicPr>
          <p:blipFill>
            <a:blip r:embed="rId6"/>
            <a:stretch/>
          </p:blipFill>
          <p:spPr>
            <a:xfrm>
              <a:off x="990720" y="4267080"/>
              <a:ext cx="5333400" cy="19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773720" y="4549320"/>
              <a:ext cx="3763440" cy="13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600200" y="4572000"/>
            <a:ext cx="4114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80024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480024"/>
                </a:solidFill>
                <a:latin typeface="Arial"/>
              </a:rPr>
              <a:t>Художественная деятельность способствует развитию чувств, учит детей  обследовать предмет, развивает наблюда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80024"/>
                </a:solidFill>
                <a:latin typeface="Arial"/>
              </a:rPr>
              <a:t>Я. 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2133360" cy="1638360"/>
          </a:xfrm>
          <a:prstGeom prst="rect">
            <a:avLst/>
          </a:prstGeom>
          <a:ln w="25560">
            <a:solidFill>
              <a:srgbClr val="6424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Rectangle 12"/>
          <p:cNvGrpSpPr/>
          <p:nvPr/>
        </p:nvGrpSpPr>
        <p:grpSpPr>
          <a:xfrm>
            <a:off x="1066680" y="821520"/>
            <a:ext cx="7543800" cy="3232080"/>
            <a:chOff x="1066680" y="821520"/>
            <a:chExt cx="7543800" cy="3232080"/>
          </a:xfrm>
        </p:grpSpPr>
        <p:pic>
          <p:nvPicPr>
            <p:cNvPr id="89" name="Rectangle 12" descr=""/>
            <p:cNvPicPr/>
            <p:nvPr/>
          </p:nvPicPr>
          <p:blipFill>
            <a:blip r:embed="rId2"/>
            <a:stretch/>
          </p:blipFill>
          <p:spPr>
            <a:xfrm>
              <a:off x="1066680" y="1319040"/>
              <a:ext cx="75438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066680" y="821520"/>
              <a:ext cx="7543800" cy="3232080"/>
            </a:xfrm>
            <a:prstGeom prst="rect">
              <a:avLst/>
            </a:prstGeom>
            <a:solidFill>
              <a:srgbClr val="ffffff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0024"/>
                  </a:solidFill>
                  <a:latin typeface="Arial"/>
                </a:rPr>
                <a:t>Арттерапия- метод коррекции и развития посредством художественного творчеств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Разделяют  две формы арттерапии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пассивная</a:t>
              </a:r>
              <a:r>
                <a:rPr b="0" lang="ru-RU" sz="2000" spc="-1" strike="noStrike">
                  <a:solidFill>
                    <a:srgbClr val="480024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ребенок «потребляет» художественные произведения, созданные другими: рассматривает картины, слушает книги, музыку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 </a:t>
              </a:r>
              <a:r>
                <a:rPr b="1" i="1" lang="ru-RU" sz="2000" spc="-1" strike="noStrike">
                  <a:solidFill>
                    <a:srgbClr val="480024"/>
                  </a:solidFill>
                  <a:latin typeface="Arial"/>
                </a:rPr>
                <a:t>активная</a:t>
              </a: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lnSpc>
                  <a:spcPct val="100000"/>
                </a:lnSpc>
                <a:buClr>
                  <a:srgbClr val="4218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421800"/>
                  </a:solidFill>
                  <a:latin typeface="Times New Roman"/>
                </a:rPr>
                <a:t>побуждение ребенка к созданию продуктов творчества: (рисунки,  сказки и историй и т.д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971800" y="4191120"/>
            <a:ext cx="2895480" cy="213336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ectangle 12"/>
          <p:cNvGrpSpPr/>
          <p:nvPr/>
        </p:nvGrpSpPr>
        <p:grpSpPr>
          <a:xfrm>
            <a:off x="762120" y="1370520"/>
            <a:ext cx="7619760" cy="4574160"/>
            <a:chOff x="762120" y="1370520"/>
            <a:chExt cx="7619760" cy="4574160"/>
          </a:xfrm>
        </p:grpSpPr>
        <p:pic>
          <p:nvPicPr>
            <p:cNvPr id="96" name="Rectangle 12" descr=""/>
            <p:cNvPicPr/>
            <p:nvPr/>
          </p:nvPicPr>
          <p:blipFill>
            <a:blip r:embed="rId2"/>
            <a:stretch/>
          </p:blipFill>
          <p:spPr>
            <a:xfrm>
              <a:off x="762120" y="2865240"/>
              <a:ext cx="7619760" cy="159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762120" y="1370520"/>
              <a:ext cx="7619760" cy="4574160"/>
            </a:xfrm>
            <a:prstGeom prst="rect">
              <a:avLst/>
            </a:prstGeom>
            <a:solidFill>
              <a:srgbClr val="ffffff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зотерапия 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– работа с рисунком и цветом: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библи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творческое чтение произведени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музык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оздействие через восприятие музыки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маго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воздействие образом, театрализация;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сказко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оздействие посредством сказки, притчи, легенды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инези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танцевально-двигательная терапия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драма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разыгрывание какого либо сюжета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игровая терапия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основана на использовании ролевой игры;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уклотерапия 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- основан на процессах идентификации ребенка с любимым героем мультфильма, сказки и с любимой игрушко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>
                <a:buClr>
                  <a:srgbClr val="4824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82400"/>
                  </a:solidFill>
                  <a:latin typeface="Arial"/>
                </a:rPr>
                <a:t>коррекционная ритмика</a:t>
              </a:r>
              <a:r>
                <a:rPr b="0" lang="ru-RU" sz="2000" spc="-1" strike="noStrike">
                  <a:solidFill>
                    <a:srgbClr val="482400"/>
                  </a:solidFill>
                  <a:latin typeface="Arial"/>
                </a:rPr>
                <a:t> - вид активной музыкальной терапии и кинезитерапии;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186640" y="60948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80024"/>
                </a:solidFill>
                <a:latin typeface="Arial"/>
              </a:rPr>
              <a:t>Основные виды  арт-терапии</a:t>
            </a: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03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val 14"/>
          <p:cNvGrpSpPr/>
          <p:nvPr/>
        </p:nvGrpSpPr>
        <p:grpSpPr>
          <a:xfrm>
            <a:off x="457200" y="685800"/>
            <a:ext cx="7848360" cy="2370960"/>
            <a:chOff x="457200" y="685800"/>
            <a:chExt cx="7848360" cy="2370960"/>
          </a:xfrm>
        </p:grpSpPr>
        <p:pic>
          <p:nvPicPr>
            <p:cNvPr id="107" name="Oval 14" descr=""/>
            <p:cNvPicPr/>
            <p:nvPr/>
          </p:nvPicPr>
          <p:blipFill>
            <a:blip r:embed="rId3"/>
            <a:stretch/>
          </p:blipFill>
          <p:spPr>
            <a:xfrm>
              <a:off x="457200" y="685800"/>
              <a:ext cx="78483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609560" y="1035720"/>
              <a:ext cx="553788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09480" y="3429000"/>
            <a:ext cx="75438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На важную роль искусства   в работе с   проблемными  детьми указывали педагоги прошлого Э. Сеген, Ж. Демор,  отечественные психологи и врачи Л. С. Выготский, А. И. Граборов, В. П. Кащен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Коррекционный эфф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детей с различными проблемами в развитии отмечали: (Т.А.Добровольская, О.А.Карабано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На эффективность при работе детьми с задержкой психического развития (Л.В.Кузнецова, Е.А.Медведев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42400"/>
                </a:solidFill>
                <a:latin typeface="Arial"/>
              </a:rPr>
              <a:t>при ДЦП (Г.В.Кузнецова) и др.</a:t>
            </a:r>
            <a:r>
              <a:rPr b="0" lang="ru-RU" sz="2000" spc="-1" strike="noStrike">
                <a:solidFill>
                  <a:srgbClr val="48002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4"/>
          <p:cNvGrpSpPr/>
          <p:nvPr/>
        </p:nvGrpSpPr>
        <p:grpSpPr>
          <a:xfrm>
            <a:off x="457200" y="685800"/>
            <a:ext cx="7848360" cy="2370960"/>
            <a:chOff x="457200" y="685800"/>
            <a:chExt cx="7848360" cy="2370960"/>
          </a:xfrm>
        </p:grpSpPr>
        <p:pic>
          <p:nvPicPr>
            <p:cNvPr id="111" name="Oval 14" descr=""/>
            <p:cNvPicPr/>
            <p:nvPr/>
          </p:nvPicPr>
          <p:blipFill>
            <a:blip r:embed="rId4"/>
            <a:stretch/>
          </p:blipFill>
          <p:spPr>
            <a:xfrm>
              <a:off x="457200" y="685800"/>
              <a:ext cx="7848360" cy="23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609560" y="1035720"/>
              <a:ext cx="553788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914400" y="121932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0024"/>
                </a:solidFill>
                <a:latin typeface="Arial"/>
              </a:rPr>
              <a:t>Основываясь на гуманистическом подходе, арттерапия преследует единую цель - гармоническое развитие ребенка с проблемами, расширение возможностей его социальной адаптации посредством искус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18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858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Развитие мелкой моторики рук через арттерапию затрагивает все образовательные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В работе с детьми с ТМНР, я делаю акцент на нетрадиционную  технику рисования, мы рисуем солью, крупой, пластилином, семенам и т.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0024"/>
                </a:solidFill>
                <a:latin typeface="Arial"/>
              </a:rPr>
              <a:t>В рамках коррекционных мероприятий на занятиях мы используем музыкальную терапию и танцевальную терап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23880" y="3733920"/>
            <a:ext cx="2895840" cy="2504880"/>
          </a:xfrm>
          <a:prstGeom prst="rect">
            <a:avLst/>
          </a:prstGeom>
          <a:ln w="19080">
            <a:solidFill>
              <a:srgbClr val="6424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Rectangle 12"/>
          <p:cNvGrpSpPr/>
          <p:nvPr/>
        </p:nvGrpSpPr>
        <p:grpSpPr>
          <a:xfrm>
            <a:off x="990720" y="2075040"/>
            <a:ext cx="7619760" cy="1590480"/>
            <a:chOff x="990720" y="2075040"/>
            <a:chExt cx="7619760" cy="1590480"/>
          </a:xfrm>
        </p:grpSpPr>
        <p:pic>
          <p:nvPicPr>
            <p:cNvPr id="127" name="Rectangle 12" descr=""/>
            <p:cNvPicPr/>
            <p:nvPr/>
          </p:nvPicPr>
          <p:blipFill>
            <a:blip r:embed="rId2"/>
            <a:stretch/>
          </p:blipFill>
          <p:spPr>
            <a:xfrm>
              <a:off x="990720" y="2075040"/>
              <a:ext cx="761976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990720" y="2714760"/>
              <a:ext cx="7619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066680" y="685800"/>
            <a:ext cx="76201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80024"/>
                </a:solidFill>
                <a:latin typeface="Arial"/>
              </a:rPr>
              <a:t>Перед началом занятий  мы моем руки и полотенцем растираем ребёнку ладошки и каждый пальчи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80024"/>
                </a:solidFill>
                <a:latin typeface="Arial"/>
              </a:rPr>
              <a:t>Для пальчиковой гимнастики используем массажные мячики, Су Джок и пальчиковый бассейн, где в процессе игры массируются пальцы, ладони, а  проговаривание стишков и потешек обогащает словарный запас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143000" y="3429000"/>
            <a:ext cx="2438280" cy="236232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00800" y="3429000"/>
            <a:ext cx="2209680" cy="2666880"/>
          </a:xfrm>
          <a:prstGeom prst="rect">
            <a:avLst/>
          </a:prstGeom>
          <a:ln w="19080">
            <a:solidFill>
              <a:srgbClr val="480024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733920" y="4038480"/>
            <a:ext cx="2438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>
            <a:alphaModFix amt="74000"/>
          </a:blip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1464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12"/>
          <p:cNvGrpSpPr/>
          <p:nvPr/>
        </p:nvGrpSpPr>
        <p:grpSpPr>
          <a:xfrm>
            <a:off x="914400" y="1447920"/>
            <a:ext cx="7620120" cy="1590480"/>
            <a:chOff x="914400" y="1447920"/>
            <a:chExt cx="7620120" cy="1590480"/>
          </a:xfrm>
        </p:grpSpPr>
        <p:pic>
          <p:nvPicPr>
            <p:cNvPr id="137" name="Rectangle 12" descr=""/>
            <p:cNvPicPr/>
            <p:nvPr/>
          </p:nvPicPr>
          <p:blipFill>
            <a:blip r:embed="rId2"/>
            <a:stretch/>
          </p:blipFill>
          <p:spPr>
            <a:xfrm>
              <a:off x="914400" y="1447920"/>
              <a:ext cx="762012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914400" y="2087640"/>
              <a:ext cx="7620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92160">
                <a:buClr>
                  <a:srgbClr val="6633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876240" y="838080"/>
            <a:ext cx="659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685800"/>
            <a:ext cx="670536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Изучая особенности развития мелкой моторики детей, есть основание утверждать, что наши предки, забавляя детишек играми в ладушки и в «сороку- белобоку», занимались вовсе не бессмысленным занятие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Поглаживания, похлопывания и разминание пальчиков, которые происходят во время этих забав, активизируют нервные оконч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на ладош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Развивающаяся тонкая мотори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является своеобразным «двигателем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всех психических процессов</a:t>
            </a:r>
            <a:r>
              <a:rPr b="1" lang="ru-RU" sz="2200" spc="-1" strike="noStrike">
                <a:solidFill>
                  <a:srgbClr val="480024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952880"/>
            <a:ext cx="56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0024"/>
                </a:solidFill>
                <a:latin typeface="Arial"/>
              </a:rPr>
              <a:t>Как отмечал </a:t>
            </a:r>
            <a:r>
              <a:rPr b="1" i="1" lang="en-US" sz="2000" spc="-1" strike="noStrike">
                <a:solidFill>
                  <a:srgbClr val="480024"/>
                </a:solidFill>
                <a:latin typeface="Arial"/>
              </a:rPr>
              <a:t>В.А. Сухомлинский</a:t>
            </a:r>
            <a:r>
              <a:rPr b="0" lang="en-US" sz="2000" spc="-1" strike="noStrike">
                <a:solidFill>
                  <a:srgbClr val="48002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80024"/>
                </a:solidFill>
                <a:latin typeface="Arial"/>
              </a:rPr>
              <a:t>детский рисунок, процесс его создания это частица духовной жизн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7:31:54Z</dcterms:created>
  <dc:creator>Лана</dc:creator>
  <dc:description/>
  <dc:language>en-US</dc:language>
  <cp:lastModifiedBy>Лана</cp:lastModifiedBy>
  <dcterms:modified xsi:type="dcterms:W3CDTF">2017-12-26T15:11:3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