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8.png" ContentType="image/png"/>
  <Override PartName="/ppt/media/image27.png" ContentType="image/png"/>
  <Override PartName="/ppt/media/image5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8FEB-5B06-40C5-BD07-B4370715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ECE-A3E1-4323-9C07-1D840C5A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CA091-E1F7-46B3-8687-101F2F17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7C1C7-619B-4A8E-A5C1-01989BF4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9F1AF-1FBB-49DA-8942-37DD53D4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E2BF3-744B-4A93-AD0D-926A3033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41E6A-187F-47E2-A673-2AE63653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C7AC9-B1B7-433D-BD67-91B339F5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F964B-CF7C-46B8-A09F-83D495F4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9EC95-DB35-4824-8E24-F9B3388A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69727-1F37-40DE-845E-EF7C931C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40F6E-1D25-4E4E-A8C0-C862C00D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A9F-C15E-4A74-838A-53613F9F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A4499-98F6-41DF-A0CF-1853135E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E957D-9B48-4428-BCB1-5446BFB1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3CB71-FBE0-4399-8FE4-468E45DB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3B861-F895-4662-B1E4-AB2400FF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BF2B0-4B65-4214-80B2-E02B4D34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9CEC5-2CC5-4729-B05E-061FEB8B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DF909-25C0-4967-A1F7-D382E8EE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10355-BCCD-4F80-AB8D-4F9BF7C8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E8DCA-2A84-4363-942C-793C5DCA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A69BC-4685-4C89-BE6D-3EE8ECA2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008B-A863-499B-B40B-D85C380A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53A9B-AB16-48D9-B5CF-AB7F6626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6113E-E9E0-417F-8F68-88A78773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6D379-E7EB-4EEC-ADCA-1C45401C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79223-8A45-4FB9-9A5B-E19B4A65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7BF7E-0E38-408B-AEBA-AA0892E6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F676F-B465-4005-BB46-FF5E93E8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03F7C-FAED-4E29-8B24-218A8008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DA5EA-40C7-4798-A04D-014CFCB9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013EE-A540-41E2-A040-14781B45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36EF1-D1D7-4D6E-B75F-7D2A6521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2F34-384F-48AE-965C-FDE15118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30DBE-12F3-4B33-BB59-15F0E5A3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BB5B6-CE92-43CC-90DD-242C4AD9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FBBD9-49A4-4A7F-AABC-84E59167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5C161-44BF-4F2F-ADC1-3BBED75F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811AB-8009-4850-9A40-A5264F16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EAF79-5F12-48FE-AF6F-4B581510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CA220-77BB-40B2-B692-D32D1C32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CB782-2F50-439B-A898-B1914740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31DAE-2BDC-4292-BBC0-516763E8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35443-1176-4326-BADF-26512E80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CBD1-2C22-45BA-B46A-F2EB2E4E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2E381-DE7E-4CA3-90D1-C0B87E8D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C6F3C-E0A0-4C93-999D-AB4EAC56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C41B2-80F4-4EDF-85B7-CDE36A32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11772-92A7-42EE-A2E8-629B6965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2EADB-6DCB-4E64-BAC4-1C3BDE49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081832-739F-4241-8531-D776B71F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976D3-2C40-42F9-AB71-5432B483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E4ED7-AD70-4761-BD6F-567DA7B6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55CDE-D2CF-43BE-A8E6-FF21B94D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8177F-3D09-4CA6-96EB-7F06445F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17BC-97CC-404E-8448-092DCC53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63B37-BF7E-4549-81CD-0DA80FEC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B19EF6-9DA8-4D93-9CDA-4DFDDFBB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85F227-AA82-4CBA-9484-E9853AAC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F64AD-6FCF-41CF-935D-FC04EB61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A1778E-D7D4-432F-BDE5-D0B2DAFB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AF1D1-4C48-4100-8676-28890C63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EC32E-E5D3-455E-B770-8408E8F8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63D8A3-EF76-4D17-9A57-6C8F9434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7319A-4573-4EF6-9426-7CBBE74B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53D5FA-C643-4277-9D23-C7A64101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ECF5-93A7-4EFB-986D-EC07DBC3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B10F4-802E-4801-A150-31E49B2A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ACB2A-4D8F-4450-B88F-65AD3A14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E6B93C-874C-4ACE-A43B-CCAEDD73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A358E-A14A-42EA-B127-DDF056B7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B364BE-5170-49F3-A37B-5D3EC2CA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5F11E8-7E63-4C51-8E3C-544377D8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470737-9EF6-4485-8E95-C3D77FAA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5FFE38-42A7-4B6A-A70C-909891B8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282604-8D95-4EDF-A3D1-FB6CEF7C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1DD1DE-738C-46A9-8825-6AC81E6B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1167-CB46-48ED-9FC9-BFABFFF1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D322A5-3708-4455-95D1-965BF2DE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662D8C-FF50-486C-930B-46C920AD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8E4C39-D3AD-4C7C-ABE3-07EA6253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E1AF37-DC7E-4E13-B9FF-DB259368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41B0AD-8914-43AF-AC7D-96FDFFB2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C032B4-7111-4D5B-B448-36D0F1AD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6184D3-BBE0-43D8-91A1-EA809F86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4948EE-96C5-4FCA-8029-D0C907C9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0B777A-D91D-4022-845B-1869DE8F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2D9CB3-535B-426C-A5A1-9BA096E2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A899-3590-44FA-9263-5236F8EB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028D1D-447C-4A3E-B476-08705E85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BDB23E-459D-4FC3-AF83-D484D80B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6A7291-8C48-44DE-B6E8-EC8A34B2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22B0E3-B476-439E-9222-25F15744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F29B89-CBB9-43D1-9C81-CB252B91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91A10B-9565-4BFD-AC28-67A8A17D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838907-7BE0-4BE4-878C-C3389839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E69013-E022-4079-AB24-E9CE14BC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9D3235-2FE9-434A-8C65-DCDFBB88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E1A119-56D1-4F93-A113-50F2480A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3DB5-8559-4C44-AFE5-00BB9EDF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9F3B53-B46F-4AAA-A067-6D7C960E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25B645-1763-4C70-989F-A96A4A9D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5F9683-2373-4EBC-A63B-8800BDD5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7E97-7FA4-4EE7-B253-3989029E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70D0-F99C-42AB-9801-BA06DFED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5971-8691-462A-9D46-F2E20633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9FE7-24AE-4C8A-AF28-013AA8FE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AF4D-88B6-4D6B-B377-6F277ABF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DFD0-4885-41C6-AD0F-AE4FE643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CECB0-A794-4B88-B96A-7F943B83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B4753-8DC9-4803-9975-0B7E1773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0DDE6-7C51-41B5-8793-C2164550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B31DB-D924-47BE-A2FE-A3598399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D3FCF-A359-4CD9-83B2-67521E3E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2419-004E-4B18-8C53-2F38EDD2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C6DE9-2F2D-42CE-8FDD-280314EB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DA03B-A8DF-4C32-8522-DD94C366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31B8C-AC64-49D2-858A-3AF0DB60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10079-D2C9-477C-8B89-4C32D7DA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73CD2-0A08-4224-834B-FA45CBAA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7965F-50A9-44DD-A868-C02F670F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B9285-86A9-4295-BC9B-E81B745C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3DAB6-98AA-415B-A373-95D478D2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CCF23-4010-4E33-B398-16BAAE65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24F95-278A-483F-88B2-348DDE23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9EBA-2B78-4ED4-9678-951E1BC3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E8CF1-58A7-44DA-9EF5-DDDE4047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30243-CBF9-480F-B2B9-B35607BD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888C3-F684-4F8E-9137-34329814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6DA2E-741F-406E-9A55-91458661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27293-9C84-415C-804A-45ED7D78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39107-B364-4C2D-9398-A0E016BE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02E6C-2F57-4946-B6E7-D28D959C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E555A-D310-43AB-B587-7F6CF9B2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B1C2B-1748-49C5-B533-530C8DCC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0FBF9-896C-4CE2-935B-AB9DEC55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F31B-5E7C-4C12-B9DC-DD155A75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08C9F-0512-4996-8B0B-C4881CA0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F7B59-AF4F-4F09-9607-400D24A6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D5FC2-661A-4858-ADB2-A8368A9F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CF71B-703F-4A5B-A198-DA8CC243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5E433-175D-43E2-A9DF-DE71EE58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9C2EC-FCFD-403C-8FFE-989F6781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05EA4-AEF0-44F0-8D0B-4B88F9E9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9C3C5-388B-4CB1-9665-850CE8C1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3BD07-5730-44A5-A5E7-EFC7A5CE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1C0AB-E562-4ED5-AFC2-9503E73D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440F-3B7A-4F23-BE90-0800F7F6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B6BA6-C67B-4D35-8E1F-504C3EAA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BA381-B90E-4688-92EA-D3F55290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1E8AF-B531-4953-B881-76C69F91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10593-F197-49CE-B7F7-DCBFBFB2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82101-B3AB-4887-B8C0-808C67FE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F3C8B-7969-4FC4-8C18-CB866DE7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A3966-F7F9-4B5A-8CC2-F541543F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A14CD-8312-40BF-85B6-E3237A82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917ED-3EAA-412A-999C-071017D2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5D568-37A8-4693-BB4C-5DB126EC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783-D29B-49D2-A37D-58CF3E5C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C75EE-4566-496C-AD56-4BC44CD7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B72B5-9483-4624-AAC2-104D88F0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E7664-E754-45BA-B2D5-9B5D01EC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E0551-329A-4599-A14C-D26F52F8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52B07-ECDC-4995-A294-9B6E5D25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F642A-C00B-4672-89BA-8F8644D6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D627A-3E5A-41AD-A703-24162582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31A19-9766-4258-A15B-50BC26B8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39F13-B03A-41B9-BF4E-8BFDF95F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6AC85-C7F6-42DA-AE90-4B4CB861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F97-A2DB-4206-B1B8-8511B5DC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CCAC2-6969-4864-B856-78DEF294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8D816-E92D-482B-999D-CECB2D6B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35EA7-A062-4B77-9D73-BDA42B34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A6D4A-EF74-4165-975E-22AC4D4C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9977B-1569-4795-B9F5-119EA490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75EE0-48FC-41A2-B358-3DB0299C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C19A7-1818-4DEB-B7DE-408B3497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246CC-456A-4DDC-8E10-9D5E8019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0F15C-F92E-44BF-BA84-2A9DA0E5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BA4CA-F6D8-430F-B2AA-2D4269D5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B94-6168-4034-81F5-A7C08885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93AA4-9EF3-4235-9941-D8711FA9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D2873-9AC2-4C6A-BDC7-5592FB90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BA576-8F35-47F0-B827-88A6E6A9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037F9-36D1-464D-8E68-6FB39B46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6A2C8-423E-45BC-A774-A4AC7732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CF445-A363-43A7-9119-4776C007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FDF1A-AA01-488C-A75A-27B92304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09EA1-9654-4F7A-9728-5E1E7E77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7CFA0-363B-4815-9D60-1293A939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ECDF1-D6F8-4E48-9170-8ECD4916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B9AF-A9B4-49F3-B375-1FA677E0A31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19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42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8414-FCE0-49DC-AC8A-7495E6776AA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6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7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06B5-4BB9-4E1A-95B1-D07265445F0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1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54C8-718E-427B-9339-188BD74C32F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B94F-B46D-4C67-A1C8-733DF883BF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0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3FF5-7C14-4D5C-9823-BC49E02B31F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753C-D6EC-4B8A-8839-8BC660A7925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9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9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9940-2FB8-425E-88D4-6FE2E9CE0B9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E512-4BE5-4BAA-8225-14EC3644A13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6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9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3225-3146-411A-B237-2664707689D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9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DD16-A70C-4363-8502-A9CECBE193B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E589-0653-49CC-9FC8-94178E6B031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7583-5385-45D4-B250-8FD23C5F98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139D-258F-492A-B864-4CC8263E12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E372-948B-4634-ACD9-FEFF863928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1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4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3D10-F9ED-4EE1-AD95-C3E083AA090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1600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65160"/>
                </a:solidFill>
                <a:latin typeface="Lucida Sans Unicode"/>
              </a:rPr>
              <a:t>1. Что такое трансформатор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65160"/>
                </a:solidFill>
                <a:latin typeface="Lucida Sans Unicode"/>
              </a:rPr>
              <a:t>2. Из каких основных частей состоит трансформатор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65160"/>
                </a:solidFill>
                <a:latin typeface="Lucida Sans Unicode"/>
              </a:rPr>
              <a:t>3. На каком роде тока работает трансформатор, и по чему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65160"/>
                </a:solidFill>
                <a:latin typeface="Lucida Sans Unicode"/>
              </a:rPr>
              <a:t>4. Для чего применяют трансформатор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65160"/>
                </a:solidFill>
                <a:latin typeface="Lucida Sans Unicode"/>
              </a:rPr>
              <a:t>5. Всегда ли вам удобно пользоваться переменным напряжением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41" name="Заголовок 2" descr=""/>
          <p:cNvPicPr/>
          <p:nvPr/>
        </p:nvPicPr>
        <p:blipFill>
          <a:blip r:embed="rId1"/>
          <a:stretch/>
        </p:blipFill>
        <p:spPr>
          <a:xfrm>
            <a:off x="139680" y="0"/>
            <a:ext cx="84740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4" descr="Ris9"/>
          <p:cNvPicPr/>
          <p:nvPr/>
        </p:nvPicPr>
        <p:blipFill>
          <a:blip r:embed="rId1"/>
          <a:srcRect l="0" t="0" r="0" b="5575"/>
          <a:stretch/>
        </p:blipFill>
        <p:spPr>
          <a:xfrm>
            <a:off x="960480" y="550800"/>
            <a:ext cx="6811920" cy="6307200"/>
          </a:xfrm>
          <a:prstGeom prst="rect">
            <a:avLst/>
          </a:prstGeom>
          <a:ln w="0">
            <a:noFill/>
          </a:ln>
        </p:spPr>
      </p:pic>
      <p:pic>
        <p:nvPicPr>
          <p:cNvPr id="763" name="Rectangl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Заголовок 2" descr="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12430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3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5424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Заголовок 2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16146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2" descr=""/>
          <p:cNvPicPr/>
          <p:nvPr/>
        </p:nvPicPr>
        <p:blipFill>
          <a:blip r:embed="rId2"/>
          <a:stretch/>
        </p:blipFill>
        <p:spPr>
          <a:xfrm>
            <a:off x="3124080" y="1455840"/>
            <a:ext cx="541044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0" y="13716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уменьшения пульсаций называется сглаживанием пульсаций и осуществляется сглаживающими фильтрами. Выпрямителем часто называют весь комплекс, в который входят как собственно выпрямитель, так и сглаживающий фильтр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69" name="Rectangle 2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20024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" descr=""/>
          <p:cNvPicPr/>
          <p:nvPr/>
        </p:nvPicPr>
        <p:blipFill>
          <a:blip r:embed="rId2"/>
          <a:stretch/>
        </p:blipFill>
        <p:spPr>
          <a:xfrm>
            <a:off x="5334120" y="1447920"/>
            <a:ext cx="3422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668080" cy="118908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5" descr="pow2_15odno"/>
          <p:cNvPicPr/>
          <p:nvPr/>
        </p:nvPicPr>
        <p:blipFill>
          <a:blip r:embed="rId2"/>
          <a:stretch/>
        </p:blipFill>
        <p:spPr>
          <a:xfrm>
            <a:off x="380880" y="1905120"/>
            <a:ext cx="8520120" cy="3047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5" descr=""/>
          <p:cNvPicPr/>
          <p:nvPr/>
        </p:nvPicPr>
        <p:blipFill>
          <a:blip r:embed="rId3"/>
          <a:stretch/>
        </p:blipFill>
        <p:spPr>
          <a:xfrm>
            <a:off x="533520" y="2057400"/>
            <a:ext cx="4714920" cy="257184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6" descr="C:\Users\ams\Desktop\RN1-BIKE-.jpg"/>
          <p:cNvPicPr/>
          <p:nvPr/>
        </p:nvPicPr>
        <p:blipFill>
          <a:blip r:embed="rId4"/>
          <a:stretch/>
        </p:blipFill>
        <p:spPr>
          <a:xfrm>
            <a:off x="5178600" y="3792600"/>
            <a:ext cx="39654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6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Rectangle 2" descr="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14014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5" descr="pow2_15dwuh"/>
          <p:cNvPicPr/>
          <p:nvPr/>
        </p:nvPicPr>
        <p:blipFill>
          <a:blip r:embed="rId2"/>
          <a:stretch/>
        </p:blipFill>
        <p:spPr>
          <a:xfrm>
            <a:off x="457200" y="1371600"/>
            <a:ext cx="8077320" cy="279072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5" descr="C:\Users\ams\Desktop\images.png"/>
          <p:cNvPicPr/>
          <p:nvPr/>
        </p:nvPicPr>
        <p:blipFill>
          <a:blip r:embed="rId3"/>
          <a:stretch/>
        </p:blipFill>
        <p:spPr>
          <a:xfrm>
            <a:off x="533520" y="1449360"/>
            <a:ext cx="792468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6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Rectangle 2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8" descr="pow2_15most"/>
          <p:cNvPicPr/>
          <p:nvPr/>
        </p:nvPicPr>
        <p:blipFill>
          <a:blip r:embed="rId2"/>
          <a:stretch/>
        </p:blipFill>
        <p:spPr>
          <a:xfrm>
            <a:off x="166680" y="1905120"/>
            <a:ext cx="8977320" cy="27432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5" descr=""/>
          <p:cNvPicPr/>
          <p:nvPr/>
        </p:nvPicPr>
        <p:blipFill>
          <a:blip r:embed="rId3"/>
          <a:stretch/>
        </p:blipFill>
        <p:spPr>
          <a:xfrm>
            <a:off x="228600" y="1752480"/>
            <a:ext cx="5029200" cy="251460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6" descr="Печатная плата простейшего зарядника сотового телефона"/>
          <p:cNvPicPr/>
          <p:nvPr/>
        </p:nvPicPr>
        <p:blipFill>
          <a:blip r:embed="rId4"/>
          <a:stretch/>
        </p:blipFill>
        <p:spPr>
          <a:xfrm>
            <a:off x="5181480" y="3657600"/>
            <a:ext cx="39625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2" dur="2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6" dur="2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61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Sylfaen"/>
              </a:rPr>
              <a:t>1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Sylfaen"/>
              </a:rPr>
              <a:t>. Изучение материала лекци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61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Выполнение заданий  в рабочей тетради       Ярочкина, Г. В. Электротехника. №  9.1-9.7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1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.  Выполнение презентации по теме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1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стройство   и принципа работы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83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3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16292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Заголовок 3" descr=""/>
          <p:cNvPicPr/>
          <p:nvPr/>
        </p:nvPicPr>
        <p:blipFill>
          <a:blip r:embed="rId1"/>
          <a:stretch/>
        </p:blipFill>
        <p:spPr>
          <a:xfrm>
            <a:off x="554040" y="1657440"/>
            <a:ext cx="823608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реобразование переменного тока в пульсирующий называется выпрямлением, а сами преобразователи–</a:t>
            </a:r>
            <a:r>
              <a:rPr b="1" lang="ru-RU" sz="2800" spc="-1" strike="noStrike">
                <a:solidFill>
                  <a:srgbClr val="1faecd"/>
                </a:solidFill>
                <a:latin typeface="Lucida Sans Unicode"/>
              </a:rPr>
              <a:t>выпрямителями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Lucida Sans Unicode"/>
              </a:rPr>
              <a:t>Диод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- необходимая часть выпрямителей является электрическим вентилем – прибор, хорошо пропускающие ток в одном направлении и не пропускающие его (или плохо пропускающие) – в другом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4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46" name="Заголовок 2" descr="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11890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3" descr="C:\Users\Бормотова\Desktop\diomix.jpg"/>
          <p:cNvPicPr/>
          <p:nvPr/>
        </p:nvPicPr>
        <p:blipFill>
          <a:blip r:embed="rId2"/>
          <a:stretch/>
        </p:blipFill>
        <p:spPr>
          <a:xfrm>
            <a:off x="152280" y="1523880"/>
            <a:ext cx="8950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228240" y="9907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Lucida Sans Unicode"/>
              </a:rPr>
              <a:t>по схеме выпрямления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– однополупериодные, двухполупериодные, мостовые, многофазные (трехфазные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Lucida Sans Unicode"/>
              </a:rPr>
              <a:t>По типу выпрямительного элемента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– ламповые, полупроводниковые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Lucida Sans Unicode"/>
              </a:rPr>
              <a:t>По величине выпрямленного напряжения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– низкого напряжения и высокого напряже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Lucida Sans Unicode"/>
              </a:rPr>
              <a:t>По назначению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–для питания цепей постоянного тока, цепей экранирующих сеток, цепей управляющих сеток, для зарядки аккумуляторов и др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49" name="Rectangle 2" descr=""/>
          <p:cNvPicPr/>
          <p:nvPr/>
        </p:nvPicPr>
        <p:blipFill>
          <a:blip r:embed="rId1"/>
          <a:stretch/>
        </p:blipFill>
        <p:spPr>
          <a:xfrm>
            <a:off x="304920" y="36360"/>
            <a:ext cx="8461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22824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оминальное напряжение постоянного тока – среднее значение выпрямленного напряжения, заданное техническими требованиями. Обычно указывается напряжение до фильтра U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и напряжение после фильтра – U. Определяется значением напряжения, необходимым для питаемых выпрямителем устройст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ульсация – переменная составляющая напряжения или тока на выходе выпрямителя. Это качественный показатель выпрямител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Частота пульсаций – частота наиболее резко выраженной гармонической составляющей напряжения или тока на выходе выпрямител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51" name="Rectangle 2" descr=""/>
          <p:cNvPicPr/>
          <p:nvPr/>
        </p:nvPicPr>
        <p:blipFill>
          <a:blip r:embed="rId1"/>
          <a:stretch/>
        </p:blipFill>
        <p:spPr>
          <a:xfrm>
            <a:off x="-66600" y="231840"/>
            <a:ext cx="92710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668080" cy="11890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5" descr="pow2_15odno"/>
          <p:cNvPicPr/>
          <p:nvPr/>
        </p:nvPicPr>
        <p:blipFill>
          <a:blip r:embed="rId2"/>
          <a:stretch/>
        </p:blipFill>
        <p:spPr>
          <a:xfrm>
            <a:off x="380880" y="1905120"/>
            <a:ext cx="8520120" cy="304776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5" descr=""/>
          <p:cNvPicPr/>
          <p:nvPr/>
        </p:nvPicPr>
        <p:blipFill>
          <a:blip r:embed="rId3"/>
          <a:stretch/>
        </p:blipFill>
        <p:spPr>
          <a:xfrm>
            <a:off x="533520" y="2057400"/>
            <a:ext cx="4714920" cy="25718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6" descr="C:\Users\ams\Desktop\RN1-BIKE-.jpg"/>
          <p:cNvPicPr/>
          <p:nvPr/>
        </p:nvPicPr>
        <p:blipFill>
          <a:blip r:embed="rId4"/>
          <a:stretch/>
        </p:blipFill>
        <p:spPr>
          <a:xfrm>
            <a:off x="5178600" y="3792600"/>
            <a:ext cx="39654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Rectangle 2" descr="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14014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5" descr="pow2_15dwuh"/>
          <p:cNvPicPr/>
          <p:nvPr/>
        </p:nvPicPr>
        <p:blipFill>
          <a:blip r:embed="rId2"/>
          <a:stretch/>
        </p:blipFill>
        <p:spPr>
          <a:xfrm>
            <a:off x="457200" y="1371600"/>
            <a:ext cx="80773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Rectangle 2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8" descr="pow2_15most"/>
          <p:cNvPicPr/>
          <p:nvPr/>
        </p:nvPicPr>
        <p:blipFill>
          <a:blip r:embed="rId2"/>
          <a:stretch/>
        </p:blipFill>
        <p:spPr>
          <a:xfrm>
            <a:off x="166680" y="1905120"/>
            <a:ext cx="8977320" cy="274320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5" descr=""/>
          <p:cNvPicPr/>
          <p:nvPr/>
        </p:nvPicPr>
        <p:blipFill>
          <a:blip r:embed="rId3"/>
          <a:stretch/>
        </p:blipFill>
        <p:spPr>
          <a:xfrm>
            <a:off x="228600" y="1752480"/>
            <a:ext cx="5029200" cy="25146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6" descr="Печатная плата простейшего зарядника сотового телефона"/>
          <p:cNvPicPr/>
          <p:nvPr/>
        </p:nvPicPr>
        <p:blipFill>
          <a:blip r:embed="rId4"/>
          <a:stretch/>
        </p:blipFill>
        <p:spPr>
          <a:xfrm>
            <a:off x="5181480" y="3657600"/>
            <a:ext cx="39625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4</dc:creator>
  <dc:description/>
  <dc:language>en-US</dc:language>
  <cp:lastModifiedBy>Татьяна Александровна Бормотова</cp:lastModifiedBy>
  <dcterms:modified xsi:type="dcterms:W3CDTF">2017-01-19T10:42:34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