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2EA-2289-42C4-8273-797BA483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81A-3EF8-49AF-A37E-8C2E19F0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CE9-6678-4A92-9073-153005E8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02D-F736-4419-AACE-7C927245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856-E9C6-4508-923F-292A5847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9A9-4DAB-424E-BB6B-B5060EAE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66A-4043-48AC-9C11-6766A5E7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0A3-3F08-40B7-9A9D-17647D01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68D-5E4A-4396-927E-F39F0B5D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A4A-AC7A-49DF-9CB8-01053E20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65B-F743-46E8-8531-19F45E13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2AA-56F5-4432-BA26-795AB439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FD6D-87ED-4694-AAD6-64BE6837E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http://www.careerchangeformula.com/wp-content/uploads/2011/01/Photoxpress_5659840.jpg"/>
          <p:cNvPicPr/>
          <p:nvPr/>
        </p:nvPicPr>
        <p:blipFill>
          <a:blip r:embed="rId3"/>
          <a:stretch/>
        </p:blipFill>
        <p:spPr>
          <a:xfrm>
            <a:off x="-19080" y="-19080"/>
            <a:ext cx="9175680" cy="6889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Муниципальное бюджетное дошкольное образовательное учреждение детский сад №10 «Щелкунчик»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. Саяногор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907920" y="2378160"/>
            <a:ext cx="717552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одержимое 3" descr="i.jpg"/>
          <p:cNvPicPr/>
          <p:nvPr/>
        </p:nvPicPr>
        <p:blipFill>
          <a:blip r:embed="rId1"/>
          <a:stretch/>
        </p:blipFill>
        <p:spPr>
          <a:xfrm>
            <a:off x="414360" y="612720"/>
            <a:ext cx="81961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одержимое 3" descr="i.jpg"/>
          <p:cNvPicPr/>
          <p:nvPr/>
        </p:nvPicPr>
        <p:blipFill>
          <a:blip r:embed="rId1"/>
          <a:stretch/>
        </p:blipFill>
        <p:spPr>
          <a:xfrm>
            <a:off x="533520" y="182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3" descr="i.jpg"/>
          <p:cNvPicPr/>
          <p:nvPr/>
        </p:nvPicPr>
        <p:blipFill>
          <a:blip r:embed="rId1"/>
          <a:stretch/>
        </p:blipFill>
        <p:spPr>
          <a:xfrm>
            <a:off x="0" y="304920"/>
            <a:ext cx="83898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5" descr="i.jpg"/>
          <p:cNvPicPr/>
          <p:nvPr/>
        </p:nvPicPr>
        <p:blipFill>
          <a:blip r:embed="rId1"/>
          <a:stretch/>
        </p:blipFill>
        <p:spPr>
          <a:xfrm>
            <a:off x="1027080" y="1600200"/>
            <a:ext cx="708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хема 9" descr=""/>
          <p:cNvPicPr/>
          <p:nvPr/>
        </p:nvPicPr>
        <p:blipFill>
          <a:blip r:embed="rId1"/>
          <a:srcRect l="-68537" t="0" r="-68948" b="0"/>
          <a:stretch/>
        </p:blipFill>
        <p:spPr>
          <a:xfrm>
            <a:off x="-1752480" y="1508040"/>
            <a:ext cx="13182480" cy="40338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04920" y="290520"/>
            <a:ext cx="82296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дул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спитательно -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правления формирования семейных ценносте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хема 1" descr=""/>
          <p:cNvPicPr/>
          <p:nvPr/>
        </p:nvPicPr>
        <p:blipFill>
          <a:blip r:embed="rId1"/>
          <a:srcRect l="-4001" t="-28866" r="-2545" b="-29293"/>
          <a:stretch/>
        </p:blipFill>
        <p:spPr>
          <a:xfrm>
            <a:off x="304920" y="1690560"/>
            <a:ext cx="814536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bbc"/>
                </a:solidFill>
                <a:latin typeface="Arial"/>
              </a:rPr>
              <a:t>Календарно- тематический 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914400"/>
          <a:ext cx="8458200" cy="5397480"/>
        </p:xfrm>
        <a:graphic>
          <a:graphicData uri="http://schemas.openxmlformats.org/drawingml/2006/table">
            <a:tbl>
              <a:tblPr/>
              <a:tblGrid>
                <a:gridCol w="2114280"/>
                <a:gridCol w="2114640"/>
                <a:gridCol w="2114640"/>
                <a:gridCol w="2114640"/>
              </a:tblGrid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програм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методы работы с 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704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разде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уровня сформированности семейных ценностей у воспитанников младшего дошкольного возрас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ая диагностика дошколь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74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и моя семь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я дружна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убить представления о составе своей семьи: папа - глава семьи, мама - хозяйка, я -ребёнок, член семьи (сын/дочь). Конкретизировать представления о различиях между людьми по возрасту: папа и мама - взрослые, я - ребёнок. Учить откликаться на общее эмоциональное состояние: радоваться вместе с родителями; сопереживать, помогать им, жалеть, утешать их, говорить ласковые слова. Воспитывать доверие к родителям. Вызывать чувства уважения и любви. Активизировать проявление заботы, бережного отношения, уважения к родным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Рассказы воспитателя на темы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"Ты и твоя семья"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"Как семейный альбом рассказал о моей семье"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"Чем можно порадовать маму и папу"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"Как мы с мамой папе помогали"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"Я помогаю папе и маме"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ассказ воспитателя о разных социальных функциях членов семь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роблемные ситуации "Как поступить?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Чтени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хакасская сказка "Три брата"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ихотворения: А.Плещеев "Внучка", Э.Мошковская "Добежали до вечера"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теш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Продуктивная деятельность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лепка "Угощение для семьи"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ппликации "Украсим платок", "Украсим платье"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южетно-ролевая игра "Семья"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838080" y="91440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не заменишь, семью не замениш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ами, карьерой, друзьями, соб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— это там, где любишь и вериш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а из счастья, заботы, пок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ая близость, секрет долголети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ьба всех болезней, надежда и св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усть что-то вышло не так и сомнени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— талисман для удачи, побед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2" descr="C:\Documents and Settings\Администратор\Рабочий стол\image-4-500x300.jpg"/>
          <p:cNvPicPr/>
          <p:nvPr/>
        </p:nvPicPr>
        <p:blipFill>
          <a:blip r:embed="rId1"/>
          <a:stretch/>
        </p:blipFill>
        <p:spPr>
          <a:xfrm>
            <a:off x="4191120" y="4267080"/>
            <a:ext cx="45720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3" descr="i.jpg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3" descr="i.jpg"/>
          <p:cNvPicPr/>
          <p:nvPr/>
        </p:nvPicPr>
        <p:blipFill>
          <a:blip r:embed="rId1"/>
          <a:stretch/>
        </p:blipFill>
        <p:spPr>
          <a:xfrm>
            <a:off x="380880" y="380880"/>
            <a:ext cx="2590920" cy="391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Администратор\Рабочий стол\i.jpg"/>
          <p:cNvPicPr/>
          <p:nvPr/>
        </p:nvPicPr>
        <p:blipFill>
          <a:blip r:embed="rId2"/>
          <a:stretch/>
        </p:blipFill>
        <p:spPr>
          <a:xfrm>
            <a:off x="2895480" y="990720"/>
            <a:ext cx="297180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3" descr="C:\Documents and Settings\Администратор\Рабочий стол\i.jpg"/>
          <p:cNvPicPr/>
          <p:nvPr/>
        </p:nvPicPr>
        <p:blipFill>
          <a:blip r:embed="rId3"/>
          <a:stretch/>
        </p:blipFill>
        <p:spPr>
          <a:xfrm>
            <a:off x="5943600" y="1981080"/>
            <a:ext cx="2743200" cy="43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едагогических условий формирования семейных ценностей в контексте патриотического воспитания детей дошкольного возра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655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Формировать и конкретизировать представления о  семье и семейных ценност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пособствовать проявлению интереса к истории и традициям своей семьи, ее национальной куль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звивать эмоциональную отзывчивость, проявление эмпатии, любви по отношению к членам  своей семьи, проявление сочув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Формировать адекватные способы поведения ребенка в семье и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пособствовать проявлению заботы по отношению к младшим и старшим членам своей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Формировать  у детей старшего дошкольного возраста основы материнства и отцовства как ценности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 Создать единое образовательное пространство педагогов и родителей в приобщении к семейным ценнос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нци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buClr>
                <a:srgbClr val="bbe0e3"/>
              </a:buClr>
              <a:buSzPct val="68000"/>
              <a:buFont typeface="Times New Roman"/>
              <a:buChar char="•"/>
              <a:tabLst>
                <a:tab algn="l" pos="27000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гум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buClr>
                <a:srgbClr val="bbe0e3"/>
              </a:buClr>
              <a:buSzPct val="68000"/>
              <a:buFont typeface="Times New Roman"/>
              <a:buChar char="•"/>
              <a:tabLst>
                <a:tab algn="l" pos="27000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истемно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целос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buClr>
                <a:srgbClr val="bbe0e3"/>
              </a:buClr>
              <a:buSzPct val="68000"/>
              <a:buFont typeface="Times New Roman"/>
              <a:buChar char="•"/>
              <a:tabLst>
                <a:tab algn="l" pos="27000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сеобщности и доступ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buClr>
                <a:srgbClr val="bbe0e3"/>
              </a:buClr>
              <a:buSzPct val="68000"/>
              <a:buFont typeface="Times New Roman"/>
              <a:buChar char="•"/>
              <a:tabLst>
                <a:tab algn="l" pos="27000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культуросообра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buClr>
                <a:srgbClr val="bbe0e3"/>
              </a:buClr>
              <a:buSzPct val="68000"/>
              <a:buFont typeface="Times New Roman"/>
              <a:buChar char="•"/>
              <a:tabLst>
                <a:tab algn="l" pos="27000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иродосообра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buClr>
                <a:srgbClr val="bbe0e3"/>
              </a:buClr>
              <a:buSzPct val="68000"/>
              <a:buFont typeface="Calibri"/>
              <a:buChar char="•"/>
              <a:tabLst>
                <a:tab algn="l" pos="27000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нци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buClr>
                <a:srgbClr val="bbe0e3"/>
              </a:buClr>
              <a:buSzPct val="68000"/>
              <a:buFont typeface="Times New Roman"/>
              <a:buChar char="•"/>
              <a:tabLst>
                <a:tab algn="l" pos="27000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ифференцированного под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buClr>
                <a:srgbClr val="bbe0e3"/>
              </a:buClr>
              <a:buSzPct val="68000"/>
              <a:buFont typeface="Times New Roman"/>
              <a:buChar char="•"/>
              <a:tabLst>
                <a:tab algn="l" pos="27000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учета индивидуальных и половозрастных особеннос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buClr>
                <a:srgbClr val="bbe0e3"/>
              </a:buClr>
              <a:buSzPct val="68000"/>
              <a:buFont typeface="Times New Roman"/>
              <a:buChar char="•"/>
              <a:tabLst>
                <a:tab algn="l" pos="27000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поры на положительное в ребе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buClr>
                <a:srgbClr val="bbe0e3"/>
              </a:buClr>
              <a:buSzPct val="68000"/>
              <a:buFont typeface="Times New Roman"/>
              <a:buChar char="•"/>
              <a:tabLst>
                <a:tab algn="l" pos="27000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единства знания и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buClr>
                <a:srgbClr val="bbe0e3"/>
              </a:buClr>
              <a:buSzPct val="68000"/>
              <a:buFont typeface="Times New Roman"/>
              <a:buChar char="•"/>
              <a:tabLst>
                <a:tab algn="l" pos="27000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оспитывающей рефлек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buClr>
                <a:srgbClr val="bbe0e3"/>
              </a:buClr>
              <a:buSzPct val="68000"/>
              <a:buFont typeface="Times New Roman"/>
              <a:buChar char="•"/>
              <a:tabLst>
                <a:tab algn="l" pos="270000"/>
                <a:tab algn="l" pos="4572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а с семь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Arial"/>
              </a:rPr>
              <a:t>Аспекты патриотического вос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5" descr=""/>
          <p:cNvPicPr/>
          <p:nvPr/>
        </p:nvPicPr>
        <p:blipFill>
          <a:blip r:embed="rId1"/>
          <a:stretch/>
        </p:blipFill>
        <p:spPr>
          <a:xfrm>
            <a:off x="438120" y="1566720"/>
            <a:ext cx="826776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держимое 3" descr="i.jpg"/>
          <p:cNvPicPr/>
          <p:nvPr/>
        </p:nvPicPr>
        <p:blipFill>
          <a:blip r:embed="rId1"/>
          <a:stretch/>
        </p:blipFill>
        <p:spPr>
          <a:xfrm>
            <a:off x="304920" y="533520"/>
            <a:ext cx="843120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3" descr="i.jpg"/>
          <p:cNvPicPr/>
          <p:nvPr/>
        </p:nvPicPr>
        <p:blipFill>
          <a:blip r:embed="rId1"/>
          <a:stretch/>
        </p:blipFill>
        <p:spPr>
          <a:xfrm>
            <a:off x="380880" y="380880"/>
            <a:ext cx="792504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User</cp:lastModifiedBy>
  <dcterms:modified xsi:type="dcterms:W3CDTF">2017-11-21T04:20:19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