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36F4-6E63-402B-8B44-692311C14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B868-075E-4DC4-B1EC-96934CE6C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64A-61FB-47F1-9813-F27EC32F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AEE-F133-4146-8A3D-B70B383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B3A-F03E-4E20-81AA-CAE10041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1AC-01CB-4AB7-8B36-B3F33BA5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EFF-EAE1-4F85-AA67-9AEF3E8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CCA-57F3-4F66-9317-5E74024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C9A-C2C5-403F-BA97-9B1781B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920-DB7E-4D7B-9C35-F22F68E7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B55-5A7A-4FA0-967C-12EFE59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E56-35AD-431F-8889-914B8EC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B65-55CA-4A1A-9646-7CA4EBFD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2E2-89E2-4CB1-A656-C804D6C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6843-B58F-4719-876B-CDD05F11A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" Target="slide40.xml"/><Relationship Id="rId13" Type="http://schemas.openxmlformats.org/officeDocument/2006/relationships/slide" Target="slide41.xml"/><Relationship Id="rId14" Type="http://schemas.openxmlformats.org/officeDocument/2006/relationships/slide" Target="slide42.xml"/><Relationship Id="rId15" Type="http://schemas.openxmlformats.org/officeDocument/2006/relationships/slide" Target="slide43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46.xml"/><Relationship Id="rId19" Type="http://schemas.openxmlformats.org/officeDocument/2006/relationships/slide" Target="slide47.xml"/><Relationship Id="rId20" Type="http://schemas.openxmlformats.org/officeDocument/2006/relationships/slide" Target="slide48.xml"/><Relationship Id="rId21" Type="http://schemas.openxmlformats.org/officeDocument/2006/relationships/slide" Target="slide49.xml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54.xml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00040" y="500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С(К)ОУ для обучающихся, воспитанников с ограниченными возможностями здоровья «Большекрутовская (специальная) коррекционная общеобразовательная школа-интерна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5" descr=""/>
          <p:cNvPicPr/>
          <p:nvPr/>
        </p:nvPicPr>
        <p:blipFill>
          <a:blip r:embed="rId1"/>
          <a:stretch/>
        </p:blipFill>
        <p:spPr>
          <a:xfrm>
            <a:off x="281160" y="1176480"/>
            <a:ext cx="84420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3214800" y="5429160"/>
            <a:ext cx="55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итель П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чков Викт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зеркальном на катке, На единственном коньке, Он проехался разок — И распался весь ка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 Стекло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96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 - работник дело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хожу в работу с голов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, молодц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ляпка - очень к лиц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2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вижу лежебоку, что валяется без проку, Я прижму его к доске, да как стукну по башке, В доску спрячется бедняжка, чуть видна его фураж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Мол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8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слово - уга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и в нем - загад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ая - нота, вторая - иг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ое встретится у столя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До-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14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дерево дятла по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Береза 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http://images.pictureshunt.com/pics/b/birch_trees-11880.jpg"/>
          <p:cNvPicPr/>
          <p:nvPr/>
        </p:nvPicPr>
        <p:blipFill>
          <a:blip r:embed="rId1"/>
          <a:stretch/>
        </p:blipFill>
        <p:spPr>
          <a:xfrm>
            <a:off x="5357880" y="1857240"/>
            <a:ext cx="310680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2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">
              <a:hlinkClick r:id="rId2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ран пол к куску кус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малюсеньких дос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Пар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2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Рисунок 8" descr="http://im4-tub-ru.yandex.net/i?id=198280347-45-72&amp;n=21"/>
          <p:cNvPicPr/>
          <p:nvPr/>
        </p:nvPicPr>
        <p:blipFill>
          <a:blip r:embed="rId2"/>
          <a:stretch/>
        </p:blipFill>
        <p:spPr>
          <a:xfrm>
            <a:off x="5786280" y="3000240"/>
            <a:ext cx="3003840" cy="28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год на нем с ох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стают вертолё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аль, что каждый верт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сего один по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лен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34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Рисунок 7" descr="http://im7-tub-ru.yandex.net/i?id=299594119-28-72&amp;n=21"/>
          <p:cNvPicPr/>
          <p:nvPr/>
        </p:nvPicPr>
        <p:blipFill>
          <a:blip r:embed="rId2"/>
          <a:stretch/>
        </p:blipFill>
        <p:spPr>
          <a:xfrm>
            <a:off x="6072120" y="3786120"/>
            <a:ext cx="262116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виду, вроде, схожа с фе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ключишь- продырявит ст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Д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4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Рисунок 7" descr="http://www.omar.ru/img/model/960/41960/1-500.jpg"/>
          <p:cNvPicPr/>
          <p:nvPr/>
        </p:nvPicPr>
        <p:blipFill>
          <a:blip r:embed="rId2"/>
          <a:stretch/>
        </p:blipFill>
        <p:spPr>
          <a:xfrm>
            <a:off x="3357720" y="3929040"/>
            <a:ext cx="33573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деталь книжного шк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состоит из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ной бук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Пол-ка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48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Рисунок 7" descr="http://www.best-mebel-shop.ru/sites/default/files/imagecache/img-with-watermark/964862bd9c33eb5f009a71abd9b303de.jpg"/>
          <p:cNvPicPr/>
          <p:nvPr/>
        </p:nvPicPr>
        <p:blipFill>
          <a:blip r:embed="rId2"/>
          <a:stretch/>
        </p:blipFill>
        <p:spPr>
          <a:xfrm>
            <a:off x="5815080" y="3760920"/>
            <a:ext cx="313380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ющий инструмент передают ручкой вперёд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5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НИЙ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21488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гадай загад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просы плот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ехника безопас-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 доме мо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лки с верстака можно сду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6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 ножовки должен быть развод зубь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6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метку на древесине производят гвоздём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ку используют для разметки прямых углов.</a:t>
            </a: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а соснова,  стек желе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р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8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Рисунок 7" descr="http://im7-tub-ru.yandex.net/i?id=132859979-00-72&amp;n=21"/>
          <p:cNvPicPr/>
          <p:nvPr/>
        </p:nvPicPr>
        <p:blipFill>
          <a:blip r:embed="rId2"/>
          <a:stretch/>
        </p:blipFill>
        <p:spPr>
          <a:xfrm>
            <a:off x="4786200" y="3071880"/>
            <a:ext cx="37990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енях ходит, да и в избу не заходи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2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Рисунок 7" descr="http://im2-tub-ru.yandex.net/i?id=367768017-41-72&amp;n=21"/>
          <p:cNvPicPr/>
          <p:nvPr/>
        </p:nvPicPr>
        <p:blipFill>
          <a:blip r:embed="rId2"/>
          <a:stretch/>
        </p:blipFill>
        <p:spPr>
          <a:xfrm>
            <a:off x="4286160" y="2857680"/>
            <a:ext cx="2500560" cy="32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спина, а не лежит, четыре ноги, а не ходит, но всегда сам стоит и всем сидеть вел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Ст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Рисунок 7" descr="http://cdn.sellbe.com/shop-2541/product/138/624362.jpeg"/>
          <p:cNvPicPr/>
          <p:nvPr/>
        </p:nvPicPr>
        <p:blipFill>
          <a:blip r:embed="rId2"/>
          <a:stretch/>
        </p:blipFill>
        <p:spPr>
          <a:xfrm>
            <a:off x="5857920" y="3500280"/>
            <a:ext cx="246708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ряжен наряд из ста ребят, все приколочены  сто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Изгородь, плет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0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Рисунок 7" descr="http://www.mukhin.ru/besthome/fence/23_170.jpg"/>
          <p:cNvPicPr/>
          <p:nvPr/>
        </p:nvPicPr>
        <p:blipFill>
          <a:blip r:embed="rId1"/>
          <a:stretch/>
        </p:blipFill>
        <p:spPr>
          <a:xfrm>
            <a:off x="642960" y="4143240"/>
            <a:ext cx="335772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ждый ходит и бегает  по мне летом и зимой, а ездить никому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Лес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1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Рисунок 7" descr="http://im3-tub-ru.yandex.net/i?id=418017210-25-72&amp;n=21"/>
          <p:cNvPicPr/>
          <p:nvPr/>
        </p:nvPicPr>
        <p:blipFill>
          <a:blip r:embed="rId1"/>
          <a:srcRect l="0" t="0" r="40569" b="0"/>
          <a:stretch/>
        </p:blipFill>
        <p:spPr>
          <a:xfrm>
            <a:off x="4429080" y="3429000"/>
            <a:ext cx="29289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шет, сеет, зерно убирает. К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Хлебо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http://agro2b.ru/mediadb/6839.jpeg"/>
          <p:cNvPicPr/>
          <p:nvPr/>
        </p:nvPicPr>
        <p:blipFill>
          <a:blip r:embed="rId2"/>
          <a:stretch/>
        </p:blipFill>
        <p:spPr>
          <a:xfrm>
            <a:off x="714240" y="3571920"/>
            <a:ext cx="37864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ЫЙ   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68792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лов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дин из тре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потеря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вер-ты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</a:tbl>
          </a:graphicData>
        </a:graphic>
      </p:graphicFrame>
      <p:sp>
        <p:nvSpPr>
          <p:cNvPr id="56" name="4-конечная звезда 3">
            <a:hlinkClick r:id="rId26" action="ppaction://hlinksldjump"/>
          </p:cNvPr>
          <p:cNvSpPr/>
          <p:nvPr/>
        </p:nvSpPr>
        <p:spPr>
          <a:xfrm>
            <a:off x="714240" y="500040"/>
            <a:ext cx="785880" cy="714240"/>
          </a:xfrm>
          <a:custGeom>
            <a:avLst/>
            <a:gdLst>
              <a:gd name="textAreaLeft" fmla="*/ 323640 w 785880"/>
              <a:gd name="textAreaRight" fmla="*/ 462240 w 785880"/>
              <a:gd name="textAreaTop" fmla="*/ 294120 h 714240"/>
              <a:gd name="textAreaBottom" fmla="*/ 42012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евает кто нас модно? Кто костюм шьёт выходной? Всем известно – он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 Пор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http://img0.liveinternet.ru/images/attach/c/9/105/776/105776636_tailormeasure.jpg"/>
          <p:cNvPicPr/>
          <p:nvPr/>
        </p:nvPicPr>
        <p:blipFill>
          <a:blip r:embed="rId2"/>
          <a:stretch/>
        </p:blipFill>
        <p:spPr>
          <a:xfrm>
            <a:off x="714240" y="3786120"/>
            <a:ext cx="364356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ужит дорогой Отчизне старший  брат. Охраняет  наши жизни, он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http://www.emeklilikhaber.com/wp-content/uploads/gaxxi/1334666222yedek-subay-sinavi.jpg"/>
          <p:cNvPicPr/>
          <p:nvPr/>
        </p:nvPicPr>
        <p:blipFill>
          <a:blip r:embed="rId2"/>
          <a:stretch/>
        </p:blipFill>
        <p:spPr>
          <a:xfrm>
            <a:off x="642960" y="3357720"/>
            <a:ext cx="3143160" cy="30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ло ухо у кота, поднялася в доме суета, дед ворчит, сестрёнка хнычет, суп в кошачьей миске стынет. Что же делать? Как же быть? Кто котёнка может полеч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Ветерин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http://t2.ftcdn.net/jpg/00/19/13/89/400_F_19138932_WwJlYFcHlq7kDyNKJGruWAG6TyImXAqt.jpg"/>
          <p:cNvPicPr/>
          <p:nvPr/>
        </p:nvPicPr>
        <p:blipFill>
          <a:blip r:embed="rId2"/>
          <a:stretch/>
        </p:blipFill>
        <p:spPr>
          <a:xfrm>
            <a:off x="357120" y="4214880"/>
            <a:ext cx="21034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илась сестрёнка Даша – радость наша, горе наше. Хлеб не ест, плюётся кашей, к кому идти  с сестрёнкой Даш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К педи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http://navolyni.com/modules/goods/images/351_vyklyk-pediatra-dodomu-lutsk.jpg"/>
          <p:cNvPicPr/>
          <p:nvPr/>
        </p:nvPicPr>
        <p:blipFill>
          <a:blip r:embed="rId2"/>
          <a:stretch/>
        </p:blipFill>
        <p:spPr>
          <a:xfrm>
            <a:off x="714240" y="421488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пешишь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людей насм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труд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вытащишь и рыбку из п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dde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в поле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е во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й сто рублей,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а имей сто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 не воробей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вылетит, не пойм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атериалы используются для прозрачной отделки изде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эмульсионная 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к, ол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патлё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уд - кормит, а лен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59ffff"/>
                </a:solidFill>
                <a:latin typeface="Arial"/>
              </a:rPr>
              <a:t>порт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60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столярное соединение используется при изготовлении ра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ящ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середи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конц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является основанием токарного ст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няя ба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учник с каре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9680" y="162864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смолянистая древес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б, берёза, гр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хта, ель, к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па, ива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древесина имеет кольцесосудистое 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ина, тополь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ша, клён,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ёза, дуб, 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http://www.wiki.vladimir.i-edu.ru/images/thumb/6/6e/%D0%A3%D1%87%D0%B8%D1%82%D0%B5%D0%BB%D1%8C_%D1%81_%D1%83%D0%BA%D0%B0%D0%B7%D0%BA%D0%BE%D0%B9.jpg/468px-%D0%A3%D1%87%D0%B8%D1%82%D0%B5%D0%BB%D1%8C_%D1%81_%D1%83%D0%BA%D0%B0%D0%B7%D0%BA%D0%BE%D0%B9.jpg"/>
          <p:cNvPicPr/>
          <p:nvPr/>
        </p:nvPicPr>
        <p:blipFill>
          <a:blip r:embed="rId2"/>
          <a:stretch/>
        </p:blipFill>
        <p:spPr>
          <a:xfrm>
            <a:off x="714240" y="2857680"/>
            <a:ext cx="307188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 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http://images.colourbox.com/thumb_COLOURBOX2465857.jpg"/>
          <p:cNvPicPr/>
          <p:nvPr/>
        </p:nvPicPr>
        <p:blipFill>
          <a:blip r:embed="rId2"/>
          <a:stretch/>
        </p:blipFill>
        <p:spPr>
          <a:xfrm>
            <a:off x="285840" y="3500280"/>
            <a:ext cx="457200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Кондитер, 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кнопка кр"/>
          <p:cNvPicPr/>
          <p:nvPr/>
        </p:nvPicPr>
        <p:blipFill>
          <a:blip r:embed="rId1"/>
          <a:stretch/>
        </p:blipFill>
        <p:spPr>
          <a:xfrm>
            <a:off x="7956720" y="5950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http://beato.ru/site/21/2158.jpg"/>
          <p:cNvPicPr/>
          <p:nvPr/>
        </p:nvPicPr>
        <p:blipFill>
          <a:blip r:embed="rId2"/>
          <a:stretch/>
        </p:blipFill>
        <p:spPr>
          <a:xfrm>
            <a:off x="785880" y="264312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некен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Шв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http://im3-tub-ru.yandex.net/i?id=139294426-22-72&amp;n=21"/>
          <p:cNvPicPr/>
          <p:nvPr/>
        </p:nvPicPr>
        <p:blipFill>
          <a:blip r:embed="rId2"/>
          <a:stretch/>
        </p:blipFill>
        <p:spPr>
          <a:xfrm>
            <a:off x="714240" y="278604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п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Штук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http://smetnov.com/wp-content/uploads/2011/03/shpatel.gif"/>
          <p:cNvPicPr/>
          <p:nvPr/>
        </p:nvPicPr>
        <p:blipFill>
          <a:blip r:embed="rId2"/>
          <a:stretch/>
        </p:blipFill>
        <p:spPr>
          <a:xfrm>
            <a:off x="357120" y="3643200"/>
            <a:ext cx="357192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Щ И К Л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Кл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 раз отмерь-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59ffff"/>
                </a:solidFill>
                <a:latin typeface="Arial"/>
              </a:rPr>
              <a:t>отре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6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Р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Руб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Ё К А О Т Р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От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950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 Ь П И Н А И К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ап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 С Й С М Р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Рейсм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кнопка кр"/>
          <p:cNvPicPr/>
          <p:nvPr/>
        </p:nvPicPr>
        <p:blipFill>
          <a:blip r:embed="rId1"/>
          <a:stretch/>
        </p:blipFill>
        <p:spPr>
          <a:xfrm>
            <a:off x="8172360" y="5950080"/>
            <a:ext cx="79236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6" descr=""/>
          <p:cNvPicPr/>
          <p:nvPr/>
        </p:nvPicPr>
        <p:blipFill>
          <a:blip r:embed="rId2"/>
          <a:stretch/>
        </p:blipFill>
        <p:spPr>
          <a:xfrm>
            <a:off x="-195120" y="792000"/>
            <a:ext cx="9528120" cy="41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у –время, потехе –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2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енькое дело, лучше больш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бездел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8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лог день до вечера, коли дел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не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84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убов много, А ничего не 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90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07:23Z</dcterms:created>
  <dc:creator>Admin</dc:creator>
  <dc:description/>
  <dc:language>en-US</dc:language>
  <cp:lastModifiedBy>в</cp:lastModifiedBy>
  <dcterms:modified xsi:type="dcterms:W3CDTF">2004-08-02T20:13:44Z</dcterms:modified>
  <cp:revision>54</cp:revision>
  <dc:subject/>
  <dc:title>СИНИЙ РАУНД</dc:title>
</cp:coreProperties>
</file>