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9338-AEB2-4D57-8133-A4CA1FF5D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DF3F-1FF7-47E5-AB38-19E75B91C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71F-80DE-49CD-A214-30F39266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85C-C6E5-4CC6-8C8E-0954CF33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6A4-3C68-4F45-978E-BCA29A28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57B-0674-4F36-9B7F-FFC9EDE6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7A4-DFD0-4FC4-8FBC-C306BF44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15F-BD14-47D7-B09F-15EDB18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76C-8DAC-4374-8A70-40D713D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E3A-41D4-4020-B920-A0160672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B1D-C226-4922-BCFF-1A42D09E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E2C-9FF5-43BC-9E6D-6D84217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0DE-3D5C-4EFF-BCF0-C97F9C9F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76C-8E5B-4297-AFE3-43ADAA30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972-0A3B-4F67-898F-DF5A6AF9F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Аварии на химически опасных объектах и их возможные последств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Аварии и катастрофы\CAWTICLB.jpg"/>
          <p:cNvPicPr/>
          <p:nvPr/>
        </p:nvPicPr>
        <p:blipFill>
          <a:blip r:embed="rId1"/>
          <a:stretch/>
        </p:blipFill>
        <p:spPr>
          <a:xfrm>
            <a:off x="2268360" y="2492280"/>
            <a:ext cx="4537080" cy="2908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15120" cy="1643040"/>
          </a:xfrm>
          <a:prstGeom prst="rect">
            <a:avLst/>
          </a:prstGeom>
          <a:solidFill>
            <a:srgbClr val="e8e5e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Характеристика АХОВ использующиеся в производств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8400" y="1714680"/>
            <a:ext cx="4071960" cy="464328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Бесцветный газ, с резким удушающим запахом нашатырного спи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Легче возду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2920" y="1714680"/>
            <a:ext cx="4038840" cy="464328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ХЛ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Зеленовато-жёлтый газ, с резким удушающим запахо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лор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Тяжелее возду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Documents and Settings\Завуч\Мои документы\Мои рисунки\i_004.jpg"/>
          <p:cNvPicPr/>
          <p:nvPr/>
        </p:nvPicPr>
        <p:blipFill>
          <a:blip r:embed="rId1"/>
          <a:stretch/>
        </p:blipFill>
        <p:spPr>
          <a:xfrm>
            <a:off x="993600" y="4643280"/>
            <a:ext cx="2921040" cy="128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Documents and Settings\Завуч\Мои документы\Мои рисунки\i_019.jpg"/>
          <p:cNvPicPr/>
          <p:nvPr/>
        </p:nvPicPr>
        <p:blipFill>
          <a:blip r:embed="rId2"/>
          <a:stretch/>
        </p:blipFill>
        <p:spPr>
          <a:xfrm>
            <a:off x="5857920" y="4572000"/>
            <a:ext cx="1714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480" y="142560"/>
            <a:ext cx="3995640" cy="671508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3.Примен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зотная кисл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жидкие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с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нашатырный спи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при серебрение зерк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в качестве хладагента в холодильных установ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4.Признаки отрав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здражает органы дыхания, глаза, кож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Учащенное сердцеби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смор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ш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зкая боль в глаз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ошн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редовое состоя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0" y="285840"/>
            <a:ext cx="4114800" cy="657216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3.Примен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хлорирование в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для получения пластмас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раствор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дезинфицирующие, отбеливающие, моющие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изводство глице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4.Признаки отрав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зкая боль в гру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ухой каш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в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рушение координации дви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тды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зь в глаз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лезоточив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28400" y="356760"/>
            <a:ext cx="4066920" cy="628668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5.Защи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ГП всех ти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Ватно-марливая повязка смоченная в 2% растворе питьевой с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6.Мед.помощ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надеть противог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нести из опасной зо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жу обмыть водой, при ожогах наложить повяз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ранспортировать в положении лё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 остановке дыхания сделать искусственное дых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3280" y="357120"/>
            <a:ext cx="4043520" cy="621504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5.Защи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ГП всех ти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Ватно-марливая повязка смоченная в 5% растворе лимонной кисл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6.Мед.помощ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надеть противог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нести из опасной зо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жу обмыть водой, при ожогах наложить повяз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 остановке дыхания сделать искусственное дых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мыть гл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ать вдохнуть тёплые водяные па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Причи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712d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Высокий уровень износа основных производственных фон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712d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Несовершенств</a:t>
            </a:r>
            <a:r>
              <a:rPr b="1" lang="ru-RU" sz="2800" spc="-1" strike="noStrike">
                <a:solidFill>
                  <a:srgbClr val="712d1c"/>
                </a:solidFill>
                <a:latin typeface="Arial"/>
              </a:rPr>
              <a:t>ование</a:t>
            </a: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 технологии произво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712d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Халатность промышленного персон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712d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Отсутствие современных систем защи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712d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Стихийные бед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Documents and Settings\Завуч\Мои документы\Мои рисунки\i_002.jpg"/>
          <p:cNvPicPr/>
          <p:nvPr/>
        </p:nvPicPr>
        <p:blipFill>
          <a:blip r:embed="rId1"/>
          <a:stretch/>
        </p:blipFill>
        <p:spPr>
          <a:xfrm>
            <a:off x="5435640" y="4552920"/>
            <a:ext cx="32083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оследств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94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9432b"/>
                </a:solidFill>
                <a:latin typeface="Calibri"/>
              </a:rPr>
              <a:t>Заражение окружающей среды А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94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9432b"/>
                </a:solidFill>
                <a:latin typeface="Calibri"/>
              </a:rPr>
              <a:t>Массовое поражение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94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9432b"/>
                </a:solidFill>
                <a:latin typeface="Calibri"/>
              </a:rPr>
              <a:t>Химическое заражение приземного слоя атмосф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94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9432b"/>
                </a:solidFill>
                <a:latin typeface="Calibri"/>
              </a:rPr>
              <a:t>Заражение водных источников, почвы, расти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Завуч\Мои документы\Мои рисунки\i_011.jpg"/>
          <p:cNvPicPr/>
          <p:nvPr/>
        </p:nvPicPr>
        <p:blipFill>
          <a:blip r:embed="rId1"/>
          <a:stretch/>
        </p:blipFill>
        <p:spPr>
          <a:xfrm>
            <a:off x="5429160" y="4292640"/>
            <a:ext cx="29289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Calibri"/>
              </a:rPr>
              <a:t>Очаг химического по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о участок местности, на котором разлился токсич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C:\Documents and Settings\Завуч\Мои документы\Мои рисунки\i_010.jpg"/>
          <p:cNvPicPr/>
          <p:nvPr/>
        </p:nvPicPr>
        <p:blipFill>
          <a:blip r:embed="rId1"/>
          <a:stretch/>
        </p:blipFill>
        <p:spPr>
          <a:xfrm>
            <a:off x="2286000" y="3286080"/>
            <a:ext cx="5000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Calibri"/>
              </a:rPr>
              <a:t>Зона химического за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о территория или акватория, в пределах которой распространены опасные химические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Documents and Settings\Завуч\Мои документы\Мои рисунки\i_016.jpg"/>
          <p:cNvPicPr/>
          <p:nvPr/>
        </p:nvPicPr>
        <p:blipFill>
          <a:blip r:embed="rId1"/>
          <a:stretch/>
        </p:blipFill>
        <p:spPr>
          <a:xfrm>
            <a:off x="1928880" y="3786120"/>
            <a:ext cx="6000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щита населения от АХ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F:\Картинки\Аварии и катастрофы\CAGXUK1V.jpg"/>
          <p:cNvPicPr/>
          <p:nvPr/>
        </p:nvPicPr>
        <p:blipFill>
          <a:blip r:embed="rId1"/>
          <a:stretch/>
        </p:blipFill>
        <p:spPr>
          <a:xfrm>
            <a:off x="2786040" y="157176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:\Картинки\Аварии и катастрофы\CAGQ35T7.jpg"/>
          <p:cNvPicPr/>
          <p:nvPr/>
        </p:nvPicPr>
        <p:blipFill>
          <a:blip r:embed="rId2"/>
          <a:stretch/>
        </p:blipFill>
        <p:spPr>
          <a:xfrm>
            <a:off x="6942240" y="2143080"/>
            <a:ext cx="1272960" cy="192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:\Картинки\Аварии и катастрофы\CAL774C5.jpg"/>
          <p:cNvPicPr/>
          <p:nvPr/>
        </p:nvPicPr>
        <p:blipFill>
          <a:blip r:embed="rId3"/>
          <a:stretch/>
        </p:blipFill>
        <p:spPr>
          <a:xfrm>
            <a:off x="5643720" y="4500720"/>
            <a:ext cx="1815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:\Картинки\Аварии и катастрофы\CAS12H4T.jpg"/>
          <p:cNvPicPr/>
          <p:nvPr/>
        </p:nvPicPr>
        <p:blipFill>
          <a:blip r:embed="rId4"/>
          <a:stretch/>
        </p:blipFill>
        <p:spPr>
          <a:xfrm>
            <a:off x="3071880" y="4429080"/>
            <a:ext cx="2214360" cy="1857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F:\Картинки\Аварии и катастрофы\CAUTPT8I.jpg"/>
          <p:cNvPicPr/>
          <p:nvPr/>
        </p:nvPicPr>
        <p:blipFill>
          <a:blip r:embed="rId5"/>
          <a:stretch/>
        </p:blipFill>
        <p:spPr>
          <a:xfrm>
            <a:off x="857160" y="2000160"/>
            <a:ext cx="1571760" cy="2000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F:\Картинки\Аварии и катастрофы\CAWX2J81.jpg"/>
          <p:cNvPicPr/>
          <p:nvPr/>
        </p:nvPicPr>
        <p:blipFill>
          <a:blip r:embed="rId6"/>
          <a:stretch/>
        </p:blipFill>
        <p:spPr>
          <a:xfrm>
            <a:off x="928800" y="4286160"/>
            <a:ext cx="1500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сновные способы защиты населения от АХ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редства индивидуальной защиты органов дых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1481c"/>
                </a:solidFill>
                <a:latin typeface="Calibri"/>
              </a:rPr>
              <a:t>(ватно-марлевая повязка, респиратор, противога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спользование защитных сооружений </a:t>
            </a:r>
            <a:r>
              <a:rPr b="1" i="1" lang="ru-RU" sz="3200" spc="-1" strike="noStrike">
                <a:solidFill>
                  <a:srgbClr val="71481c"/>
                </a:solidFill>
                <a:latin typeface="Calibri"/>
              </a:rPr>
              <a:t>(убежищ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ременные укрытие населения в жилых и общественных зда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вакуация населения из зон возможного за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щитных с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Выноска со стрелками влево/вправо 6"/>
          <p:cNvSpPr/>
          <p:nvPr/>
        </p:nvSpPr>
        <p:spPr>
          <a:xfrm>
            <a:off x="2143080" y="1643040"/>
            <a:ext cx="4500720" cy="2571840"/>
          </a:xfrm>
          <a:custGeom>
            <a:avLst/>
            <a:gdLst>
              <a:gd name="textAreaLeft" fmla="*/ 1167480 w 4500720"/>
              <a:gd name="textAreaRight" fmla="*/ 3333240 w 450072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8514" y="8100"/>
                </a:lnTo>
                <a:lnTo>
                  <a:pt x="18514" y="5500"/>
                </a:lnTo>
                <a:lnTo>
                  <a:pt x="21600" y="10800"/>
                </a:lnTo>
                <a:lnTo>
                  <a:pt x="18514" y="16100"/>
                </a:lnTo>
                <a:lnTo>
                  <a:pt x="18514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3086" y="13500"/>
                </a:lnTo>
                <a:lnTo>
                  <a:pt x="3086" y="16100"/>
                </a:lnTo>
                <a:lnTo>
                  <a:pt x="0" y="10800"/>
                </a:lnTo>
                <a:lnTo>
                  <a:pt x="3086" y="5500"/>
                </a:lnTo>
                <a:lnTo>
                  <a:pt x="3086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беж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870240" y="2786040"/>
            <a:ext cx="205812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стр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150120" y="2571840"/>
            <a:ext cx="178380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де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тоя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варийно химически опасное вещ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Химическое вещество, воздействие которого на человека может вызвать у него острые и хронические заболевания или даже привести к его гиб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F:\Аварии и катастрофы\CAW9I7WV.jpg"/>
          <p:cNvPicPr/>
          <p:nvPr/>
        </p:nvPicPr>
        <p:blipFill>
          <a:blip r:embed="rId1"/>
          <a:stretch/>
        </p:blipFill>
        <p:spPr>
          <a:xfrm>
            <a:off x="2700360" y="4075200"/>
            <a:ext cx="475128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вакуация нас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трелка вниз 3"/>
          <p:cNvSpPr/>
          <p:nvPr/>
        </p:nvSpPr>
        <p:spPr>
          <a:xfrm>
            <a:off x="2214720" y="1428840"/>
            <a:ext cx="785520" cy="14288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низ 4"/>
          <p:cNvSpPr/>
          <p:nvPr/>
        </p:nvSpPr>
        <p:spPr>
          <a:xfrm>
            <a:off x="6215040" y="1428840"/>
            <a:ext cx="714240" cy="135720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1714680" y="3000240"/>
            <a:ext cx="207144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214960" y="3000240"/>
            <a:ext cx="28573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8"/>
          <p:cNvCxnSpPr>
            <a:stCxn id="129" idx="2"/>
          </p:cNvCxnSpPr>
          <p:nvPr/>
        </p:nvCxnSpPr>
        <p:spPr>
          <a:xfrm>
            <a:off x="2749680" y="3584520"/>
            <a:ext cx="1751760" cy="1202040"/>
          </a:xfrm>
          <a:prstGeom prst="straightConnector1">
            <a:avLst/>
          </a:prstGeom>
          <a:ln w="4428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132" name="Прямая со стрелкой 10"/>
          <p:cNvCxnSpPr>
            <a:stCxn id="130" idx="2"/>
          </p:cNvCxnSpPr>
          <p:nvPr/>
        </p:nvCxnSpPr>
        <p:spPr>
          <a:xfrm flipH="1">
            <a:off x="4571280" y="3584520"/>
            <a:ext cx="2072520" cy="1202040"/>
          </a:xfrm>
          <a:prstGeom prst="straightConnector1">
            <a:avLst/>
          </a:prstGeom>
          <a:ln w="38160">
            <a:solidFill>
              <a:srgbClr val="d16349"/>
            </a:solidFill>
            <a:miter/>
            <a:tailEnd len="med" type="triangle" w="med"/>
          </a:ln>
        </p:spPr>
      </p:cxnSp>
      <p:sp>
        <p:nvSpPr>
          <p:cNvPr id="133" name="TextBox 13"/>
          <p:cNvSpPr/>
          <p:nvPr/>
        </p:nvSpPr>
        <p:spPr>
          <a:xfrm>
            <a:off x="2857680" y="4929120"/>
            <a:ext cx="364320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0080" y="3071520"/>
            <a:ext cx="7229520" cy="85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благовременные 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 5"/>
          <p:cNvSpPr/>
          <p:nvPr/>
        </p:nvSpPr>
        <p:spPr>
          <a:xfrm>
            <a:off x="428760" y="1285920"/>
            <a:ext cx="4143240" cy="1643040"/>
          </a:xfrm>
          <a:prstGeom prst="ellipse">
            <a:avLst/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оздание системы и установления порядка оповещения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6"/>
          <p:cNvSpPr/>
          <p:nvPr/>
        </p:nvSpPr>
        <p:spPr>
          <a:xfrm>
            <a:off x="2357280" y="5214960"/>
            <a:ext cx="4143600" cy="1643040"/>
          </a:xfrm>
          <a:prstGeom prst="ellipse">
            <a:avLst/>
          </a:prstGeom>
          <a:solidFill>
            <a:srgbClr val="a96d2b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готовка органов управления ГОЧ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428760" y="4071960"/>
            <a:ext cx="4143240" cy="16430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готовка укрытий, жилых и общественных зданий к защите от А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"/>
          <p:cNvSpPr/>
          <p:nvPr/>
        </p:nvSpPr>
        <p:spPr>
          <a:xfrm>
            <a:off x="4429080" y="4143240"/>
            <a:ext cx="4143600" cy="1643040"/>
          </a:xfrm>
          <a:prstGeom prst="ellipse">
            <a:avLst/>
          </a:prstGeom>
          <a:solidFill>
            <a:srgbClr val="d1cac6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пределение районов эвак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4429080" y="1357200"/>
            <a:ext cx="4143600" cy="164304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копление средств защиты и определение порядка обеспечения 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0"/>
          <p:cNvSpPr/>
          <p:nvPr/>
        </p:nvSpPr>
        <p:spPr>
          <a:xfrm>
            <a:off x="2428920" y="0"/>
            <a:ext cx="4143240" cy="1643040"/>
          </a:xfrm>
          <a:prstGeom prst="ellipse">
            <a:avLst/>
          </a:prstGeom>
          <a:solidFill>
            <a:srgbClr val="c5d1d7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готовка населения  к защите от А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Герметизация поме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4"/>
          <p:cNvSpPr/>
          <p:nvPr/>
        </p:nvSpPr>
        <p:spPr>
          <a:xfrm>
            <a:off x="642960" y="428760"/>
            <a:ext cx="3143160" cy="1485720"/>
          </a:xfrm>
          <a:prstGeom prst="ellipse">
            <a:avLst/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крыть входные двери и ок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5"/>
          <p:cNvSpPr/>
          <p:nvPr/>
        </p:nvSpPr>
        <p:spPr>
          <a:xfrm>
            <a:off x="5000760" y="357120"/>
            <a:ext cx="3786120" cy="1557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клеить вентиляционные отверстия плотным материалом или бума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714240" y="3786120"/>
            <a:ext cx="3500640" cy="200016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Уплотнить двери влажным материалом (мокрой простынёй, одеялом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4786200" y="4000680"/>
            <a:ext cx="3500640" cy="155700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еплотности оконных проёмов заклеить изнутри липкой лен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авила поведения при авариях с выбросом АХ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ключить радио или телевизор прослушать информацию и рекоменд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Надеть средства защиты органов дыхания и кож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рыть окна и форт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тключить газ, электрич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зять необходимые вещи и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Взять питание ( 3-х дневной запа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Укройтесь в ближайшем укрытие или покиньте район ава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4200" y="2857680"/>
            <a:ext cx="8715600" cy="113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Если нет убежищ и индивидуальных средств защ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вал 4"/>
          <p:cNvSpPr/>
          <p:nvPr/>
        </p:nvSpPr>
        <p:spPr>
          <a:xfrm>
            <a:off x="285840" y="428760"/>
            <a:ext cx="4071960" cy="1557360"/>
          </a:xfrm>
          <a:prstGeom prst="ellipse">
            <a:avLst/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ключить радио или телевидение прослушать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5"/>
          <p:cNvSpPr/>
          <p:nvPr/>
        </p:nvSpPr>
        <p:spPr>
          <a:xfrm>
            <a:off x="4500720" y="500040"/>
            <a:ext cx="4071960" cy="155736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тно закрыть окна и дв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6"/>
          <p:cNvSpPr/>
          <p:nvPr/>
        </p:nvSpPr>
        <p:spPr>
          <a:xfrm>
            <a:off x="4786200" y="4572000"/>
            <a:ext cx="4071960" cy="1557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сти герметизацию по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7"/>
          <p:cNvSpPr/>
          <p:nvPr/>
        </p:nvSpPr>
        <p:spPr>
          <a:xfrm>
            <a:off x="438120" y="4724280"/>
            <a:ext cx="4071960" cy="155736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ходные двери закрыть плотной ткан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357120"/>
            <a:ext cx="850104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ужно сделать при выходе из зоны за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2"/>
          <p:cNvSpPr/>
          <p:nvPr/>
        </p:nvSpPr>
        <p:spPr>
          <a:xfrm>
            <a:off x="1071720" y="1785960"/>
            <a:ext cx="6786360" cy="771480"/>
          </a:xfrm>
          <a:prstGeom prst="ellipse">
            <a:avLst/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нимите верхнюю одеж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143000" y="3000240"/>
            <a:ext cx="6786720" cy="771840"/>
          </a:xfrm>
          <a:prstGeom prst="ellipse">
            <a:avLst/>
          </a:prstGeom>
          <a:solidFill>
            <a:srgbClr val="0070c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Примите душ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214280" y="4000680"/>
            <a:ext cx="6786720" cy="77148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Тщательно промойте 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6"/>
          <p:cNvSpPr/>
          <p:nvPr/>
        </p:nvSpPr>
        <p:spPr>
          <a:xfrm>
            <a:off x="1214280" y="5286240"/>
            <a:ext cx="6786720" cy="771840"/>
          </a:xfrm>
          <a:prstGeom prst="ellipse">
            <a:avLst/>
          </a:prstGeom>
          <a:solidFill>
            <a:srgbClr val="f6e0db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полощите 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715600" cy="1131840"/>
          </a:xfrm>
          <a:prstGeom prst="rect">
            <a:avLst/>
          </a:prstGeom>
          <a:solidFill>
            <a:srgbClr val="f6e0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и движение на зараженной местности соблюдайте следующие прави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игаться быстро, но не бегите и не поднимайте пы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прислоняйтесь к зданиям и не касайтесь окружающих предм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наступайте на встречающие в пыли капли жидкости или порошкообразной россыпи неизвес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снимайте средств индивидуальной защи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принимайте пищу и не пейте в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ути поступления АХОВ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1"/>
          <p:cNvPicPr/>
          <p:nvPr/>
        </p:nvPicPr>
        <p:blipFill>
          <a:blip r:embed="rId1"/>
          <a:stretch/>
        </p:blipFill>
        <p:spPr>
          <a:xfrm>
            <a:off x="3635280" y="1700280"/>
            <a:ext cx="5265720" cy="49975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1494000" y="1403280"/>
            <a:ext cx="3132000" cy="1656000"/>
          </a:xfrm>
          <a:prstGeom prst="cloudCallout">
            <a:avLst>
              <a:gd name="adj1" fmla="val 89430"/>
              <a:gd name="adj2" fmla="val 2254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ез гл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1673280" y="2241720"/>
            <a:ext cx="2771640" cy="1655640"/>
          </a:xfrm>
          <a:prstGeom prst="cloudCallout">
            <a:avLst>
              <a:gd name="adj1" fmla="val 105097"/>
              <a:gd name="adj2" fmla="val -18935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ез н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854360" y="2708280"/>
            <a:ext cx="2771640" cy="1655640"/>
          </a:xfrm>
          <a:prstGeom prst="cloudCallout">
            <a:avLst>
              <a:gd name="adj1" fmla="val 104412"/>
              <a:gd name="adj2" fmla="val -25648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ез р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0" y="4940280"/>
            <a:ext cx="3059280" cy="1655640"/>
          </a:xfrm>
          <a:prstGeom prst="cloudCallout">
            <a:avLst>
              <a:gd name="adj1" fmla="val 94523"/>
              <a:gd name="adj2" fmla="val -32356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ез ко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упнейшие потреби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ёрная и цветная металлург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хлор, аммиак, соляную кислоту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Целлюлозно-бумажная промышленнос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хлор, аммиак, сернистый ангидрид, сероводород, соляная кисло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шиностроительная и оборонная промышленнос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хлор, аммиак, соляная кислота, водород фтористы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мунальное хозяйств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хлор, аммиа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дицинская промышленнос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аммиак, хлор, фосген, нитрил акриловые кислоты, соляная кисло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ельское хозяйств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 аммиак, хлорпикрин, сернистый ангидри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имически-опасный объект (ХО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о объект, при аварии на котором или при его разрушении могут произойти массовые поражения людей, животных и растений АХ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Documents and Settings\Завуч\Мои документы\Мои рисунки\i_018.jpg"/>
          <p:cNvPicPr/>
          <p:nvPr/>
        </p:nvPicPr>
        <p:blipFill>
          <a:blip r:embed="rId1"/>
          <a:stretch/>
        </p:blipFill>
        <p:spPr>
          <a:xfrm>
            <a:off x="3000240" y="3903840"/>
            <a:ext cx="33642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Городские предприятия, использующие опасные химические веще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397044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аллургический за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шиностроительный за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дитерская фаб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ивоваренный за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кероводочный за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584600" y="1628640"/>
            <a:ext cx="3657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ясо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локо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ладо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мунальное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ции водооч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Химическая авария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(Х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о авария на ХОО, сопровождающаяся разливом или выбросом АХОВ, способным привести к гибели или химическому  заражению людей, продовольствия, пищевого сырья и кормов, с\х животных и растений или химическому заражению окружающей природной сре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лассифик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79240" y="1500120"/>
            <a:ext cx="1878480" cy="581400"/>
          </a:xfrm>
          <a:prstGeom prst="rect">
            <a:avLst/>
          </a:prstGeom>
          <a:noFill/>
          <a:ln w="381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5"/>
          <p:cNvCxnSpPr>
            <a:stCxn id="72" idx="3"/>
          </p:cNvCxnSpPr>
          <p:nvPr/>
        </p:nvCxnSpPr>
        <p:spPr>
          <a:xfrm flipV="1">
            <a:off x="2465280" y="1785600"/>
            <a:ext cx="821520" cy="72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74" name="TextBox 6"/>
          <p:cNvSpPr/>
          <p:nvPr/>
        </p:nvSpPr>
        <p:spPr>
          <a:xfrm>
            <a:off x="3445200" y="1571760"/>
            <a:ext cx="36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а с преимуще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ушающим дейст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79960" y="2357280"/>
            <a:ext cx="1991160" cy="581400"/>
          </a:xfrm>
          <a:prstGeom prst="rect">
            <a:avLst/>
          </a:prstGeom>
          <a:noFill/>
          <a:ln w="381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9"/>
          <p:cNvCxnSpPr>
            <a:stCxn id="75" idx="3"/>
          </p:cNvCxnSpPr>
          <p:nvPr/>
        </p:nvCxnSpPr>
        <p:spPr>
          <a:xfrm flipV="1">
            <a:off x="2579400" y="2642760"/>
            <a:ext cx="778680" cy="72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77" name="TextBox 10"/>
          <p:cNvSpPr/>
          <p:nvPr/>
        </p:nvSpPr>
        <p:spPr>
          <a:xfrm>
            <a:off x="3508560" y="24289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а  преимуще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ядовитого  дейст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651240" y="3929040"/>
            <a:ext cx="1991160" cy="581400"/>
          </a:xfrm>
          <a:prstGeom prst="rect">
            <a:avLst/>
          </a:prstGeom>
          <a:noFill/>
          <a:ln w="381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13"/>
          <p:cNvCxnSpPr/>
          <p:nvPr/>
        </p:nvCxnSpPr>
        <p:spPr>
          <a:xfrm flipV="1">
            <a:off x="2571480" y="3428640"/>
            <a:ext cx="849960" cy="72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80" name="TextBox 14"/>
          <p:cNvSpPr/>
          <p:nvPr/>
        </p:nvSpPr>
        <p:spPr>
          <a:xfrm>
            <a:off x="3521160" y="3286080"/>
            <a:ext cx="46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а  обладающие удушающим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ядовитым  дейст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651240" y="4857840"/>
            <a:ext cx="1991160" cy="581400"/>
          </a:xfrm>
          <a:prstGeom prst="rect">
            <a:avLst/>
          </a:prstGeom>
          <a:noFill/>
          <a:ln w="381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17"/>
          <p:cNvCxnSpPr>
            <a:stCxn id="81" idx="3"/>
          </p:cNvCxnSpPr>
          <p:nvPr/>
        </p:nvCxnSpPr>
        <p:spPr>
          <a:xfrm flipV="1">
            <a:off x="2650680" y="5142960"/>
            <a:ext cx="849960" cy="68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83" name="TextBox 18"/>
          <p:cNvSpPr/>
          <p:nvPr/>
        </p:nvSpPr>
        <p:spPr>
          <a:xfrm>
            <a:off x="579960" y="3143160"/>
            <a:ext cx="1991160" cy="581400"/>
          </a:xfrm>
          <a:prstGeom prst="rect">
            <a:avLst/>
          </a:prstGeom>
          <a:noFill/>
          <a:ln w="381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579960" y="5857920"/>
            <a:ext cx="1991160" cy="581400"/>
          </a:xfrm>
          <a:prstGeom prst="rect">
            <a:avLst/>
          </a:prstGeom>
          <a:noFill/>
          <a:ln w="381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21"/>
          <p:cNvCxnSpPr/>
          <p:nvPr/>
        </p:nvCxnSpPr>
        <p:spPr>
          <a:xfrm flipV="1">
            <a:off x="2642760" y="4285800"/>
            <a:ext cx="778680" cy="72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86" name="Прямая со стрелкой 23"/>
          <p:cNvCxnSpPr>
            <a:stCxn id="84" idx="3"/>
          </p:cNvCxnSpPr>
          <p:nvPr/>
        </p:nvCxnSpPr>
        <p:spPr>
          <a:xfrm flipV="1">
            <a:off x="2579400" y="6143040"/>
            <a:ext cx="778680" cy="68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87" name="TextBox 24"/>
          <p:cNvSpPr/>
          <p:nvPr/>
        </p:nvSpPr>
        <p:spPr>
          <a:xfrm>
            <a:off x="3587040" y="414324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йтропного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3744360" y="4786200"/>
            <a:ext cx="46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а, облад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ушающим и нейтропным  дейст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3658320" y="60008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болические 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{7AC32DE9-40D0-4187-8A0D-5DADC0E5CAFD}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8:09:01Z</dcterms:created>
  <dc:creator>Елена</dc:creator>
  <dc:description/>
  <dc:language>en-US</dc:language>
  <cp:lastModifiedBy>Перовы</cp:lastModifiedBy>
  <dcterms:modified xsi:type="dcterms:W3CDTF">2012-12-18T14:42:14Z</dcterms:modified>
  <cp:revision>39</cp:revision>
  <dc:subject/>
  <dc:title>Аварии с выбросом аварийно-химически опасных веществ (АХОВ)</dc:title>
</cp:coreProperties>
</file>