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1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19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20.wmf" ContentType="image/x-wmf"/>
  <Override PartName="/ppt/media/image7.gif" ContentType="image/gi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616-D72E-4729-B34C-7FE9B38A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E51-B914-4913-AA4A-7C8B8599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C8BCA-45F2-4A1E-A820-6E6CB77E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38F4D-F723-4085-8640-0C422A05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89618-BCC9-43B6-BF8F-C97DD736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30D6C-5331-4CFA-9521-F3F045E1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661C5-75FD-44F2-B967-5BF76804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8FC89-9030-4984-82D6-875FB8D5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FE6D6-3489-4EF1-8B79-AEA8455B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514C3-C0DF-4D27-8DD3-6FE46F2D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ADDE7-9F80-490D-9FE5-3669C71C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AD975-C256-4047-85F7-10994E77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194-719D-4FC7-892C-0EF9B3C1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C6397-C948-4480-A4C2-B6FC17F6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9766A-47AA-4431-BEFF-41F1FEF5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941CA-45B0-4FBD-8D85-6850C966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C56D3-B94F-402A-A2BA-4821C41B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2F44B-14BA-478D-875F-A11EB2D2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45D6A-8EE5-4143-A333-C0CB9408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C53CD-954F-4942-B2A4-37E730E7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48EEE-0CDC-4305-B325-4CD89D1A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7D631-BC7F-48D8-8380-191042DF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0E1B0-4D18-4CEE-94FF-637D2262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29E-96DF-4AF4-AC4A-978BF0A6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5C4AB-380C-451A-BBB7-4EC1868F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9F4A0-2B08-40D8-8F5F-E3479A2A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23B2E-50C5-488F-BFFB-94ADE63D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0E0D1-0357-4D9A-BED7-7B53FE63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2795B-FB72-403E-8561-0165C162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2CF37-22C7-4161-8165-D7DD34D8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D5BD0-907C-495C-959A-5B2064FC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61533-A497-4326-9E87-BBEC625D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2925D-5AF6-4BE7-B909-85CBE834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1D117-4035-42C8-8496-EB3D47F3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FD1F-2801-4FBA-A9A7-72079613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86737-9649-4B4F-86D5-7F6FA686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F94EA-2312-4880-B507-00D83900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FB7F0-BD95-4E24-B5E6-38B98FC5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AAE7E-1E73-4695-A75E-689DC7E1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F12DA-44CB-4E13-BEDC-23994928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AFBCE-E60D-4351-8B6D-B0F62142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8404D-DA59-4FE3-92A5-29B033A0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064D9-490D-4845-BC02-914EE8D4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69385-7359-4F1B-9C07-E79C54B3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35E49-7289-49BF-8383-D9C999E3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D5B2-FC44-42E0-A7C7-11A5811E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819F3-B5E1-4CF9-9800-2DE7B8AF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BFD67-5FC9-47EC-94C0-DE02AB84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67A8A-3DA4-4960-86AF-CC4CCAE6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EB91A-8E69-49AB-8EC3-3D03E228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E0923-0F73-4BDA-893F-BBA7808F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333F3-C8C4-427A-B7C0-179FD388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7CEAC-6A77-4E1D-932B-77BA5118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E6114-8928-46AE-8C98-F44BD919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22E4A-E5A3-4BDB-B6ED-F43C8596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926FA7-369C-4806-B2AC-F6DC709F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CC4F-C28F-4582-934F-72002A99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468CD-EF45-4102-87D3-50D761B2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97761-55C9-48AD-9DAE-FFE05F2B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D1849-FD74-440B-BDBE-50335EA4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28801-91A2-41A9-B044-F042F5B7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78EB2-618B-4639-82BF-267DC565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4402D-0D1B-46F9-9347-BDFDB4B6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D730C-7C79-418C-9479-629DAF34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23349E-C4DE-4540-9AD7-79ED5C0C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CA099F-5CC2-42A9-8E96-F5A359EA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7C23B4-877B-4E01-A1D7-AB0D3D28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593A-8CCF-4340-A489-7B8D1FB0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F68EAF2-003D-4B67-8BA6-288E0D58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59C9AD-C810-4A66-8728-E79331D1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A1EDCA-15F3-4768-B51E-DC44AF8F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C5A242-07E4-42C8-84A8-8E7E6CC2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3A559D0-AD24-4EFF-8BAF-CF8B662D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BB7407-3D5F-49E7-83C1-FC1354AE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6B9C75-B43E-42B8-BDA8-95F77253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2DB458F-EE70-4DB3-A4F4-A27D01A6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FEAEEA-7CD1-47E3-9405-67CFBA75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9E3AC1-5277-4CA5-9CF4-2F2BD584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92F7-D17F-4735-AF4C-8CB72A18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0B3E26A-5F0B-4DC8-9BFD-08A30F70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3669B9-EF0C-4D67-B471-E2D946FB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2EFC36-58F8-4D7A-9E23-3421831B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8C736C-CB2B-4F0F-804C-86CCCBB8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32C00F-46C6-4F85-BD96-94090F09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BFCE1DD-F962-4B22-A919-2CB1EEC0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D8BC17-04D1-4F11-B951-D2F7C857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58C8558-763D-439C-9C33-0D9C4FB2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F7EFE90-919C-4EA3-BC38-090D8F72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46E577-7EBE-4CF7-AD7E-CFC7936B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0003-4358-457B-8D93-A0B29318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20376C-B5C5-49CE-ACCA-FE4EFFC9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7617A8-F911-481D-A8DA-8C76A887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A1338E-8730-4B25-9BCD-4C383DA6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08B17B-A80A-45B3-B41F-FA359766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795D91-0B60-4B0C-868D-781880FB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6D46B-5FBE-4361-9E33-9DCE0CD9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18144A-96F0-4665-93F2-B44BE229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A850F3-BE8D-486E-9DCB-3FB964F1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F25711-3DC6-491C-87E1-195E5824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B26A17-E603-4745-95EF-8D9256A7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9E0F-364F-49BF-B5BB-F9CB1644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4283A2-37B3-4972-AF47-571716D3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FD1ED7-7C04-4C8F-8178-2000C6B7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82264B-C8C8-4968-B19D-EB5C9268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F588DD8-C57F-4BED-B9FB-212F651E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4A832D3-FBAA-4419-ABEE-1A0BE67C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21D19BB-875C-43D7-9E60-98914A7E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D22E02B-9184-45BC-A052-93718392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ED2ACBD-50D2-49A5-A9D4-630C7EF7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151D23D-98C4-4C23-99C7-575656D8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9CE5C95-83B4-4234-A154-CC24885A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BB8-CA94-4F2D-8B31-9F025C50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E76C-1222-4703-86DE-99EFAA77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8C32CA9-760A-4836-839A-D571F567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F05A376-219B-4A86-AEDF-1830D7A4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391189-A311-4F5A-BCD6-8225BA02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81407FC-14BD-47EC-B65D-28CEB6FD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C945D53-55D9-4B73-802D-80F65F30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7F92-4D5F-4BC7-872F-40748307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FB88-A5C8-4746-B3B0-D5DD2394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9233-CBBB-47CF-99F7-3DC6DE2B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CBA3-D605-4B95-9469-1C31D75C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B675-1493-4B73-BBF0-4934B072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63A38-0EBF-44EF-856B-19FD113A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09B47-5485-4071-8083-6C4DA744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105A8-5102-470E-A02F-6C90B945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7782A-D011-4E7B-BA35-330B3E80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CE7-6D5D-40B5-BE19-E3F6A320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314E-528A-4912-A53A-84433BFD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91C70-6387-49DA-8937-9F277CB6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00EB-FA9D-4224-A672-3EB7F1A3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16E64-952F-40FD-A35D-43988E38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66EE6-4BF2-40BC-A9A5-4C82431C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07306-4BD5-4A9A-9388-0164FEE2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FE51-CE7A-4EA9-94E6-0A14D11C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0B54D-A1B8-4004-9E24-2A32E44E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41DB5-CDE1-4A22-B89B-36C003B2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1F05-91A1-44D1-83E7-DE983EF7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AF0-1072-4697-8530-B24CA8A2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03754-B760-4962-8BDE-6226B323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1B13-3617-401A-A56D-AC48651A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C0FC1-9178-4CA7-B527-99089396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0C675-ED76-4A9E-A30C-D8F5C51F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8338A-170F-4B3B-888B-E6E37F66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AB32A-C08A-42D6-8F41-49C05F37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9DECB-06C3-461F-9173-3BCB3ABE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DBE04-8BCF-4B22-B3E8-E61DEF5E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6458B-4EB6-4195-96FF-5BF82876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5FE9E-B5D0-40C9-A00C-3F9294B7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060-DFC7-4D6E-9095-1625B7B2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04DA4-777F-4161-B797-0DD90421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6E4CD-BD88-4DC8-AB71-4488CAC5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B0789-08D6-4201-8766-AD0542E8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49CD0-BA9E-46AC-AD67-E98C54A1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36E9B-0424-4D75-99C8-78AD2941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5CDAA-0DE2-413F-8B72-D2DB3495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F8D87-9FE8-414D-AA7E-251519D3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09341-9C1D-4C07-86DB-22AEFAD5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B467B-351D-4486-BCBE-49329B9C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6ABCC-F3CC-47C2-977A-D38BBF7A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199-9C34-4979-8D22-CDF39DE1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D40B9-7C94-40BB-9406-6150F7E3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1B2A1-D6CA-4388-A092-A2C5B821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52071-D193-4C29-A891-3A68201C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0C2FA-A8D8-4F12-9028-5CFF5271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985DE-75BB-4C95-BAAC-209AC3B2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41369-8D8E-499A-B46F-D1F0844F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6C688-71B1-48DB-9D4E-844DB5C8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CD8E3-8A45-4B9A-9007-296492CA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EFFD7-7C66-4955-8D49-426FBA1A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00329-484C-4BE5-9878-C2732154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E5D-4FB5-4915-99F9-567AEBD2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363B4-F1CA-49C6-A107-74D9F532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6A273-48BE-4B5B-91BB-3063DF9B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6DE97-5021-4001-ADD9-F0F44ECE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EB86D-A75F-4DA8-BB53-FC5043EF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2C8F0-A95C-41FE-A48A-613A4B62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03459-E055-4E71-898A-5675F7CF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60919-6D19-4794-86BD-3D4F0836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C045F-9CA4-4FD1-A5BD-198AA8B5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5A21A-0251-4651-B8A5-5F70B97B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A6B36-F0E7-49F8-BEBD-C43B1BEF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503-6C8E-475C-881D-9EE63088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05CE9-F2D6-4474-ABE8-23F808A9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BCA25-BBBE-42DE-9E2F-F5EC0A6D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10AF9-031E-407F-BBB2-292AF0DA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E27A5-ACDD-4A4F-B46B-9A355ADD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6F787-FF66-4286-BD82-1DF5066B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013D2-2E75-4FB0-9703-1B82DCF2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DE039-991A-4E16-98B4-8484CE75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AC549-0DB0-47AA-814A-A648E818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CA46E-D168-48CC-9900-36E9EEF2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B9712-7732-44CF-9D2D-C67F3EB0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8A4-1D23-4314-85C0-6769F11A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7FAC9-00A4-47B1-A695-CE8A9517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DADD3-6C01-4BA1-9B9F-664DE8B4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5CE7F-8E87-46F2-A646-44446F99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01FE4-95B8-4A4D-841A-26BAD68C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5645B-425D-408C-94E7-28326351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6BDE5-8FAF-4B82-9F24-4B5D8474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5C071-1D11-4599-8A26-43E29F7D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AA01E-BD6C-4128-8D49-CBE8C3E2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12900-EAFE-49AE-9678-A719E1BA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1D373-C34F-4CC1-83E5-AD2D85A2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3E46-C9A5-4EFA-8817-B84C94AE5C0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123C-9E8B-4B2A-A7E9-2E85693C13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2AF5-5418-4E2D-BCCB-5C1498DC48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1D82-9922-4BD8-9F1C-85F9196C3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9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D3ED-137F-4111-97D4-7B354D2699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4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58AD-42EA-4E3A-92CB-F03B706B5E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42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sldNum" idx="43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1EA2-1172-47F2-95D0-4C3FDAA24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dt" idx="44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ftr" idx="45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4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4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4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C863-02B4-4FBD-A22E-D52DF3B819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sldNum" idx="49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E7C2-80A5-4C31-93F0-30AB2C7ABA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dt" idx="5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ftr" idx="5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5B15-0AD9-45D4-9164-836E8B0EDD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9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609E-DDD0-45D2-850A-BBC09E0E237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4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F4F1-54F3-4244-8444-3977EA87B24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A524-D823-4259-A67E-DCA6AFCEAD0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4B0E-DEFB-47F5-AF60-C061AE5A2BE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9B8A-15B1-4BBB-96B2-E2E99DDEDE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50C3-9703-46F1-9C2C-E262291DBF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2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7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E8B0-5AB3-45D2-9A6D-52B97D3D9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обрани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о 2 «В» классе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Критерии оценок во 2 классе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Verdana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07f09"/>
                </a:solidFill>
                <a:latin typeface="Verdana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Как воспринимать  отметки ребёнка? </a:t>
            </a:r>
            <a:br>
              <a:rPr sz="3200"/>
            </a:b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3200"/>
            </a:br>
            <a:br>
              <a:rPr sz="4100"/>
            </a:br>
            <a:br>
              <a:rPr sz="41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766f"/>
                </a:solidFill>
                <a:latin typeface="Verdana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Verdana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848484"/>
                </a:solidFill>
                <a:uFillTx/>
                <a:latin typeface="Verdana"/>
              </a:rPr>
              <a:t>врать и изворачиваться</a:t>
            </a: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9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Verdana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2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5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866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9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3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???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48484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Verdana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48484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7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?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e69ca4"/>
          </a:solidFill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2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Rectangle 2" descr=""/>
          <p:cNvPicPr/>
          <p:nvPr/>
        </p:nvPicPr>
        <p:blipFill>
          <a:blip r:embed="rId1"/>
          <a:stretch/>
        </p:blipFill>
        <p:spPr>
          <a:xfrm>
            <a:off x="1214280" y="142920"/>
            <a:ext cx="7429680" cy="6429240"/>
          </a:xfrm>
          <a:prstGeom prst="rect">
            <a:avLst/>
          </a:prstGeom>
          <a:ln w="0">
            <a:noFill/>
          </a:ln>
        </p:spPr>
      </p:pic>
      <p:sp>
        <p:nvSpPr>
          <p:cNvPr id="829" name="Прямоугольник 4"/>
          <p:cNvSpPr/>
          <p:nvPr/>
        </p:nvSpPr>
        <p:spPr>
          <a:xfrm>
            <a:off x="2500200" y="5857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96d2b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a96d2b"/>
                </a:solidFill>
                <a:latin typeface="Arial"/>
              </a:rPr>
              <a:t>Р. Кипл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4" descr="Карандаш"/>
          <p:cNvPicPr/>
          <p:nvPr/>
        </p:nvPicPr>
        <p:blipFill>
          <a:blip r:embed="rId2"/>
          <a:stretch/>
        </p:blipFill>
        <p:spPr>
          <a:xfrm>
            <a:off x="7929720" y="3929040"/>
            <a:ext cx="1684080" cy="24606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4" descr="Глобус"/>
          <p:cNvPicPr/>
          <p:nvPr/>
        </p:nvPicPr>
        <p:blipFill>
          <a:blip r:embed="rId3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ак правильно помогать ребёнку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884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885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1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892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900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914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919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«Как помочь ребенку                                           выполнить домашнее задание»</a:t>
            </a:r>
            <a:br>
              <a:rPr sz="49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2286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итм выполнения домашнего задания               индивидуален для каждого ребенка                 Не Но не Не следует   затягивать выполнение более рекомендуемых нор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4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то надо помнить 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мните об этом!!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48484"/>
                </a:solidFill>
                <a:latin typeface="Verdana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48484"/>
                </a:solidFill>
                <a:latin typeface="Verdana"/>
              </a:rPr>
              <a:t>учиться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48484"/>
                </a:solidFill>
                <a:latin typeface="Verdana"/>
              </a:rPr>
              <a:t>         </a:t>
            </a:r>
            <a:r>
              <a:rPr b="1" i="1" lang="ru-RU" sz="3600" spc="-1" strike="noStrike">
                <a:solidFill>
                  <a:srgbClr val="848484"/>
                </a:solidFill>
                <a:latin typeface="Verdana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87952"/>
                </a:solidFill>
                <a:latin typeface="Verdana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87952"/>
                </a:solidFill>
                <a:latin typeface="Verdana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Verdana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Verdana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Verdana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Verdana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Verdana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Verdana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Verdana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6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d96b77"/>
          </a:solidFill>
          <a:ln w="0">
            <a:noFill/>
          </a:ln>
        </p:spPr>
        <p:txBody>
          <a:bodyPr lIns="182880" tIns="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Verdana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3232"/>
                    </a:gs>
                    <a:gs pos="100000">
                      <a:srgbClr val="f07f09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3232"/>
                  </a:gs>
                  <a:gs pos="100000">
                    <a:srgbClr val="f07f09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- не более 2-х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или 1ошибка и 2 исправ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Verdana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Verdana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Verdana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Verdana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3 ошибки и боле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Verdana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Verdana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3 и более ошиб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5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Школа</cp:lastModifiedBy>
  <dcterms:modified xsi:type="dcterms:W3CDTF">2017-12-27T05:30:08Z</dcterms:modified>
  <cp:revision>86</cp:revision>
  <dc:subject/>
  <dc:title>PowerPoint Template</dc:title>
</cp:coreProperties>
</file>