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996F-DB96-421E-A05F-E60211EB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18B-A405-4036-984B-BD6C3A40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EBDE-53D7-4CCE-9534-BABE15BA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9EDD-4996-479B-8D75-8C4228F1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2C07-DCD4-495C-8301-0CA3F254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6BA8-7C98-4C11-A02E-FF8CA960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45BE-CB4A-41A4-97F9-C3AA8280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1FB1-1A8C-436A-9BA4-01AA1A00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0C04-1DD4-40BA-BC5A-F88A7B74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BA5F-A643-4A21-B186-E0C58FC3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34DD-85A9-4638-B1BE-F1D601A7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2EB-36FC-423D-A898-2A9F0C54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B0E8-F70C-4A5E-AF6D-F7ECBD40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38CC-4795-46AF-A248-8AC5E3F6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A14A-2896-4E34-9A69-B2503244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557B-5CD0-434E-B5A9-987641C1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7871-6ECB-49FE-B0CF-43BDE07A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70A-E596-4B63-981A-BC4E5E6B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67E-C913-46BD-80C7-F12D8B3D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C807-E039-410B-B088-1A49255A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18E-30AC-4C08-ADC0-8023FA16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FF1-0F7C-4760-AA43-CB1F4D6D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105A-8125-463E-9073-08F1BE04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E864-B018-4A0C-92D2-7330DA49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2482-539B-4A55-ACD9-0121DE0D98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2655-0A69-430F-957F-5B20FA5143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713880"/>
            <a:ext cx="8569080" cy="365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Система оценивания</a:t>
            </a:r>
            <a:r>
              <a:rPr b="1" i="1" lang="en-US" sz="40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на уроках английского языка по ФГ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1680" y="4245120"/>
            <a:ext cx="821520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 Black"/>
              </a:rPr>
              <a:t>Новые приорите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6720" y="-360"/>
            <a:ext cx="71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Формы оцени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Выбор определяется этапом обучения, общими и специальными целями обучения, текущими учебными задачами; целью получения информ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"/>
                <a:ea typeface="Arial"/>
              </a:rPr>
              <a:t>интегральная оценка, </a:t>
            </a:r>
            <a:r>
              <a:rPr b="0" i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в том числе, портфолио, выставки, презентации, и </a:t>
            </a: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"/>
                <a:ea typeface="Arial"/>
              </a:rPr>
              <a:t>дифференцированная оценка </a:t>
            </a:r>
            <a:r>
              <a:rPr b="0" i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отдельных аспектов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"/>
                <a:ea typeface="Arial"/>
              </a:rPr>
              <a:t>самоанализ и самооценка </a:t>
            </a:r>
            <a:r>
              <a:rPr b="0" i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обучаю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6720" y="-360"/>
            <a:ext cx="71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Источники информации для оцени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работы у</a:t>
            </a:r>
            <a:r>
              <a:rPr b="0" i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чащихся (домашние задания, мини-проекты и презентации, разнообразные тексты, отчеты о наблюдениях и экспериментах,  дневники, собранные массивы данных, подборки информационных материалов,  а также разнообразные инициативные творческие работы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индивидуальная и совместная деятельность </a:t>
            </a:r>
            <a:r>
              <a:rPr b="0" i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учащихся в ходе выполнения рабо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результаты тест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(результаты устных и письменных проверочных работ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Формирующее оцен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Формирующее оценивание </a:t>
            </a:r>
            <a:r>
              <a:rPr b="0" i="1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0" i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format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Оценка применяется для получения данных о текущем состоянии для определения ближайших шагов в направлении улуч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0" i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Процесс поиска и интерпретации данных, которые ученики и их учителя используют для того, чтобы решить, как далеко ученики уже продвинулись в своей учёбе,  куда им необходимо продвинуться и как сделать это наилучшим образ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        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Assessment Reform Group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 (20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bject 2"/>
          <p:cNvSpPr/>
          <p:nvPr/>
        </p:nvSpPr>
        <p:spPr>
          <a:xfrm>
            <a:off x="714240" y="285840"/>
            <a:ext cx="79869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Инструменты    формирующ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оцен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ject 3"/>
          <p:cNvSpPr/>
          <p:nvPr/>
        </p:nvSpPr>
        <p:spPr>
          <a:xfrm>
            <a:off x="57240" y="3181320"/>
            <a:ext cx="2724120" cy="933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ject 4"/>
          <p:cNvSpPr/>
          <p:nvPr/>
        </p:nvSpPr>
        <p:spPr>
          <a:xfrm>
            <a:off x="958680" y="3427560"/>
            <a:ext cx="1097280" cy="3661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к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ject 5"/>
          <p:cNvSpPr/>
          <p:nvPr/>
        </p:nvSpPr>
        <p:spPr>
          <a:xfrm>
            <a:off x="57240" y="4334040"/>
            <a:ext cx="264780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ject 6"/>
          <p:cNvSpPr/>
          <p:nvPr/>
        </p:nvSpPr>
        <p:spPr>
          <a:xfrm>
            <a:off x="720720" y="4535640"/>
            <a:ext cx="1413000" cy="36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нев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ject 7"/>
          <p:cNvSpPr/>
          <p:nvPr/>
        </p:nvSpPr>
        <p:spPr>
          <a:xfrm>
            <a:off x="0" y="5486400"/>
            <a:ext cx="3057480" cy="85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ject 8"/>
          <p:cNvSpPr/>
          <p:nvPr/>
        </p:nvSpPr>
        <p:spPr>
          <a:xfrm>
            <a:off x="290520" y="5659560"/>
            <a:ext cx="2335320" cy="36612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bject 9"/>
          <p:cNvSpPr/>
          <p:nvPr/>
        </p:nvSpPr>
        <p:spPr>
          <a:xfrm>
            <a:off x="6181560" y="3114720"/>
            <a:ext cx="2724480" cy="1123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ject 10"/>
          <p:cNvSpPr/>
          <p:nvPr/>
        </p:nvSpPr>
        <p:spPr>
          <a:xfrm>
            <a:off x="6816600" y="3270240"/>
            <a:ext cx="1629000" cy="731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2920" indent="-400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ллект- 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ject 11"/>
          <p:cNvSpPr/>
          <p:nvPr/>
        </p:nvSpPr>
        <p:spPr>
          <a:xfrm>
            <a:off x="6114960" y="4267080"/>
            <a:ext cx="2800440" cy="11239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ject 12"/>
          <p:cNvSpPr/>
          <p:nvPr/>
        </p:nvSpPr>
        <p:spPr>
          <a:xfrm>
            <a:off x="6467400" y="4421160"/>
            <a:ext cx="2257560" cy="3661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5720" indent="-573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сенк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bject 13"/>
          <p:cNvSpPr/>
          <p:nvPr/>
        </p:nvSpPr>
        <p:spPr>
          <a:xfrm>
            <a:off x="0" y="1886040"/>
            <a:ext cx="2867040" cy="12286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bject 14"/>
          <p:cNvSpPr/>
          <p:nvPr/>
        </p:nvSpPr>
        <p:spPr>
          <a:xfrm>
            <a:off x="390600" y="2095560"/>
            <a:ext cx="2317680" cy="7318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646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сты самооцен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bject 15"/>
          <p:cNvSpPr/>
          <p:nvPr/>
        </p:nvSpPr>
        <p:spPr>
          <a:xfrm>
            <a:off x="6181560" y="5486400"/>
            <a:ext cx="2657520" cy="9050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bject 16"/>
          <p:cNvSpPr/>
          <p:nvPr/>
        </p:nvSpPr>
        <p:spPr>
          <a:xfrm>
            <a:off x="6551640" y="5683320"/>
            <a:ext cx="2011320" cy="731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bject 17"/>
          <p:cNvSpPr/>
          <p:nvPr/>
        </p:nvSpPr>
        <p:spPr>
          <a:xfrm>
            <a:off x="3071880" y="1785960"/>
            <a:ext cx="2724120" cy="1047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ject 18"/>
          <p:cNvSpPr/>
          <p:nvPr/>
        </p:nvSpPr>
        <p:spPr>
          <a:xfrm>
            <a:off x="3751200" y="2189160"/>
            <a:ext cx="156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тфо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bject 20"/>
          <p:cNvSpPr/>
          <p:nvPr/>
        </p:nvSpPr>
        <p:spPr>
          <a:xfrm>
            <a:off x="3162240" y="5343480"/>
            <a:ext cx="2714760" cy="1047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bject 21"/>
          <p:cNvSpPr/>
          <p:nvPr/>
        </p:nvSpPr>
        <p:spPr>
          <a:xfrm>
            <a:off x="3527280" y="5464080"/>
            <a:ext cx="2081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58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конченные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bject 22"/>
          <p:cNvSpPr/>
          <p:nvPr/>
        </p:nvSpPr>
        <p:spPr>
          <a:xfrm>
            <a:off x="6124680" y="1886040"/>
            <a:ext cx="3019320" cy="10764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bject 23"/>
          <p:cNvSpPr/>
          <p:nvPr/>
        </p:nvSpPr>
        <p:spPr>
          <a:xfrm>
            <a:off x="6665760" y="2019240"/>
            <a:ext cx="2173320" cy="1097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30360" indent="-619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ветовая симво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1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ject 19"/>
          <p:cNvSpPr/>
          <p:nvPr/>
        </p:nvSpPr>
        <p:spPr>
          <a:xfrm>
            <a:off x="3276720" y="3284640"/>
            <a:ext cx="2471760" cy="165708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bject 2"/>
          <p:cNvSpPr/>
          <p:nvPr/>
        </p:nvSpPr>
        <p:spPr>
          <a:xfrm>
            <a:off x="826920" y="404640"/>
            <a:ext cx="7925040" cy="1143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4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Ответ на вопросы</a:t>
            </a:r>
            <a:br>
              <a:rPr sz="3200"/>
            </a:b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(метод неоконченных предложений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58920" y="2249280"/>
            <a:ext cx="6626160" cy="19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072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не понравилось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 почувствовал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 теперь буду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  <a:ea typeface="Calibri"/>
              </a:rPr>
              <a:t>Cumulative Evaluation     </a:t>
            </a:r>
            <a:br>
              <a:rPr sz="2400"/>
            </a:br>
            <a:r>
              <a:rPr b="1" i="1" lang="en-US" sz="2400" spc="-1" strike="noStrike">
                <a:solidFill>
                  <a:srgbClr val="7030a0"/>
                </a:solidFill>
                <a:latin typeface="Arial"/>
                <a:ea typeface="Calibri"/>
              </a:rPr>
              <a:t> Student’s Self-Assessment Forms</a:t>
            </a:r>
            <a:br>
              <a:rPr sz="2400"/>
            </a:br>
            <a:r>
              <a:rPr b="1" i="1" lang="en-US" sz="2400" spc="-1" strike="noStrike">
                <a:solidFill>
                  <a:srgbClr val="7030a0"/>
                </a:solidFill>
                <a:latin typeface="Arial"/>
                <a:ea typeface="Calibri"/>
              </a:rPr>
              <a:t>Name…….                                        Module  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428840" y="1500120"/>
          <a:ext cx="7024680" cy="3997440"/>
        </p:xfrm>
        <a:graphic>
          <a:graphicData uri="http://schemas.openxmlformats.org/drawingml/2006/table">
            <a:tbl>
              <a:tblPr/>
              <a:tblGrid>
                <a:gridCol w="2070000"/>
                <a:gridCol w="549360"/>
                <a:gridCol w="550800"/>
                <a:gridCol w="550800"/>
                <a:gridCol w="550800"/>
                <a:gridCol w="550800"/>
                <a:gridCol w="549360"/>
                <a:gridCol w="550800"/>
                <a:gridCol w="551160"/>
                <a:gridCol w="550800"/>
              </a:tblGrid>
              <a:tr h="70164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 Black"/>
                          <a:ea typeface="Calibri"/>
                        </a:rPr>
                        <a:t>I can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 Black"/>
                          <a:ea typeface="Calibri"/>
                        </a:rPr>
                        <a:t>rem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 Black"/>
                          <a:ea typeface="Calibri"/>
                        </a:rPr>
                        <a:t>s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 Black"/>
                          <a:ea typeface="Calibri"/>
                        </a:rPr>
                        <a:t>read and wr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384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is is my big sist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er name is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o’s Ma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er grandm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62280" rIns="622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wo yellow bo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62280" rIns="622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ow I fe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500120" y="2357280"/>
          <a:ext cx="6077160" cy="3399120"/>
        </p:xfrm>
        <a:graphic>
          <a:graphicData uri="http://schemas.openxmlformats.org/drawingml/2006/table">
            <a:tbl>
              <a:tblPr/>
              <a:tblGrid>
                <a:gridCol w="3038400"/>
                <a:gridCol w="3038760"/>
              </a:tblGrid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Arial Black"/>
                          <a:ea typeface="Calibri"/>
                        </a:rPr>
                        <a:t>Children’s n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Arial Black"/>
                          <a:ea typeface="Calibri"/>
                        </a:rPr>
                        <a:t>Mark    and 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2"/>
          <p:cNvSpPr/>
          <p:nvPr/>
        </p:nvSpPr>
        <p:spPr>
          <a:xfrm>
            <a:off x="642960" y="321120"/>
            <a:ext cx="728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  <a:ea typeface="Calibri"/>
              </a:rPr>
              <a:t>  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  <a:ea typeface="Calibri"/>
              </a:rPr>
              <a:t>Formative Eval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  <a:ea typeface="Calibri"/>
              </a:rPr>
              <a:t>Chart for games an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  <a:ea typeface="Calibri"/>
              </a:rPr>
              <a:t>Name of game/ activity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  <a:ea typeface="Calibri"/>
              </a:rPr>
              <a:t>…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  <a:ea typeface="Calibri"/>
              </a:rPr>
              <a:t>Aim of game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  <a:ea typeface="Calibri"/>
              </a:rPr>
              <a:t>Module…………………Unit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"/>
          <p:cNvSpPr/>
          <p:nvPr/>
        </p:nvSpPr>
        <p:spPr>
          <a:xfrm>
            <a:off x="857160" y="5929200"/>
            <a:ext cx="72360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Evaluation     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  <a:ea typeface="Calibri"/>
              </a:rPr>
              <a:t>Criteria         c (green)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Calibri"/>
              </a:rPr>
              <a:t>w (yellow)              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Calibri"/>
              </a:rPr>
              <a:t>n (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ариант 1.</a:t>
            </a:r>
            <a:br>
              <a:rPr sz="2400"/>
            </a:br>
            <a:r>
              <a:rPr b="1" i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Лист самооценки работы группы</a:t>
            </a:r>
            <a:br>
              <a:rPr sz="2400"/>
            </a:br>
            <a:r>
              <a:rPr b="0" i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Оцени работу своей групп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ли члены группы принимали участие в работ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) Да, все работали одинаков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 Нет, работал только один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) кто- то работал больше, кто- то меньше друг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жно ли вы работали? Были ссор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) Работали дружно, ссор не был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 Работали дружно, спорили, но не ссорилис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) Очень трудно было договариваться, не всегда получало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бе нравится результат работы групп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) Да, всё получилось хорош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 Нравится, но можно сделать лучш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) Нет, не нрави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Оцени свой вклад в работу групп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) Почти всё сделали без мен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 Я сделал очень много, без меня работа бы не получилас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) Я принимал участие в обсужд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228960" bIns="0" anchor="ctr">
            <a:noAutofit/>
          </a:bodyPr>
          <a:p>
            <a:pPr marL="200664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Лист самооце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bject 3"/>
          <p:cNvSpPr/>
          <p:nvPr/>
        </p:nvSpPr>
        <p:spPr>
          <a:xfrm>
            <a:off x="611280" y="1844640"/>
            <a:ext cx="635616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ject 4"/>
          <p:cNvSpPr/>
          <p:nvPr/>
        </p:nvSpPr>
        <p:spPr>
          <a:xfrm>
            <a:off x="6967440" y="1844640"/>
            <a:ext cx="75420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ject 5"/>
          <p:cNvSpPr/>
          <p:nvPr/>
        </p:nvSpPr>
        <p:spPr>
          <a:xfrm>
            <a:off x="7721640" y="1844640"/>
            <a:ext cx="569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ject 6"/>
          <p:cNvSpPr/>
          <p:nvPr/>
        </p:nvSpPr>
        <p:spPr>
          <a:xfrm>
            <a:off x="8291520" y="1844640"/>
            <a:ext cx="45720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ject 7"/>
          <p:cNvSpPr/>
          <p:nvPr/>
        </p:nvSpPr>
        <p:spPr>
          <a:xfrm>
            <a:off x="611280" y="2241720"/>
            <a:ext cx="6356160" cy="792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ject 8"/>
          <p:cNvSpPr/>
          <p:nvPr/>
        </p:nvSpPr>
        <p:spPr>
          <a:xfrm>
            <a:off x="6967440" y="2241720"/>
            <a:ext cx="754200" cy="792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ject 9"/>
          <p:cNvSpPr/>
          <p:nvPr/>
        </p:nvSpPr>
        <p:spPr>
          <a:xfrm>
            <a:off x="7721640" y="2241720"/>
            <a:ext cx="569880" cy="792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ject 10"/>
          <p:cNvSpPr/>
          <p:nvPr/>
        </p:nvSpPr>
        <p:spPr>
          <a:xfrm>
            <a:off x="8291520" y="2241720"/>
            <a:ext cx="457200" cy="792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ject 11"/>
          <p:cNvSpPr/>
          <p:nvPr/>
        </p:nvSpPr>
        <p:spPr>
          <a:xfrm>
            <a:off x="611280" y="3033720"/>
            <a:ext cx="6356160" cy="39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ject 12"/>
          <p:cNvSpPr/>
          <p:nvPr/>
        </p:nvSpPr>
        <p:spPr>
          <a:xfrm>
            <a:off x="6967440" y="3033720"/>
            <a:ext cx="754200" cy="39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ject 13"/>
          <p:cNvSpPr/>
          <p:nvPr/>
        </p:nvSpPr>
        <p:spPr>
          <a:xfrm>
            <a:off x="7721640" y="3033720"/>
            <a:ext cx="569880" cy="39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ject 14"/>
          <p:cNvSpPr/>
          <p:nvPr/>
        </p:nvSpPr>
        <p:spPr>
          <a:xfrm>
            <a:off x="8291520" y="3033720"/>
            <a:ext cx="457200" cy="39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ject 15"/>
          <p:cNvSpPr/>
          <p:nvPr/>
        </p:nvSpPr>
        <p:spPr>
          <a:xfrm>
            <a:off x="611280" y="3429000"/>
            <a:ext cx="6356160" cy="39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ject 16"/>
          <p:cNvSpPr/>
          <p:nvPr/>
        </p:nvSpPr>
        <p:spPr>
          <a:xfrm>
            <a:off x="6967440" y="3429000"/>
            <a:ext cx="754200" cy="39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ject 17"/>
          <p:cNvSpPr/>
          <p:nvPr/>
        </p:nvSpPr>
        <p:spPr>
          <a:xfrm>
            <a:off x="7721640" y="3429000"/>
            <a:ext cx="569880" cy="39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ject 18"/>
          <p:cNvSpPr/>
          <p:nvPr/>
        </p:nvSpPr>
        <p:spPr>
          <a:xfrm>
            <a:off x="8291520" y="3429000"/>
            <a:ext cx="457200" cy="39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ject 19"/>
          <p:cNvSpPr/>
          <p:nvPr/>
        </p:nvSpPr>
        <p:spPr>
          <a:xfrm>
            <a:off x="611280" y="3825720"/>
            <a:ext cx="635616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ject 20"/>
          <p:cNvSpPr/>
          <p:nvPr/>
        </p:nvSpPr>
        <p:spPr>
          <a:xfrm>
            <a:off x="6967440" y="3825720"/>
            <a:ext cx="75420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ject 21"/>
          <p:cNvSpPr/>
          <p:nvPr/>
        </p:nvSpPr>
        <p:spPr>
          <a:xfrm>
            <a:off x="7721640" y="3825720"/>
            <a:ext cx="569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bject 22"/>
          <p:cNvSpPr/>
          <p:nvPr/>
        </p:nvSpPr>
        <p:spPr>
          <a:xfrm>
            <a:off x="8291520" y="3825720"/>
            <a:ext cx="45720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bject 23"/>
          <p:cNvSpPr/>
          <p:nvPr/>
        </p:nvSpPr>
        <p:spPr>
          <a:xfrm>
            <a:off x="611280" y="4222800"/>
            <a:ext cx="6356160" cy="39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ject 24"/>
          <p:cNvSpPr/>
          <p:nvPr/>
        </p:nvSpPr>
        <p:spPr>
          <a:xfrm>
            <a:off x="6967440" y="4222800"/>
            <a:ext cx="754200" cy="39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ject 25"/>
          <p:cNvSpPr/>
          <p:nvPr/>
        </p:nvSpPr>
        <p:spPr>
          <a:xfrm>
            <a:off x="7721640" y="4222800"/>
            <a:ext cx="569880" cy="39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ject 26"/>
          <p:cNvSpPr/>
          <p:nvPr/>
        </p:nvSpPr>
        <p:spPr>
          <a:xfrm>
            <a:off x="8291520" y="4222800"/>
            <a:ext cx="457200" cy="39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ject 27"/>
          <p:cNvSpPr/>
          <p:nvPr/>
        </p:nvSpPr>
        <p:spPr>
          <a:xfrm>
            <a:off x="611280" y="4618080"/>
            <a:ext cx="6356160" cy="39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ject 28"/>
          <p:cNvSpPr/>
          <p:nvPr/>
        </p:nvSpPr>
        <p:spPr>
          <a:xfrm>
            <a:off x="6967440" y="4618080"/>
            <a:ext cx="754200" cy="39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ject 29"/>
          <p:cNvSpPr/>
          <p:nvPr/>
        </p:nvSpPr>
        <p:spPr>
          <a:xfrm>
            <a:off x="7721640" y="4618080"/>
            <a:ext cx="569880" cy="39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ject 30"/>
          <p:cNvSpPr/>
          <p:nvPr/>
        </p:nvSpPr>
        <p:spPr>
          <a:xfrm>
            <a:off x="8291520" y="4618080"/>
            <a:ext cx="457200" cy="39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bject 31"/>
          <p:cNvSpPr/>
          <p:nvPr/>
        </p:nvSpPr>
        <p:spPr>
          <a:xfrm>
            <a:off x="611280" y="5014800"/>
            <a:ext cx="6356160" cy="39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bject 32"/>
          <p:cNvSpPr/>
          <p:nvPr/>
        </p:nvSpPr>
        <p:spPr>
          <a:xfrm>
            <a:off x="6967440" y="5014800"/>
            <a:ext cx="754200" cy="39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bject 33"/>
          <p:cNvSpPr/>
          <p:nvPr/>
        </p:nvSpPr>
        <p:spPr>
          <a:xfrm>
            <a:off x="7721640" y="5014800"/>
            <a:ext cx="569880" cy="39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ject 34"/>
          <p:cNvSpPr/>
          <p:nvPr/>
        </p:nvSpPr>
        <p:spPr>
          <a:xfrm>
            <a:off x="8291520" y="5014800"/>
            <a:ext cx="457200" cy="39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ject 35"/>
          <p:cNvSpPr/>
          <p:nvPr/>
        </p:nvSpPr>
        <p:spPr>
          <a:xfrm>
            <a:off x="611280" y="5410080"/>
            <a:ext cx="813744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04800" y="1838160"/>
          <a:ext cx="8137440" cy="3967200"/>
        </p:xfrm>
        <a:graphic>
          <a:graphicData uri="http://schemas.openxmlformats.org/drawingml/2006/table">
            <a:tbl>
              <a:tblPr/>
              <a:tblGrid>
                <a:gridCol w="6356520"/>
                <a:gridCol w="753840"/>
                <a:gridCol w="569880"/>
                <a:gridCol w="457200"/>
              </a:tblGrid>
              <a:tr h="397080">
                <a:tc>
                  <a:txBody>
                    <a:bodyPr lIns="0" rIns="0" tIns="0" bIns="0" anchor="t">
                      <a:noAutofit/>
                    </a:bodyPr>
                    <a:p>
                      <a:pPr marL="620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Как я работал с одноклассникам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***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2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**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8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>
                  <a:txBody>
                    <a:bodyPr lIns="0" rIns="0" tIns="0" bIns="0" anchor="t">
                      <a:noAutofit/>
                    </a:bodyPr>
                    <a:p>
                      <a:pPr marL="60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1f5f"/>
                          </a:solidFill>
                          <a:latin typeface="Calibri"/>
                          <a:ea typeface="Times New Roman"/>
                        </a:rPr>
                        <a:t>Я сотрудничал с другими, когда мы работали над достижением общей цели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0" rIns="0" tIns="0" bIns="0" anchor="t">
                      <a:noAutofit/>
                    </a:bodyPr>
                    <a:p>
                      <a:pPr marL="60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1f5f"/>
                          </a:solidFill>
                          <a:latin typeface="Calibri"/>
                          <a:ea typeface="Times New Roman"/>
                        </a:rPr>
                        <a:t>Я активно работал над заданиям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0" rIns="0" tIns="0" bIns="0" anchor="t">
                      <a:noAutofit/>
                    </a:bodyPr>
                    <a:p>
                      <a:pPr marL="60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1f5f"/>
                          </a:solidFill>
                          <a:latin typeface="Calibri"/>
                          <a:ea typeface="Times New Roman"/>
                        </a:rPr>
                        <a:t>Я затруднялся ответить на вопрос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0" rIns="0" tIns="0" bIns="0" anchor="t">
                      <a:noAutofit/>
                    </a:bodyPr>
                    <a:p>
                      <a:pPr marL="60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1f5f"/>
                          </a:solidFill>
                          <a:latin typeface="Calibri"/>
                          <a:ea typeface="Times New Roman"/>
                        </a:rPr>
                        <a:t>Я предлагал решение проблем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0" rIns="0" tIns="0" bIns="0" anchor="t">
                      <a:noAutofit/>
                    </a:bodyPr>
                    <a:p>
                      <a:pPr marL="60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1f5f"/>
                          </a:solidFill>
                          <a:latin typeface="Calibri"/>
                          <a:ea typeface="Times New Roman"/>
                        </a:rPr>
                        <a:t>Я работал только тогда, когда меня просил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0" rIns="0" tIns="0" bIns="0" anchor="t">
                      <a:noAutofit/>
                    </a:bodyPr>
                    <a:p>
                      <a:pPr marL="60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1f5f"/>
                          </a:solidFill>
                          <a:latin typeface="Calibri"/>
                          <a:ea typeface="Times New Roman"/>
                        </a:rPr>
                        <a:t>Я помогал други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0" rIns="0" tIns="0" bIns="0" anchor="t">
                      <a:noAutofit/>
                    </a:bodyPr>
                    <a:p>
                      <a:pPr marL="60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1f5f"/>
                          </a:solidFill>
                          <a:latin typeface="Calibri"/>
                          <a:ea typeface="Times New Roman"/>
                        </a:rPr>
                        <a:t>Я хочу так работать и дальш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 gridSpan="4">
                  <a:txBody>
                    <a:bodyPr lIns="0" rIns="0" tIns="0" bIns="0" anchor="t">
                      <a:noAutofit/>
                    </a:bodyPr>
                    <a:p>
                      <a:pPr marL="60480">
                        <a:lnSpc>
                          <a:spcPct val="100000"/>
                        </a:lnSpc>
                        <a:tabLst>
                          <a:tab algn="l" pos="0"/>
                          <a:tab algn="l" pos="30751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1f5f"/>
                          </a:solidFill>
                          <a:latin typeface="Calibri"/>
                          <a:ea typeface="Times New Roman"/>
                        </a:rPr>
                        <a:t>*** - очень активно,</a:t>
                      </a:r>
                      <a:r>
                        <a:rPr b="0" lang="ru-RU" sz="2600" spc="-1" strike="noStrike">
                          <a:solidFill>
                            <a:srgbClr val="001f5f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r>
                        <a:rPr b="0" lang="ru-RU" sz="2600" spc="-1" strike="noStrike">
                          <a:solidFill>
                            <a:srgbClr val="001f5f"/>
                          </a:solidFill>
                          <a:latin typeface="Calibri"/>
                          <a:ea typeface="Times New Roman"/>
                        </a:rPr>
                        <a:t>** - хорошо, * - не очень активн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object 2"/>
          <p:cNvSpPr/>
          <p:nvPr/>
        </p:nvSpPr>
        <p:spPr>
          <a:xfrm>
            <a:off x="1523880" y="541440"/>
            <a:ext cx="65278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44560" indent="-83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Лист индивидуальных достижений при изучении темы,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bject 3"/>
          <p:cNvSpPr/>
          <p:nvPr/>
        </p:nvSpPr>
        <p:spPr>
          <a:xfrm>
            <a:off x="826920" y="2060640"/>
            <a:ext cx="3703680" cy="10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ject 4"/>
          <p:cNvSpPr/>
          <p:nvPr/>
        </p:nvSpPr>
        <p:spPr>
          <a:xfrm>
            <a:off x="4530600" y="2060640"/>
            <a:ext cx="2070360" cy="10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bject 5"/>
          <p:cNvSpPr/>
          <p:nvPr/>
        </p:nvSpPr>
        <p:spPr>
          <a:xfrm>
            <a:off x="6600960" y="2060640"/>
            <a:ext cx="1919160" cy="10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ject 6"/>
          <p:cNvSpPr/>
          <p:nvPr/>
        </p:nvSpPr>
        <p:spPr>
          <a:xfrm>
            <a:off x="826920" y="3127320"/>
            <a:ext cx="3703680" cy="143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ject 7"/>
          <p:cNvSpPr/>
          <p:nvPr/>
        </p:nvSpPr>
        <p:spPr>
          <a:xfrm>
            <a:off x="4530600" y="3127320"/>
            <a:ext cx="2070360" cy="143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ject 8"/>
          <p:cNvSpPr/>
          <p:nvPr/>
        </p:nvSpPr>
        <p:spPr>
          <a:xfrm>
            <a:off x="6600960" y="3127320"/>
            <a:ext cx="1919160" cy="143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bject 9"/>
          <p:cNvSpPr/>
          <p:nvPr/>
        </p:nvSpPr>
        <p:spPr>
          <a:xfrm>
            <a:off x="826920" y="4559400"/>
            <a:ext cx="3703680" cy="143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ject 10"/>
          <p:cNvSpPr/>
          <p:nvPr/>
        </p:nvSpPr>
        <p:spPr>
          <a:xfrm>
            <a:off x="4530600" y="4559400"/>
            <a:ext cx="2070360" cy="143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ject 11"/>
          <p:cNvSpPr/>
          <p:nvPr/>
        </p:nvSpPr>
        <p:spPr>
          <a:xfrm>
            <a:off x="6600960" y="4559400"/>
            <a:ext cx="1919160" cy="143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28760" y="2071800"/>
          <a:ext cx="8335800" cy="3932280"/>
        </p:xfrm>
        <a:graphic>
          <a:graphicData uri="http://schemas.openxmlformats.org/drawingml/2006/table">
            <a:tbl>
              <a:tblPr/>
              <a:tblGrid>
                <a:gridCol w="3500280"/>
                <a:gridCol w="2643120"/>
                <a:gridCol w="2192400"/>
              </a:tblGrid>
              <a:tr h="1066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ланируем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мооцен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4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4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чител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Что такое оценивание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 механизм сопоставления фактических результатов учащегося с ожидаемыми результатами  обучения учебных программ , для корректировки планирования и организации обуче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Урок полезен, все понятно. -----------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Лишь кое-что чуть-чуть неясно.----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Еще придется потрудиться.---------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Да, трудно все-таки учиться!-------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142920" y="50004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Оцени сегодняшний урок знаком        «+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ст самооценки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«Дерево рост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b050"/>
                </a:solidFill>
                <a:latin typeface="Calibri"/>
              </a:rPr>
              <a:t>                         </a:t>
            </a:r>
            <a:r>
              <a:rPr b="1" i="1" lang="ru-RU" sz="2500" spc="-1" strike="noStrike">
                <a:solidFill>
                  <a:srgbClr val="00b050"/>
                </a:solidFill>
                <a:latin typeface="Calibri"/>
              </a:rPr>
              <a:t>«Дерево роста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b050"/>
                </a:solidFill>
                <a:latin typeface="Arial"/>
                <a:ea typeface="Arial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ть у каждого ученика. Этот лист самооценки очень удобно использовать при изучении целой темы. Ежедневно ученик оценивает свою работу на уроке - закрашивает человечка. Есть он, усвоил тему урока - закрашивает человечка полностью; если частично – половину человечка, плохо – только ножки. И таким образом он движется к вершине ЗНАНИЙ. А учителю легко проследить усвоение материала учеником на уро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C:\Documents and Settings\олег2\Рабочий стол\оцениваниеаттестация\дерево роста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357120" y="1357200"/>
            <a:ext cx="3111480" cy="4856400"/>
          </a:xfrm>
          <a:prstGeom prst="rect">
            <a:avLst/>
          </a:prstGeom>
          <a:ln w="25560">
            <a:solidFill>
              <a:srgbClr val="7189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  <a:ea typeface="Times New Roman"/>
              </a:rPr>
              <a:t>Лист самооценки и взаимооценки в работе над проектом</a:t>
            </a:r>
            <a:br>
              <a:rPr sz="65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28760" y="857160"/>
          <a:ext cx="7786440" cy="5137200"/>
        </p:xfrm>
        <a:graphic>
          <a:graphicData uri="http://schemas.openxmlformats.org/drawingml/2006/table">
            <a:tbl>
              <a:tblPr/>
              <a:tblGrid>
                <a:gridCol w="1798560"/>
                <a:gridCol w="1655640"/>
                <a:gridCol w="1903320"/>
                <a:gridCol w="2428920"/>
              </a:tblGrid>
              <a:tr h="112248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7030a0"/>
                          </a:solidFill>
                          <a:latin typeface="Arial"/>
                          <a:ea typeface="Arial"/>
                        </a:rPr>
                        <a:t>Критерий</a:t>
                      </a:r>
                      <a:br>
                        <a:rPr sz="1600"/>
                      </a:br>
                      <a:r>
                        <a:rPr b="1" i="1" lang="ru-RU" sz="1600" spc="-1" strike="noStrike">
                          <a:solidFill>
                            <a:srgbClr val="7030a0"/>
                          </a:solidFill>
                          <a:latin typeface="Arial"/>
                          <a:ea typeface="Arial"/>
                        </a:rPr>
                        <a:t>(за каждый критерий – от 0 до 5 балл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7030a0"/>
                          </a:solidFill>
                          <a:latin typeface="Arial"/>
                          <a:ea typeface="Arial"/>
                        </a:rPr>
                        <a:t>Моя</a:t>
                      </a:r>
                      <a:br>
                        <a:rPr sz="1600"/>
                      </a:br>
                      <a:r>
                        <a:rPr b="1" i="1" lang="ru-RU" sz="1600" spc="-1" strike="noStrike">
                          <a:solidFill>
                            <a:srgbClr val="7030a0"/>
                          </a:solidFill>
                          <a:latin typeface="Arial"/>
                          <a:ea typeface="Arial"/>
                        </a:rPr>
                        <a:t>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7030a0"/>
                          </a:solidFill>
                          <a:latin typeface="Arial"/>
                          <a:ea typeface="Arial"/>
                        </a:rPr>
                        <a:t>Оценка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7030a0"/>
                          </a:solidFill>
                          <a:latin typeface="Arial"/>
                          <a:ea typeface="Arial"/>
                        </a:rPr>
                        <a:t>Комментарий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 внес (-ла) большой вклад в работу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 умею выслушивать мнения других ребят, принимать другую точку з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 умею объяснять свою точку зрения, приводить доводы и убежд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 готов(а) принимать новые и неожиданные идеи, отличающиеся от моего первоначального м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73320" bIns="0" anchor="ctr">
            <a:noAutofit/>
          </a:bodyPr>
          <a:p>
            <a:pPr marL="21016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Оценочное по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469880" y="1838160"/>
          <a:ext cx="6912000" cy="3840480"/>
        </p:xfrm>
        <a:graphic>
          <a:graphicData uri="http://schemas.openxmlformats.org/drawingml/2006/table">
            <a:tbl>
              <a:tblPr/>
              <a:tblGrid>
                <a:gridCol w="3456000"/>
                <a:gridCol w="3456000"/>
              </a:tblGrid>
              <a:tr h="1706760">
                <a:tc>
                  <a:txBody>
                    <a:bodyPr lIns="0" rIns="0" tIns="0" bIns="0" anchor="t">
                      <a:noAutofit/>
                    </a:bodyPr>
                    <a:p>
                      <a:pPr marL="61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ERFEC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1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0" rIns="0" tIns="0" bIns="0" anchor="t">
                      <a:noAutofit/>
                    </a:bodyPr>
                    <a:p>
                      <a:pPr marL="61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VERY W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1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S!!!! HELP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373320" bIns="0" anchor="ctr">
            <a:noAutofit/>
          </a:bodyPr>
          <a:p>
            <a:pPr marL="210816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Наградной ли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object 3"/>
          <p:cNvSpPr/>
          <p:nvPr/>
        </p:nvSpPr>
        <p:spPr>
          <a:xfrm>
            <a:off x="838080" y="2362320"/>
            <a:ext cx="982800" cy="124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ject 4"/>
          <p:cNvSpPr/>
          <p:nvPr/>
        </p:nvSpPr>
        <p:spPr>
          <a:xfrm>
            <a:off x="1820880" y="2362320"/>
            <a:ext cx="1238400" cy="124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bject 5"/>
          <p:cNvSpPr/>
          <p:nvPr/>
        </p:nvSpPr>
        <p:spPr>
          <a:xfrm>
            <a:off x="3059280" y="2362320"/>
            <a:ext cx="3246120" cy="124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ject 6"/>
          <p:cNvSpPr/>
          <p:nvPr/>
        </p:nvSpPr>
        <p:spPr>
          <a:xfrm>
            <a:off x="6305400" y="2362320"/>
            <a:ext cx="2225880" cy="124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bject 7"/>
          <p:cNvSpPr/>
          <p:nvPr/>
        </p:nvSpPr>
        <p:spPr>
          <a:xfrm>
            <a:off x="838080" y="3606840"/>
            <a:ext cx="982800" cy="123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ject 8"/>
          <p:cNvSpPr/>
          <p:nvPr/>
        </p:nvSpPr>
        <p:spPr>
          <a:xfrm>
            <a:off x="1820880" y="3606840"/>
            <a:ext cx="1238400" cy="123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ject 9"/>
          <p:cNvSpPr/>
          <p:nvPr/>
        </p:nvSpPr>
        <p:spPr>
          <a:xfrm>
            <a:off x="3059280" y="3606840"/>
            <a:ext cx="3246120" cy="123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bject 10"/>
          <p:cNvSpPr/>
          <p:nvPr/>
        </p:nvSpPr>
        <p:spPr>
          <a:xfrm>
            <a:off x="6305400" y="3606840"/>
            <a:ext cx="2225880" cy="123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ject 11"/>
          <p:cNvSpPr/>
          <p:nvPr/>
        </p:nvSpPr>
        <p:spPr>
          <a:xfrm>
            <a:off x="838080" y="4846680"/>
            <a:ext cx="982800" cy="123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bject 12"/>
          <p:cNvSpPr/>
          <p:nvPr/>
        </p:nvSpPr>
        <p:spPr>
          <a:xfrm>
            <a:off x="1820880" y="4846680"/>
            <a:ext cx="1238400" cy="123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bject 13"/>
          <p:cNvSpPr/>
          <p:nvPr/>
        </p:nvSpPr>
        <p:spPr>
          <a:xfrm>
            <a:off x="3059280" y="4846680"/>
            <a:ext cx="3246120" cy="123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bject 14"/>
          <p:cNvSpPr/>
          <p:nvPr/>
        </p:nvSpPr>
        <p:spPr>
          <a:xfrm>
            <a:off x="6305400" y="4846680"/>
            <a:ext cx="2225880" cy="123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831960" y="2355840"/>
          <a:ext cx="7692840" cy="3724200"/>
        </p:xfrm>
        <a:graphic>
          <a:graphicData uri="http://schemas.openxmlformats.org/drawingml/2006/table">
            <a:tbl>
              <a:tblPr/>
              <a:tblGrid>
                <a:gridCol w="982440"/>
                <a:gridCol w="1238400"/>
                <a:gridCol w="3246480"/>
                <a:gridCol w="2225520"/>
              </a:tblGrid>
              <a:tr h="1244520">
                <a:tc>
                  <a:txBody>
                    <a:bodyPr lIns="0" rIns="0" tIns="0" bIns="0" anchor="t">
                      <a:noAutofit/>
                    </a:bodyPr>
                    <a:p>
                      <a:pPr marL="193680" indent="8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1f5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3200" spc="-1" strike="noStrike">
                          <a:solidFill>
                            <a:srgbClr val="001f5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1f5f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1f5f"/>
                          </a:solidFill>
                          <a:latin typeface="Times New Roman"/>
                          <a:ea typeface="Times New Roman"/>
                        </a:rPr>
                        <a:t>За что получи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1f5f"/>
                          </a:solidFill>
                          <a:latin typeface="Times New Roman"/>
                          <a:ea typeface="Times New Roman"/>
                        </a:rPr>
                        <a:t>наград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0280" indent="-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1f5f"/>
                          </a:solidFill>
                          <a:latin typeface="Times New Roman"/>
                          <a:ea typeface="Times New Roman"/>
                        </a:rPr>
                        <a:t>Подпись учител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object 2"/>
          <p:cNvSpPr/>
          <p:nvPr/>
        </p:nvSpPr>
        <p:spPr>
          <a:xfrm>
            <a:off x="1763640" y="2293920"/>
            <a:ext cx="360" cy="5587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ject 3"/>
          <p:cNvSpPr/>
          <p:nvPr/>
        </p:nvSpPr>
        <p:spPr>
          <a:xfrm>
            <a:off x="1763640" y="2852640"/>
            <a:ext cx="863640" cy="3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ject 4"/>
          <p:cNvSpPr/>
          <p:nvPr/>
        </p:nvSpPr>
        <p:spPr>
          <a:xfrm>
            <a:off x="2627280" y="2852640"/>
            <a:ext cx="360" cy="6476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bject 5"/>
          <p:cNvSpPr/>
          <p:nvPr/>
        </p:nvSpPr>
        <p:spPr>
          <a:xfrm>
            <a:off x="3492360" y="4149720"/>
            <a:ext cx="863640" cy="3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bject 6"/>
          <p:cNvSpPr/>
          <p:nvPr/>
        </p:nvSpPr>
        <p:spPr>
          <a:xfrm>
            <a:off x="4356000" y="4149720"/>
            <a:ext cx="360" cy="6476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bject 7"/>
          <p:cNvSpPr/>
          <p:nvPr/>
        </p:nvSpPr>
        <p:spPr>
          <a:xfrm>
            <a:off x="2627280" y="3500280"/>
            <a:ext cx="863640" cy="3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bject 8"/>
          <p:cNvSpPr/>
          <p:nvPr/>
        </p:nvSpPr>
        <p:spPr>
          <a:xfrm>
            <a:off x="3490920" y="3500280"/>
            <a:ext cx="360" cy="648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bject 9"/>
          <p:cNvSpPr/>
          <p:nvPr/>
        </p:nvSpPr>
        <p:spPr>
          <a:xfrm>
            <a:off x="2797200" y="382680"/>
            <a:ext cx="414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Лесенка успех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ject 10"/>
          <p:cNvSpPr/>
          <p:nvPr/>
        </p:nvSpPr>
        <p:spPr>
          <a:xfrm>
            <a:off x="3887640" y="4316400"/>
            <a:ext cx="419400" cy="52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bject 11"/>
          <p:cNvSpPr/>
          <p:nvPr/>
        </p:nvSpPr>
        <p:spPr>
          <a:xfrm>
            <a:off x="3851280" y="4292640"/>
            <a:ext cx="415800" cy="523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bject 12"/>
          <p:cNvSpPr/>
          <p:nvPr/>
        </p:nvSpPr>
        <p:spPr>
          <a:xfrm>
            <a:off x="2952720" y="3740040"/>
            <a:ext cx="419040" cy="527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bject 13"/>
          <p:cNvSpPr/>
          <p:nvPr/>
        </p:nvSpPr>
        <p:spPr>
          <a:xfrm>
            <a:off x="2916360" y="3716280"/>
            <a:ext cx="415800" cy="523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bject 14"/>
          <p:cNvSpPr/>
          <p:nvPr/>
        </p:nvSpPr>
        <p:spPr>
          <a:xfrm>
            <a:off x="1944720" y="3165480"/>
            <a:ext cx="419040" cy="527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bject 15"/>
          <p:cNvSpPr/>
          <p:nvPr/>
        </p:nvSpPr>
        <p:spPr>
          <a:xfrm>
            <a:off x="1908000" y="3141720"/>
            <a:ext cx="416160" cy="523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bject 16"/>
          <p:cNvSpPr/>
          <p:nvPr/>
        </p:nvSpPr>
        <p:spPr>
          <a:xfrm>
            <a:off x="4427640" y="4797360"/>
            <a:ext cx="863640" cy="3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bject 17"/>
          <p:cNvSpPr/>
          <p:nvPr/>
        </p:nvSpPr>
        <p:spPr>
          <a:xfrm>
            <a:off x="5291280" y="4797360"/>
            <a:ext cx="360" cy="6476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bject 18"/>
          <p:cNvSpPr/>
          <p:nvPr/>
        </p:nvSpPr>
        <p:spPr>
          <a:xfrm>
            <a:off x="4680000" y="4892760"/>
            <a:ext cx="419040" cy="527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bject 19"/>
          <p:cNvSpPr/>
          <p:nvPr/>
        </p:nvSpPr>
        <p:spPr>
          <a:xfrm>
            <a:off x="4643280" y="4869000"/>
            <a:ext cx="416160" cy="523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bject 20"/>
          <p:cNvSpPr/>
          <p:nvPr/>
        </p:nvSpPr>
        <p:spPr>
          <a:xfrm>
            <a:off x="179280" y="1216080"/>
            <a:ext cx="8713800" cy="10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bject 21"/>
          <p:cNvSpPr/>
          <p:nvPr/>
        </p:nvSpPr>
        <p:spPr>
          <a:xfrm>
            <a:off x="258840" y="1314360"/>
            <a:ext cx="83152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Плюсом отмечаются достижения в предмете, малейшие успе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98640" bIns="0" anchor="ctr">
            <a:noAutofit/>
          </a:bodyPr>
          <a:p>
            <a:pPr marL="9176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Волшебная линееч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bject 3"/>
          <p:cNvSpPr/>
          <p:nvPr/>
        </p:nvSpPr>
        <p:spPr>
          <a:xfrm>
            <a:off x="1116000" y="1773360"/>
            <a:ext cx="360" cy="25192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bject 4"/>
          <p:cNvSpPr/>
          <p:nvPr/>
        </p:nvSpPr>
        <p:spPr>
          <a:xfrm>
            <a:off x="1763640" y="1773360"/>
            <a:ext cx="1800" cy="25192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bject 5"/>
          <p:cNvSpPr/>
          <p:nvPr/>
        </p:nvSpPr>
        <p:spPr>
          <a:xfrm>
            <a:off x="1042920" y="4292640"/>
            <a:ext cx="216000" cy="3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bject 6"/>
          <p:cNvSpPr/>
          <p:nvPr/>
        </p:nvSpPr>
        <p:spPr>
          <a:xfrm>
            <a:off x="1692360" y="4292640"/>
            <a:ext cx="215640" cy="3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bject 7"/>
          <p:cNvSpPr/>
          <p:nvPr/>
        </p:nvSpPr>
        <p:spPr>
          <a:xfrm>
            <a:off x="735120" y="2244600"/>
            <a:ext cx="392040" cy="519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bject 8"/>
          <p:cNvSpPr/>
          <p:nvPr/>
        </p:nvSpPr>
        <p:spPr>
          <a:xfrm>
            <a:off x="814320" y="2336760"/>
            <a:ext cx="23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bject 9"/>
          <p:cNvSpPr/>
          <p:nvPr/>
        </p:nvSpPr>
        <p:spPr>
          <a:xfrm>
            <a:off x="1535040" y="2768760"/>
            <a:ext cx="23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bject 10"/>
          <p:cNvSpPr/>
          <p:nvPr/>
        </p:nvSpPr>
        <p:spPr>
          <a:xfrm>
            <a:off x="971640" y="1773360"/>
            <a:ext cx="360360" cy="3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bject 11"/>
          <p:cNvSpPr/>
          <p:nvPr/>
        </p:nvSpPr>
        <p:spPr>
          <a:xfrm>
            <a:off x="1476360" y="1773360"/>
            <a:ext cx="503280" cy="3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bject 12"/>
          <p:cNvSpPr/>
          <p:nvPr/>
        </p:nvSpPr>
        <p:spPr>
          <a:xfrm>
            <a:off x="879480" y="1216080"/>
            <a:ext cx="507960" cy="36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bject 13"/>
          <p:cNvSpPr/>
          <p:nvPr/>
        </p:nvSpPr>
        <p:spPr>
          <a:xfrm>
            <a:off x="958680" y="1285920"/>
            <a:ext cx="120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58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а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bject 14"/>
          <p:cNvSpPr/>
          <p:nvPr/>
        </p:nvSpPr>
        <p:spPr>
          <a:xfrm>
            <a:off x="2274840" y="1566720"/>
            <a:ext cx="517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1214280"/>
                <a:tab algn="l" pos="2797200"/>
                <a:tab algn="l" pos="4048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После</a:t>
            </a: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решения</a:t>
            </a: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любой</a:t>
            </a: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учеб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bject 15"/>
          <p:cNvSpPr/>
          <p:nvPr/>
        </p:nvSpPr>
        <p:spPr>
          <a:xfrm>
            <a:off x="7796160" y="1566720"/>
            <a:ext cx="94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ject 16"/>
          <p:cNvSpPr/>
          <p:nvPr/>
        </p:nvSpPr>
        <p:spPr>
          <a:xfrm>
            <a:off x="2274840" y="1932120"/>
            <a:ext cx="6464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1273320"/>
                <a:tab algn="l" pos="3235320"/>
                <a:tab algn="l" pos="3691080"/>
                <a:tab algn="l" pos="4633920"/>
                <a:tab algn="l" pos="4925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ученику</a:t>
            </a: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предлагается</a:t>
            </a: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на</a:t>
            </a: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полях</a:t>
            </a: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не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bject 17"/>
          <p:cNvSpPr/>
          <p:nvPr/>
        </p:nvSpPr>
        <p:spPr>
          <a:xfrm>
            <a:off x="2274840" y="2298600"/>
            <a:ext cx="5510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207324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табличке</a:t>
            </a: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отметить</a:t>
            </a: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симв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bject 18"/>
          <p:cNvSpPr/>
          <p:nvPr/>
        </p:nvSpPr>
        <p:spPr>
          <a:xfrm>
            <a:off x="8550360" y="2298600"/>
            <a:ext cx="190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bject 19"/>
          <p:cNvSpPr/>
          <p:nvPr/>
        </p:nvSpPr>
        <p:spPr>
          <a:xfrm>
            <a:off x="2274840" y="2664000"/>
            <a:ext cx="646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соответствующей графе его мнение о кач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bject 20"/>
          <p:cNvSpPr/>
          <p:nvPr/>
        </p:nvSpPr>
        <p:spPr>
          <a:xfrm>
            <a:off x="2274840" y="3030480"/>
            <a:ext cx="64674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выполнении    задания    и    его    оформлении. После  проверки  такую  же  работу  выполняет учитель. Если он согласен с мнением ученика, то   обводит   красным   кружком   его   отметку. Если не согласен – ставит свою. В этом случа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252520" y="4929120"/>
          <a:ext cx="6510600" cy="1096920"/>
        </p:xfrm>
        <a:graphic>
          <a:graphicData uri="http://schemas.openxmlformats.org/drawingml/2006/table">
            <a:tbl>
              <a:tblPr/>
              <a:tblGrid>
                <a:gridCol w="2159280"/>
                <a:gridCol w="2261880"/>
                <a:gridCol w="208944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3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f5f"/>
                          </a:solidFill>
                          <a:latin typeface="Times New Roman"/>
                          <a:ea typeface="Times New Roman"/>
                        </a:rPr>
                        <a:t>обсуд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f5f"/>
                          </a:solidFill>
                          <a:latin typeface="Times New Roman"/>
                          <a:ea typeface="Times New Roman"/>
                        </a:rPr>
                        <a:t>прави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63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f5f"/>
                          </a:solidFill>
                          <a:latin typeface="Times New Roman"/>
                          <a:ea typeface="Times New Roman"/>
                        </a:rPr>
                        <a:t>отметк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1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f5f"/>
                          </a:solidFill>
                          <a:latin typeface="Times New Roman"/>
                          <a:ea typeface="Times New Roman"/>
                        </a:rPr>
                        <a:t>выставленн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f5f"/>
                          </a:solidFill>
                          <a:latin typeface="Times New Roman"/>
                          <a:ea typeface="Times New Roman"/>
                        </a:rPr>
                        <a:t>ученик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0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Опросник для самодиагно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object 3"/>
          <p:cNvSpPr/>
          <p:nvPr/>
        </p:nvSpPr>
        <p:spPr>
          <a:xfrm>
            <a:off x="0" y="1447920"/>
            <a:ext cx="4140360" cy="131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ject 4"/>
          <p:cNvSpPr/>
          <p:nvPr/>
        </p:nvSpPr>
        <p:spPr>
          <a:xfrm>
            <a:off x="4140360" y="1447920"/>
            <a:ext cx="1512720" cy="131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ject 5"/>
          <p:cNvSpPr/>
          <p:nvPr/>
        </p:nvSpPr>
        <p:spPr>
          <a:xfrm>
            <a:off x="5651640" y="1447920"/>
            <a:ext cx="1152360" cy="131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ject 6"/>
          <p:cNvSpPr/>
          <p:nvPr/>
        </p:nvSpPr>
        <p:spPr>
          <a:xfrm>
            <a:off x="6804000" y="1447920"/>
            <a:ext cx="1081080" cy="131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ject 7"/>
          <p:cNvSpPr/>
          <p:nvPr/>
        </p:nvSpPr>
        <p:spPr>
          <a:xfrm>
            <a:off x="7885080" y="1447920"/>
            <a:ext cx="1030320" cy="131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ject 8"/>
          <p:cNvSpPr/>
          <p:nvPr/>
        </p:nvSpPr>
        <p:spPr>
          <a:xfrm>
            <a:off x="0" y="2759040"/>
            <a:ext cx="4140360" cy="74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ject 9"/>
          <p:cNvSpPr/>
          <p:nvPr/>
        </p:nvSpPr>
        <p:spPr>
          <a:xfrm>
            <a:off x="4140360" y="2759040"/>
            <a:ext cx="1512720" cy="74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ject 10"/>
          <p:cNvSpPr/>
          <p:nvPr/>
        </p:nvSpPr>
        <p:spPr>
          <a:xfrm>
            <a:off x="5651640" y="2759040"/>
            <a:ext cx="1152360" cy="74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ject 11"/>
          <p:cNvSpPr/>
          <p:nvPr/>
        </p:nvSpPr>
        <p:spPr>
          <a:xfrm>
            <a:off x="6804000" y="2759040"/>
            <a:ext cx="1081080" cy="74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ject 12"/>
          <p:cNvSpPr/>
          <p:nvPr/>
        </p:nvSpPr>
        <p:spPr>
          <a:xfrm>
            <a:off x="7885080" y="2759040"/>
            <a:ext cx="1030320" cy="74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bject 13"/>
          <p:cNvSpPr/>
          <p:nvPr/>
        </p:nvSpPr>
        <p:spPr>
          <a:xfrm>
            <a:off x="0" y="3500280"/>
            <a:ext cx="4140360" cy="1311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ject 14"/>
          <p:cNvSpPr/>
          <p:nvPr/>
        </p:nvSpPr>
        <p:spPr>
          <a:xfrm>
            <a:off x="4140360" y="3500280"/>
            <a:ext cx="1512720" cy="1311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ject 15"/>
          <p:cNvSpPr/>
          <p:nvPr/>
        </p:nvSpPr>
        <p:spPr>
          <a:xfrm>
            <a:off x="5651640" y="3500280"/>
            <a:ext cx="1152360" cy="1311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bject 16"/>
          <p:cNvSpPr/>
          <p:nvPr/>
        </p:nvSpPr>
        <p:spPr>
          <a:xfrm>
            <a:off x="6804000" y="3500280"/>
            <a:ext cx="1081080" cy="1311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bject 17"/>
          <p:cNvSpPr/>
          <p:nvPr/>
        </p:nvSpPr>
        <p:spPr>
          <a:xfrm>
            <a:off x="7885080" y="3500280"/>
            <a:ext cx="1030320" cy="1311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bject 18"/>
          <p:cNvSpPr/>
          <p:nvPr/>
        </p:nvSpPr>
        <p:spPr>
          <a:xfrm>
            <a:off x="0" y="4811760"/>
            <a:ext cx="4140360" cy="144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bject 19"/>
          <p:cNvSpPr/>
          <p:nvPr/>
        </p:nvSpPr>
        <p:spPr>
          <a:xfrm>
            <a:off x="4140360" y="4811760"/>
            <a:ext cx="1512720" cy="144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bject 20"/>
          <p:cNvSpPr/>
          <p:nvPr/>
        </p:nvSpPr>
        <p:spPr>
          <a:xfrm>
            <a:off x="5651640" y="4811760"/>
            <a:ext cx="1152360" cy="144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bject 21"/>
          <p:cNvSpPr/>
          <p:nvPr/>
        </p:nvSpPr>
        <p:spPr>
          <a:xfrm>
            <a:off x="6804000" y="4811760"/>
            <a:ext cx="1081080" cy="144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bject 22"/>
          <p:cNvSpPr/>
          <p:nvPr/>
        </p:nvSpPr>
        <p:spPr>
          <a:xfrm>
            <a:off x="7885080" y="4811760"/>
            <a:ext cx="1030320" cy="144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85840" y="1433520"/>
          <a:ext cx="8615160" cy="4815000"/>
        </p:xfrm>
        <a:graphic>
          <a:graphicData uri="http://schemas.openxmlformats.org/drawingml/2006/table">
            <a:tbl>
              <a:tblPr/>
              <a:tblGrid>
                <a:gridCol w="3840120"/>
                <a:gridCol w="1511280"/>
                <a:gridCol w="1152360"/>
                <a:gridCol w="1081080"/>
                <a:gridCol w="1030320"/>
              </a:tblGrid>
              <a:tr h="1311120">
                <a:tc>
                  <a:txBody>
                    <a:bodyPr lIns="0" rIns="0" tIns="0" bIns="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колько уверенно ты чувствуешь себя в следующих ситуациях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7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7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рен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ре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ь но уверен 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в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3040">
                <a:tc>
                  <a:txBody>
                    <a:bodyPr lIns="0" rIns="0" tIns="0" bIns="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Я могу беседовать на тему «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y likes and dislike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0" rIns="0" tIns="0" bIns="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Я умею писать слова по теме  «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49360">
                <a:tc>
                  <a:txBody>
                    <a:bodyPr lIns="0" rIns="0" tIns="0" bIns="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Я могу написать короткий рассказ по теме «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y favourite foo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object 2"/>
          <p:cNvSpPr/>
          <p:nvPr/>
        </p:nvSpPr>
        <p:spPr>
          <a:xfrm>
            <a:off x="457200" y="1600200"/>
            <a:ext cx="8229600" cy="452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ject 3"/>
          <p:cNvSpPr/>
          <p:nvPr/>
        </p:nvSpPr>
        <p:spPr>
          <a:xfrm>
            <a:off x="536400" y="723960"/>
            <a:ext cx="72644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09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етодика «Недельные отчёт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0952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109520">
              <a:buClr>
                <a:srgbClr val="001f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1f5f"/>
                </a:solidFill>
                <a:latin typeface="Arial"/>
                <a:ea typeface="Arial"/>
              </a:rPr>
              <a:t>Чему я научился за эту недел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09520">
              <a:spcBef>
                <a:spcPts val="763"/>
              </a:spcBef>
              <a:buClr>
                <a:srgbClr val="001f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1f5f"/>
                </a:solidFill>
                <a:latin typeface="Arial"/>
                <a:ea typeface="Arial"/>
              </a:rPr>
              <a:t>Какие вопросы остались для меня неясны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09520">
              <a:spcBef>
                <a:spcPts val="774"/>
              </a:spcBef>
              <a:buClr>
                <a:srgbClr val="001f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1f5f"/>
                </a:solidFill>
                <a:latin typeface="Arial"/>
                <a:ea typeface="Arial"/>
              </a:rPr>
              <a:t>Какие вопросы я задал бы ученикам, если бы я был учителем, чтобы проверить, поняли ли они матери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857160" y="857160"/>
            <a:ext cx="7261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        </a:t>
            </a:r>
            <a:r>
              <a:rPr b="1" i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Ученик, способный  планировать  и оценивать свою деятельность на уроке, способен и сам добывать 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6720" y="-360"/>
            <a:ext cx="7191360" cy="1143000"/>
          </a:xfrm>
          <a:prstGeom prst="rect">
            <a:avLst/>
          </a:prstGeom>
          <a:noFill/>
          <a:ln w="9360">
            <a:solidFill>
              <a:srgbClr val="d7e4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Современные подходы к системе оцени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Georgia"/>
              </a:rPr>
              <a:t>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оценки выходит за узкие рамки моде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нтроля качеств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я и становится принципиально необходимым  элементом моде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я качеств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яснительная записка к ФГ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Ученик не сосуд, который нужно заполнить, а факел, который нужно зажеч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35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f497d"/>
                </a:solidFill>
                <a:latin typeface="Georgia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191360" cy="1143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Проблема оценивания в современной  школ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7030a0"/>
                </a:solidFill>
                <a:latin typeface="Arial"/>
                <a:ea typeface="Arial"/>
              </a:rPr>
              <a:t>   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Необъективность оценк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четко определенных и заранее известных критериев оценивани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определенность системы оценивания при работе учащихся в группа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убъективность оценк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оценки в качестве карающей меры за нарушение дисциплины и т.п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7030a0"/>
                </a:solidFill>
                <a:latin typeface="Arial"/>
                <a:ea typeface="Arial"/>
              </a:rPr>
              <a:t>     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Пятибалльные отмет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 отражают всего разнообразия качественных оценок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радиции оценивания не позволяют развивать самооценку школьник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Традиции оценивания дискомфортн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учеников, отрицательно влияют на их мотива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1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Базовые принципы оценивания по ФГ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1197000"/>
            <a:ext cx="864072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Оценивание является постоянным процессом, естественным образом интегрированным в образовательную практ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6520" indent="-50652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6520" indent="-50652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Оценивание может быть только критериальным. Основными критериями оценивания выступают ожидаемые результаты, соответствующие учебным цел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6520" indent="-50652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6520" indent="-50652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Критерии оценивания и алгоритм выставления отметки заранее известны и педагогам, и учащимся. Они могут вырабатываться ими совмест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6520" indent="-50652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6520" indent="-50652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истема оценивания выстраивается таким образом, чтобы учащиеся включались в контрольно-оценочную деятельность, приобретая навыки и привычку к самооцен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6520" indent="-5065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bject 3"/>
          <p:cNvSpPr/>
          <p:nvPr/>
        </p:nvSpPr>
        <p:spPr>
          <a:xfrm>
            <a:off x="457200" y="274680"/>
            <a:ext cx="8229600" cy="1143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ject 4"/>
          <p:cNvSpPr/>
          <p:nvPr/>
        </p:nvSpPr>
        <p:spPr>
          <a:xfrm>
            <a:off x="1214280" y="214200"/>
            <a:ext cx="7039080" cy="128016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Характеристика изменений в 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педагога, работающего по 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08080" y="1488960"/>
          <a:ext cx="8678880" cy="4759560"/>
        </p:xfrm>
        <a:graphic>
          <a:graphicData uri="http://schemas.openxmlformats.org/drawingml/2006/table">
            <a:tbl>
              <a:tblPr/>
              <a:tblGrid>
                <a:gridCol w="1852560"/>
                <a:gridCol w="2857320"/>
                <a:gridCol w="3969000"/>
              </a:tblGrid>
              <a:tr h="701640">
                <a:tc>
                  <a:txBody>
                    <a:bodyPr lIns="0" rIns="0" tIns="0" bIns="0" anchor="t">
                      <a:noAutofit/>
                    </a:bodyPr>
                    <a:p>
                      <a:pPr marL="60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480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измен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1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адицио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1920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1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Деятельность учител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1920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работающего по ФГ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152720">
                <a:tc rowSpan="3">
                  <a:txBody>
                    <a:bodyPr lIns="0" rIns="0" tIns="0" bIns="0" anchor="t">
                      <a:noAutofit/>
                    </a:bodyPr>
                    <a:p>
                      <a:pPr marL="60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1f5f"/>
                          </a:solidFill>
                          <a:latin typeface="Arial"/>
                          <a:ea typeface="Arial"/>
                        </a:rPr>
                        <a:t>Результаты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1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1f5f"/>
                          </a:solidFill>
                          <a:latin typeface="Arial"/>
                          <a:ea typeface="Arial"/>
                        </a:rPr>
                        <a:t>Предметные 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1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1f5f"/>
                          </a:solidFill>
                          <a:latin typeface="Arial"/>
                          <a:ea typeface="Arial"/>
                        </a:rPr>
                        <a:t>Не только предметные результаты, но и личностные, метапредме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1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1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1f5f"/>
                          </a:solidFill>
                          <a:latin typeface="Arial"/>
                          <a:ea typeface="Arial"/>
                        </a:rPr>
                        <a:t>Основная оценка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1920"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1f5f"/>
                          </a:solidFill>
                          <a:latin typeface="Arial"/>
                          <a:ea typeface="Arial"/>
                        </a:rPr>
                        <a:t>оценка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1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1f5f"/>
                          </a:solidFill>
                          <a:latin typeface="Arial"/>
                          <a:ea typeface="Arial"/>
                        </a:rPr>
                        <a:t>Ориентир на самооценку обучающегося, формирование адекватной само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75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1920">
                        <a:lnSpc>
                          <a:spcPct val="115000"/>
                        </a:lnSpc>
                        <a:tabLst>
                          <a:tab algn="l" pos="0"/>
                          <a:tab algn="l" pos="2212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1f5f"/>
                          </a:solidFill>
                          <a:latin typeface="Arial"/>
                          <a:ea typeface="Arial"/>
                        </a:rPr>
                        <a:t>Важны положительные оценки учеников</a:t>
                      </a:r>
                      <a:r>
                        <a:rPr b="0" i="1" lang="ru-RU" sz="2000" spc="-1" strike="noStrike">
                          <a:solidFill>
                            <a:srgbClr val="001f5f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i="1" lang="ru-RU" sz="2000" spc="-1" strike="noStrike">
                          <a:solidFill>
                            <a:srgbClr val="001f5f"/>
                          </a:solidFill>
                          <a:latin typeface="Arial"/>
                          <a:ea typeface="Arial"/>
                        </a:rPr>
                        <a:t>по итогам контрольных раб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1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1f5f"/>
                          </a:solidFill>
                          <a:latin typeface="Arial"/>
                          <a:ea typeface="Arial"/>
                        </a:rPr>
                        <a:t>Учёт динамики результатов обучения учащихся относительно самих себ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1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1f5f"/>
                          </a:solidFill>
                          <a:latin typeface="Arial"/>
                          <a:ea typeface="Arial"/>
                        </a:rPr>
                        <a:t>Оценка промежуточных результатов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bject 2"/>
          <p:cNvSpPr/>
          <p:nvPr/>
        </p:nvSpPr>
        <p:spPr>
          <a:xfrm>
            <a:off x="395280" y="1628640"/>
            <a:ext cx="1873080" cy="48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ject 3"/>
          <p:cNvSpPr/>
          <p:nvPr/>
        </p:nvSpPr>
        <p:spPr>
          <a:xfrm>
            <a:off x="2266920" y="1628640"/>
            <a:ext cx="6635880" cy="48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ject 4"/>
          <p:cNvSpPr/>
          <p:nvPr/>
        </p:nvSpPr>
        <p:spPr>
          <a:xfrm>
            <a:off x="395280" y="2114640"/>
            <a:ext cx="1873080" cy="444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ject 5"/>
          <p:cNvSpPr/>
          <p:nvPr/>
        </p:nvSpPr>
        <p:spPr>
          <a:xfrm>
            <a:off x="2266920" y="2114640"/>
            <a:ext cx="6635880" cy="444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ject 7"/>
          <p:cNvSpPr/>
          <p:nvPr/>
        </p:nvSpPr>
        <p:spPr>
          <a:xfrm>
            <a:off x="457200" y="274680"/>
            <a:ext cx="8229600" cy="13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ject 8"/>
          <p:cNvSpPr/>
          <p:nvPr/>
        </p:nvSpPr>
        <p:spPr>
          <a:xfrm>
            <a:off x="1324080" y="235080"/>
            <a:ext cx="649584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Требования, предъявляемые к процессу оценивания во время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в соответствии с 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14200" y="1428840"/>
          <a:ext cx="8721720" cy="5286240"/>
        </p:xfrm>
        <a:graphic>
          <a:graphicData uri="http://schemas.openxmlformats.org/drawingml/2006/table">
            <a:tbl>
              <a:tblPr/>
              <a:tblGrid>
                <a:gridCol w="2086200"/>
                <a:gridCol w="6635520"/>
              </a:tblGrid>
              <a:tr h="485640">
                <a:tc>
                  <a:txBody>
                    <a:bodyPr lIns="0" rIns="0" tIns="0" bIns="0" anchor="t">
                      <a:noAutofit/>
                    </a:bodyPr>
                    <a:p>
                      <a:pPr marL="295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Критер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оказател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0600">
                <a:tc>
                  <a:txBody>
                    <a:bodyPr lIns="0" rIns="0" tIns="0" bIns="0" anchor="t">
                      <a:noAutofit/>
                    </a:bodyPr>
                    <a:p>
                      <a:pPr marL="763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200" spc="-1" strike="noStrike">
                          <a:solidFill>
                            <a:srgbClr val="001f5f"/>
                          </a:solidFill>
                          <a:latin typeface="Arial"/>
                          <a:ea typeface="Arial"/>
                        </a:rPr>
                        <a:t>Оценка деятельности и рефлекс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200" spc="-1" strike="noStrike">
                          <a:solidFill>
                            <a:srgbClr val="001f5f"/>
                          </a:solidFill>
                          <a:latin typeface="Arial"/>
                          <a:ea typeface="Arial"/>
                        </a:rPr>
                        <a:t>Учитель использует формирующее (критериальное) оценивание, критерии обсуждены с учениками и понятны и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200" spc="-1" strike="noStrike">
                          <a:solidFill>
                            <a:srgbClr val="001f5f"/>
                          </a:solidFill>
                          <a:latin typeface="Arial"/>
                          <a:ea typeface="Arial"/>
                        </a:rPr>
                        <a:t>Учитель организует взаимооценку учеников по установленным критерия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200" spc="-1" strike="noStrike">
                          <a:solidFill>
                            <a:srgbClr val="001f5f"/>
                          </a:solidFill>
                          <a:latin typeface="Arial"/>
                          <a:ea typeface="Arial"/>
                        </a:rPr>
                        <a:t>Учитель создает возможности для самооценки</a:t>
                      </a:r>
                      <a:r>
                        <a:rPr b="0" i="1" lang="ru-RU" sz="2200" spc="-1" strike="noStrike">
                          <a:solidFill>
                            <a:srgbClr val="001f5f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i="1" lang="ru-RU" sz="2200" spc="-1" strike="noStrike">
                          <a:solidFill>
                            <a:srgbClr val="001f5f"/>
                          </a:solidFill>
                          <a:latin typeface="Arial"/>
                          <a:ea typeface="Arial"/>
                        </a:rPr>
                        <a:t>по установленным критерия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200" spc="-1" strike="noStrike">
                          <a:solidFill>
                            <a:srgbClr val="001f5f"/>
                          </a:solidFill>
                          <a:latin typeface="Arial"/>
                          <a:ea typeface="Arial"/>
                        </a:rPr>
                        <a:t>Учитель организует эмоциональную рефлексию учеников (понравилось / не понравилось, как себя чувствовал на уроке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200" spc="-1" strike="noStrike">
                          <a:solidFill>
                            <a:srgbClr val="001f5f"/>
                          </a:solidFill>
                          <a:latin typeface="Arial"/>
                          <a:ea typeface="Arial"/>
                        </a:rPr>
                        <a:t>Учитель организует качественную рефлексию учеников (достижение  результата, сложность, полезность, взаимодействие и пр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6720" y="-360"/>
            <a:ext cx="71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Кто оценива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Ученик и учитель </a:t>
            </a:r>
            <a:r>
              <a:rPr b="0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в диалоге – совместное оцен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Ученик</a:t>
            </a:r>
            <a:r>
              <a:rPr b="0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 – самооц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1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Оценивание в ФГ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1f497d"/>
                </a:solidFill>
                <a:latin typeface="Arial"/>
                <a:ea typeface="Arial"/>
              </a:rPr>
              <a:t>оценивание </a:t>
            </a:r>
            <a:r>
              <a:rPr b="1" i="1" lang="ru-RU" sz="3000" spc="-1" strike="noStrike">
                <a:solidFill>
                  <a:srgbClr val="c00000"/>
                </a:solidFill>
                <a:latin typeface="Arial"/>
                <a:ea typeface="Arial"/>
              </a:rPr>
              <a:t>достигаемых </a:t>
            </a:r>
            <a:r>
              <a:rPr b="0" i="1" lang="ru-RU" sz="3000" spc="-1" strike="noStrike">
                <a:solidFill>
                  <a:srgbClr val="1f497d"/>
                </a:solidFill>
                <a:latin typeface="Arial"/>
                <a:ea typeface="Arial"/>
              </a:rPr>
              <a:t>образовательных результат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1f497d"/>
                </a:solidFill>
                <a:latin typeface="Arial"/>
                <a:ea typeface="Arial"/>
              </a:rPr>
              <a:t>оценивание </a:t>
            </a:r>
            <a:r>
              <a:rPr b="1" i="1" lang="ru-RU" sz="3000" spc="-1" strike="noStrike">
                <a:solidFill>
                  <a:srgbClr val="c00000"/>
                </a:solidFill>
                <a:latin typeface="Arial"/>
                <a:ea typeface="Arial"/>
              </a:rPr>
              <a:t>процесса их формирова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1f497d"/>
                </a:solidFill>
                <a:latin typeface="Arial"/>
                <a:ea typeface="Arial"/>
              </a:rPr>
              <a:t>и оценивание </a:t>
            </a:r>
            <a:r>
              <a:rPr b="1" i="1" lang="ru-RU" sz="3000" spc="-1" strike="noStrike">
                <a:solidFill>
                  <a:srgbClr val="c00000"/>
                </a:solidFill>
                <a:latin typeface="Arial"/>
                <a:ea typeface="Arial"/>
              </a:rPr>
              <a:t>осознанности каждым обучающимся </a:t>
            </a:r>
            <a:r>
              <a:rPr b="0" i="1" lang="ru-RU" sz="3000" spc="-1" strike="noStrike">
                <a:solidFill>
                  <a:srgbClr val="1f497d"/>
                </a:solidFill>
                <a:latin typeface="Arial"/>
                <a:ea typeface="Arial"/>
              </a:rPr>
              <a:t>особенностей развития его собственного процесса обуче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6:49:51Z</dcterms:created>
  <dc:creator>Наталья</dc:creator>
  <dc:description/>
  <dc:language>en-US</dc:language>
  <cp:lastModifiedBy>олег</cp:lastModifiedBy>
  <dcterms:modified xsi:type="dcterms:W3CDTF">2017-12-27T07:44:33Z</dcterms:modified>
  <cp:revision>34</cp:revision>
  <dc:subject/>
  <dc:title>Система оценивания, ФГОС и оценка в классе</dc:title>
</cp:coreProperties>
</file>