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0D3-A945-4805-8E8B-D5A626BB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E1F-9F6E-4526-B480-B8CFD629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88F-9BAF-4F72-9922-41FFC52C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9C3-ACB3-4D0C-93AF-1548F2C2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F4C-EE0F-4298-8B03-E67788C0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822-8EAA-4BEC-AEE8-0FB3545F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91C-03EE-4D87-AD89-85EF0923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F88-3CF6-4A7B-AFED-251161FC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1F3-AE59-4D5C-9950-A94782E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CDA-0868-4358-9C02-A938E28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647-0803-4816-A857-0A755BE9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61F-C29D-4F55-844F-D05A7B6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74d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C23C-1AFF-41E7-8BF1-EE7260F63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Урок математ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4724280"/>
            <a:ext cx="48765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80880" y="1981080"/>
            <a:ext cx="8445600" cy="289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858c8"/>
                </a:solidFill>
                <a:latin typeface="Arial"/>
              </a:rPr>
              <a:t>Тема урока: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Arial"/>
              </a:rPr>
              <a:t>Порядо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Arial"/>
              </a:rPr>
              <a:t>выполнения действий в выражения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0" t="10607" r="10566" b="6058"/>
          <a:stretch/>
        </p:blipFill>
        <p:spPr>
          <a:xfrm>
            <a:off x="3429000" y="1219320"/>
            <a:ext cx="3835440" cy="5410080"/>
          </a:xfrm>
          <a:prstGeom prst="rect">
            <a:avLst/>
          </a:prstGeom>
          <a:ln w="9360">
            <a:solidFill>
              <a:srgbClr val="5858c8"/>
            </a:solidFill>
            <a:miter/>
          </a:ln>
        </p:spPr>
      </p:pic>
      <p:sp>
        <p:nvSpPr>
          <p:cNvPr id="83" name="Rectangle 5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ИТОГИ УР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411480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990720" y="4191120"/>
            <a:ext cx="2514600" cy="10191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990720" y="2666880"/>
            <a:ext cx="2514600" cy="10191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066680" y="1295280"/>
            <a:ext cx="2514600" cy="10191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I 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41144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380880" y="762120"/>
            <a:ext cx="8458200" cy="25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46479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6553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 правило порядка выполнения действий в выражениях со скобками и без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ть вычислительные навыки и умение решать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ся наблюдать, сравнивать и делать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60025" t="0" r="8977" b="3815"/>
          <a:stretch/>
        </p:blipFill>
        <p:spPr>
          <a:xfrm>
            <a:off x="6629400" y="533520"/>
            <a:ext cx="2252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381880" cy="502920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4"/>
          <p:cNvCxnSpPr/>
          <p:nvPr/>
        </p:nvCxnSpPr>
        <p:spPr>
          <a:xfrm flipH="1">
            <a:off x="2817000" y="1417680"/>
            <a:ext cx="381960" cy="534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Прямая со стрелкой 6"/>
          <p:cNvCxnSpPr/>
          <p:nvPr/>
        </p:nvCxnSpPr>
        <p:spPr>
          <a:xfrm>
            <a:off x="5738760" y="1417680"/>
            <a:ext cx="472320" cy="534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Прямоугольник с одним скругленным углом 10"/>
          <p:cNvSpPr/>
          <p:nvPr/>
        </p:nvSpPr>
        <p:spPr>
          <a:xfrm>
            <a:off x="1066680" y="2133720"/>
            <a:ext cx="2362320" cy="80784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с одним скругленным углом 11"/>
          <p:cNvSpPr/>
          <p:nvPr/>
        </p:nvSpPr>
        <p:spPr>
          <a:xfrm>
            <a:off x="5334120" y="2133720"/>
            <a:ext cx="2361960" cy="80784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с двумя скругленными соседними углами 13"/>
          <p:cNvSpPr/>
          <p:nvPr/>
        </p:nvSpPr>
        <p:spPr>
          <a:xfrm>
            <a:off x="1066680" y="3124080"/>
            <a:ext cx="2362320" cy="88452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с двумя скругленными соседними углами 14"/>
          <p:cNvSpPr/>
          <p:nvPr/>
        </p:nvSpPr>
        <p:spPr>
          <a:xfrm>
            <a:off x="5334120" y="3162240"/>
            <a:ext cx="2361960" cy="84636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∙ ил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с одним скругленным углом 17"/>
          <p:cNvSpPr/>
          <p:nvPr/>
        </p:nvSpPr>
        <p:spPr>
          <a:xfrm>
            <a:off x="1066680" y="4191120"/>
            <a:ext cx="2362320" cy="99036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∙ ил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с одним скругленным углом 18"/>
          <p:cNvSpPr/>
          <p:nvPr/>
        </p:nvSpPr>
        <p:spPr>
          <a:xfrm>
            <a:off x="5334120" y="4191120"/>
            <a:ext cx="2361960" cy="99036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+ ил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9"/>
          <p:cNvSpPr/>
          <p:nvPr/>
        </p:nvSpPr>
        <p:spPr>
          <a:xfrm>
            <a:off x="1066680" y="5364000"/>
            <a:ext cx="2362320" cy="884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+ ил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Математика - наука точ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5858c8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« + » и « - » или « • » и « : » - тогда все действия выполняются по поря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-380880" y="3200400"/>
            <a:ext cx="6933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   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4 - 20 + 12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-609480" y="4419720"/>
            <a:ext cx="6933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4 : 4 • 5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60025" t="0" r="8977" b="3815"/>
          <a:stretch/>
        </p:blipFill>
        <p:spPr>
          <a:xfrm>
            <a:off x="6705720" y="2590920"/>
            <a:ext cx="1639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Математика - наука точ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57200" y="1450800"/>
            <a:ext cx="617220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е только « + » или « - » ,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и « • » или « : 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« • » и « : 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отом « + » и « -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57200" y="4270680"/>
            <a:ext cx="617220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дна или несколько ( 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( 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отом « • » или « : 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+ » или « -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60025" t="0" r="8977" b="3815"/>
          <a:stretch/>
        </p:blipFill>
        <p:spPr>
          <a:xfrm>
            <a:off x="6781680" y="1676520"/>
            <a:ext cx="193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4680" y="4680"/>
            <a:ext cx="88218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143000"/>
            <a:ext cx="5181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0 – (20 : 5 + 8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 : 8 + 5 • 6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• 7 + 2 • 9 + 4 •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0 – 7 • 8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077320" y="1582560"/>
            <a:ext cx="914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4"/>
          <p:cNvCxnSpPr/>
          <p:nvPr/>
        </p:nvCxnSpPr>
        <p:spPr>
          <a:xfrm>
            <a:off x="5028840" y="1980720"/>
            <a:ext cx="3048840" cy="1677240"/>
          </a:xfrm>
          <a:prstGeom prst="straightConnector1">
            <a:avLst/>
          </a:prstGeom>
          <a:ln w="127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5" name="Прямая со стрелкой 7"/>
          <p:cNvCxnSpPr/>
          <p:nvPr/>
        </p:nvCxnSpPr>
        <p:spPr>
          <a:xfrm flipV="1">
            <a:off x="3276360" y="5014440"/>
            <a:ext cx="4801320" cy="1334160"/>
          </a:xfrm>
          <a:prstGeom prst="straightConnector1">
            <a:avLst/>
          </a:prstGeom>
          <a:ln w="127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6" name="Прямая со стрелкой 8"/>
          <p:cNvCxnSpPr/>
          <p:nvPr/>
        </p:nvCxnSpPr>
        <p:spPr>
          <a:xfrm flipV="1">
            <a:off x="4419360" y="2096640"/>
            <a:ext cx="3810600" cy="2828160"/>
          </a:xfrm>
          <a:prstGeom prst="straightConnector1">
            <a:avLst/>
          </a:prstGeom>
          <a:ln w="127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7" name="Прямая со стрелкой 9"/>
          <p:cNvCxnSpPr/>
          <p:nvPr/>
        </p:nvCxnSpPr>
        <p:spPr>
          <a:xfrm>
            <a:off x="4190760" y="3522600"/>
            <a:ext cx="3886920" cy="2985120"/>
          </a:xfrm>
          <a:prstGeom prst="straightConnector1">
            <a:avLst/>
          </a:prstGeom>
          <a:ln w="127080">
            <a:solidFill>
              <a:srgbClr val="00b050"/>
            </a:solidFill>
            <a:miter/>
            <a:tailEnd len="med" type="triangle" w="med"/>
          </a:ln>
        </p:spPr>
      </p:cxn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        3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 : 6 + 49 : 7 =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         1           4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600 – 7 • 8) + 6 • 3 = 5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– 4 • 5 = 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             2         3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360 + 80) • 1 – 420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0 – 6 • 5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• 2 =2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10 + 10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: 8 =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0 –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 • 4 + 6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+ 3 =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00 – 9 •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 + 8 + 15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5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RePack by Diakov</cp:lastModifiedBy>
  <dcterms:modified xsi:type="dcterms:W3CDTF">2017-03-18T18:08:0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