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BAA23-BD7B-4BE3-B6E3-FA384A781A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8842B-7E4C-476C-8B9C-449BD09496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61B3E-336B-4357-85D3-04FADD8BC0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C2F93-38D1-4EE0-8A60-0F3928C83E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5AF16-FFEF-4514-9030-657B5E50EA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B6CB8-A6C0-474A-8071-22D108294B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9F8EA-1BB7-4AA7-ABDE-68742AEB38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F859-5247-40EF-B1E0-F6C7A09F46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6FE72-BAA1-4F71-94CA-E964BF9194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70AE-5B43-43E3-BA60-BB1E5A4EFC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DCA5-0305-40F2-B464-99F1B645F4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34F-B073-4EB4-94DE-096FB69A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6360" y="482148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782-4E59-4D31-AF38-4823661D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924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217-50AA-48C6-BDE4-34E35693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128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636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128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C7B-F81C-4060-A802-9145424E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30BE-4E8D-4A4A-9A8D-2A456C50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453B-9F07-4AF5-861B-4BA76E11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3DEC-C738-4804-81C8-82BD1463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29DF-7D76-4A38-8237-6E7280E5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2B09-A4DD-4637-AA05-E30A954F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E053-A343-41DB-AA20-F81B3E8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1DF1-5429-4B25-8744-824DC0D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57D-3528-4177-BC25-4718DC2A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5924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B1E-BCF3-402D-BA61-F125775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F69-57CB-450F-B3C9-2AB4DB0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36360" y="482148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B337-F8E9-4779-B211-57CB744C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924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6E32-5334-41BC-8C45-2A6E132D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864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128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3636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864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128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1292-3EB0-4E97-888E-3F44F4D4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9399-870B-4AB7-8EEC-3A57FC23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FA8F-FD40-469F-889F-FD613F1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7D9D-475D-4253-9719-076EE7F8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5C79-5D24-4977-B481-1F75B52E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4ED3-76C3-4451-B8AB-749AFBFE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9A8-B35F-427C-8300-E905058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9CF6-89A7-470B-B06F-BC2B4C27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E739-9597-4D6C-A326-98504701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5924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CEBA-9C1D-4114-83EC-4CBEDCB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20A6-7027-4668-99AC-BF790FC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6360" y="482148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73A2-146F-431D-9082-C7C6F719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5924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044D-6B01-408F-B664-B911E0E3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8864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41280" y="176796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3636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8864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41280" y="4821480"/>
            <a:ext cx="27162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AFE5-8324-4B63-93AF-CD10A242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8AA-F50B-4417-A483-A4CBC4C1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EE4-5313-4FD8-A7AF-0C84839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2DE-A07D-4214-8657-41289818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D10-09BA-4BE9-833B-4AFF02E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9240" y="482148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6D8-E8B3-4C37-BBA5-AFB0A5B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9240" y="1767960"/>
            <a:ext cx="411660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6360" y="4821480"/>
            <a:ext cx="84358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946-E459-4DBA-AA8C-BB9505A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8E0FA-D235-4F23-85A5-6682F98242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C02C2-EE0D-4014-9ACA-489464B4BD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2E968-7285-4F79-90F0-3FAC0B6D34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-5040"/>
            <a:ext cx="9070920" cy="6484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при неблагоприятных экологических условия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02920" y="503280"/>
            <a:ext cx="88693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84120" indent="-28800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аш дом находится рядом с территорией промышленных объектов, то для того чтобы проветрить помещение, необходимо учитывать направление ветра. Если ветер дует от промышленной зоны, окна лучше держать открыт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тоит ходить пешком вдоль автомобильных магистралей с интенсивным движением транспорта, особенно если ветер дует со стороны автомагистр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гулок и занятий физической культурой лучше выбирать место в пар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8800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паться можно только в установленных местах, где состояние воды проверено и не опасно для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02920" y="503280"/>
            <a:ext cx="8869320" cy="64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56000" y="396360"/>
            <a:ext cx="31687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грязнение вод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863640" y="1619280"/>
            <a:ext cx="806436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56000" y="396360"/>
            <a:ext cx="31687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грязнение почв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079640" y="1768320"/>
            <a:ext cx="799128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56000" y="396360"/>
            <a:ext cx="31687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грязнение воздух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008000" y="1768320"/>
            <a:ext cx="8064720" cy="49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2920" y="2519280"/>
            <a:ext cx="88693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лагоприятная экологическая обстановка  это — загрязнённая окружающая среда, вызванная деятельностью человека и отрицательно влияющая на его здоров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2920" y="1728720"/>
            <a:ext cx="886932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тагены — это физические и химические факторы, вызывающие наследственные изменения — му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бодные радикалы — это активные соединения кислорода, молекулы со свободным электроном, обладающие  повышенной способностью к взаимодействию с другими молеку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02920" y="431280"/>
            <a:ext cx="886932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бодные радикалы – это очень активные молекулы, у которых есть свободное место для электронов, и это место они стремятся заполнить, отняв электрон у других молеку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рменты – это вещества, без которых невозможно течение множества процессов в организме. На самом деле, ферменты принимают участие не только в переваривании пищи, но и в работе центральной нервной системы, в процессах роста новых клет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1640" y="-616320"/>
            <a:ext cx="85820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а поведения в не совсем благоприятных условиях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862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е направление — расширения возможностей вашего организма противостоять различным опасным для здоровья веществам и факторам окружающей среды, которое можно достичь за счёт увеличения в различных пределах в ежедневном пищевом рационе продуктов, содержащих витамины А,С,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55640" y="396360"/>
            <a:ext cx="316692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36360" y="1767960"/>
            <a:ext cx="84358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е направление — это желание каждого человека внести посильный вклад в сохранение окружающей природной сре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тье направление — это умение в повседневной жизни избегать мест, где концентрация вредных веществ превышает установленные нор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15:16:41Z</dcterms:created>
  <dc:creator>Учительская</dc:creator>
  <dc:description/>
  <dc:language>en-US</dc:language>
  <cp:lastModifiedBy>Шнуров Владимир</cp:lastModifiedBy>
  <dcterms:modified xsi:type="dcterms:W3CDTF">2017-11-18T08:04:26Z</dcterms:modified>
  <cp:revision>2</cp:revision>
  <dc:subject/>
  <dc:title>Правила безопасного поведения при неблагоприятных экологических условиях.</dc:title>
</cp:coreProperties>
</file>