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B7B9-B70E-4E0A-A3A8-714E12B8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2AA-4104-49D2-8B62-40FA29BF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7D7-40FC-46DC-BFD4-30431B28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EA1-0E1A-4CD5-B0A3-6654FC94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C307-BFF3-4C57-8327-2DEF8529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BB55-E318-413E-9569-8824DA08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203-49A5-4FF7-87C6-170C6B63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0E4-87E4-45D5-9C7E-C5851300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010-683B-4F6F-98DC-E0E0778C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F00-E5C9-4E74-9412-FEF68036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3518-4F4B-4951-BBDE-434EC717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4D1-DE87-417E-8BCD-3C931A28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968E-00F6-4C98-A768-60406477A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ЗИ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М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 Обои для рабочего стола · Коллекции · Природа &#10; A New Season Awaits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С</a:t>
            </a:r>
            <a:r>
              <a:rPr b="1" lang="en-US" sz="6500" spc="-1" strike="noStrike">
                <a:solidFill>
                  <a:srgbClr val="009900"/>
                </a:solidFill>
                <a:latin typeface="Arial"/>
              </a:rPr>
              <a:t>НО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У</a:t>
            </a: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БО</a:t>
            </a:r>
            <a:r>
              <a:rPr b="1" lang="en-US" sz="6500" spc="-1" strike="noStrike">
                <a:solidFill>
                  <a:srgbClr val="009900"/>
                </a:solidFill>
                <a:latin typeface="Arial"/>
              </a:rPr>
              <a:t>Р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ДИ</a:t>
            </a:r>
            <a:r>
              <a:rPr b="1" lang="en-US" sz="65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Г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Обои для рабочего стола"/>
          <p:cNvPicPr/>
          <p:nvPr/>
        </p:nvPicPr>
        <p:blipFill>
          <a:blip r:embed="rId1"/>
          <a:stretch/>
        </p:blipFill>
        <p:spPr>
          <a:xfrm>
            <a:off x="1042920" y="1557360"/>
            <a:ext cx="68724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ХО</a:t>
            </a:r>
            <a:r>
              <a:rPr b="1" lang="en-US" sz="65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КЕ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Й</a:t>
            </a:r>
            <a:br>
              <a:rPr sz="6500"/>
            </a:b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971640" y="1557360"/>
            <a:ext cx="7200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С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Г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056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СО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ЛЬ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И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84072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ЛЁ</a:t>
            </a:r>
            <a:r>
              <a:rPr b="1" lang="ru-RU" sz="7000" spc="-1" strike="noStrike">
                <a:solidFill>
                  <a:srgbClr val="009900"/>
                </a:solidFill>
                <a:latin typeface="Arial"/>
              </a:rPr>
              <a:t>Д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2723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НЕ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Й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 Обои для рабочего стола · Коллекции · Природа &#10; Change Of Season, Sommer-Linde (Tilia Platyphyllos)"/>
          <p:cNvPicPr/>
          <p:nvPr/>
        </p:nvPicPr>
        <p:blipFill>
          <a:blip r:embed="rId1"/>
          <a:stretch/>
        </p:blipFill>
        <p:spPr>
          <a:xfrm>
            <a:off x="755640" y="1484280"/>
            <a:ext cx="7416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Я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Ц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БЕ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ЛЯ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91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С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НЕ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ГО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41672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ВЫ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Й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ГО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Д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Обои для рабочего стола: новый год, праздник"/>
          <p:cNvPicPr/>
          <p:nvPr/>
        </p:nvPicPr>
        <p:blipFill>
          <a:blip r:embed="rId1"/>
          <a:stretch/>
        </p:blipFill>
        <p:spPr>
          <a:xfrm>
            <a:off x="971640" y="2133720"/>
            <a:ext cx="6858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ГО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Р</a:t>
            </a:r>
            <a:r>
              <a:rPr b="1" lang="en-US" sz="6500" spc="-1" strike="noStrike">
                <a:solidFill>
                  <a:srgbClr val="009900"/>
                </a:solidFill>
                <a:latin typeface="Arial"/>
              </a:rPr>
              <a:t>НЫ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Е</a:t>
            </a: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 ЛЫ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ЖИ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Обои для рабочего стола"/>
          <p:cNvPicPr/>
          <p:nvPr/>
        </p:nvPicPr>
        <p:blipFill>
          <a:blip r:embed="rId1"/>
          <a:stretch/>
        </p:blipFill>
        <p:spPr>
          <a:xfrm>
            <a:off x="826920" y="1628640"/>
            <a:ext cx="7201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4:02:35Z</dcterms:created>
  <dc:creator>Artiom &amp; Ksjuha</dc:creator>
  <dc:description/>
  <dc:language>en-US</dc:language>
  <cp:lastModifiedBy>Artiom &amp; Ksjuha</cp:lastModifiedBy>
  <dcterms:modified xsi:type="dcterms:W3CDTF">2007-04-10T15:23:10Z</dcterms:modified>
  <cp:revision>9</cp:revision>
  <dc:subject/>
  <dc:title>Слайд 1</dc:title>
</cp:coreProperties>
</file>