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4F8-6EE7-481A-A502-8DB23416F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88CC-A952-4156-A778-99EECF3E2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B826-DC7F-4F27-AA16-C0E1A74E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10F0-0D28-4CF2-A1CF-B81C8DF1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76AF-DA16-4AB9-AF43-F9C52512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3A2B-C04E-4E5E-BD85-0C746C6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B3DE-4CE3-4162-B08B-F520241F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828-01FF-4512-AF6A-D081013A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C1D-2432-43BB-8150-495EBBA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42EF-09D8-4011-BD2F-D25652A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A996-E466-456A-9EA7-97CA243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9E9-CB60-47F0-A473-784159E7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5AC0-95D8-42CC-868A-400A795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08D0-5A8D-4A4F-8AFF-168FCA9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8331-462F-4F79-922D-A46F4C4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196E-F33E-4DE8-ABF3-4A00965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534-766C-4DCB-B859-344496B6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65A9-5B09-46AB-9149-DC98306E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A3F-5C46-4E2A-9812-1FEE90D7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EAFB-0817-4925-B318-5645FBE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6B8B-DA92-4766-ABAC-990A26E9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419C-6E65-4DC4-B59B-54EAC70C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A410-5232-4F44-8134-37F71FE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224C-F0E9-48B7-9B74-9C997E6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2611-1106-4C0C-8185-B984E30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5D3A-63DD-483C-837D-3AADAEC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3CB-526E-4A55-9E25-FEB72F80AE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7B6-6124-4A1A-B5C9-366CA1B4FC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Урок по геометрии в 11 класс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e"/>
                </a:solidFill>
                <a:latin typeface="Arial"/>
              </a:rPr>
              <a:t>Подготовила и пров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e"/>
                </a:solidFill>
                <a:latin typeface="Arial"/>
              </a:rPr>
              <a:t>учитель математики МКОУ «Нижнемамонская СОШ №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e"/>
                </a:solidFill>
                <a:latin typeface="Arial"/>
              </a:rPr>
              <a:t>Донских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Arial"/>
              </a:rPr>
              <a:t>СЕЧЕНИЯ ШАРА СФЕРЫ 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0" t="0" r="0" b="6904"/>
          <a:stretch/>
        </p:blipFill>
        <p:spPr>
          <a:xfrm>
            <a:off x="4929120" y="2286000"/>
            <a:ext cx="3121200" cy="192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2286000"/>
            <a:ext cx="4911840" cy="235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47145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Сечением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шара </a:t>
            </a: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плоскостью является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руг</a:t>
            </a: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Сечением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феры</a:t>
            </a: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 плоскостью является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кружность</a:t>
            </a:r>
            <a:r>
              <a:rPr b="1" lang="ru-RU" sz="2400" spc="-1" strike="noStrike">
                <a:solidFill>
                  <a:srgbClr val="3c3c6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2; 2 задачи на комбинацию геометрически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32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2840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ая фигура получается в сечении конуса плоскостью, проходящей через ось конус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ая фигура получается в сечении цилиндра плоскостью, проходящей перпендикулярно оси цилинд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то представляет собой сечение конуса плоскостью, проходящей перпендикулярно оси кон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ая фигура получается в сечении цилиндра, плоскостью проходящей через ось цилинд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му равна площадь осевого сечения конуса, если его высота в 2 раза больше радиуса основания и равна 5 см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му равна площадь осевого сечения конуса, если осевым сечением конуса является прямоугольный треугольник, а радиус основания конуса 3 с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атчайший пу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уть по прямой?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E:\2016-17\11 класс\ШАР\i_001.png"/>
          <p:cNvPicPr/>
          <p:nvPr/>
        </p:nvPicPr>
        <p:blipFill>
          <a:blip r:embed="rId1"/>
          <a:stretch/>
        </p:blipFill>
        <p:spPr>
          <a:xfrm>
            <a:off x="428760" y="2071800"/>
            <a:ext cx="7873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1196640"/>
            <a:ext cx="6400800" cy="46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Сфера и шар.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427640" y="549360"/>
            <a:ext cx="3954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ь, состоящая из всех точек пространства, расположенных на данном расстоянии от данной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5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4000" y="1413000"/>
            <a:ext cx="3600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066920" y="907920"/>
            <a:ext cx="4314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Центром сфер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является данная точка, в данном случаи точка 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адиусом сфер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является любой отрезок, соединяющий центр и какую-нибудь точку сфе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иаметром сферы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является отрезок, соединяющий две точки сферы и проходящий через её центр. (=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5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95280" y="1844640"/>
            <a:ext cx="3600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E:\2016-17\11 класс\ШАР\moskva-prodayu_atrakcion_akvaskiper_AQUASKIPPER_vodnyy_shar_zorb_WaterBall_ZORB_zorb_321645.jpeg"/>
          <p:cNvPicPr/>
          <p:nvPr/>
        </p:nvPicPr>
        <p:blipFill>
          <a:blip r:embed="rId1"/>
          <a:stretch/>
        </p:blipFill>
        <p:spPr>
          <a:xfrm>
            <a:off x="500040" y="500040"/>
            <a:ext cx="3809880" cy="27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E:\2016-17\11 класс\ШАР\bubble_blower20.jpg"/>
          <p:cNvPicPr/>
          <p:nvPr/>
        </p:nvPicPr>
        <p:blipFill>
          <a:blip r:embed="rId2"/>
          <a:stretch/>
        </p:blipFill>
        <p:spPr>
          <a:xfrm>
            <a:off x="4643280" y="3571920"/>
            <a:ext cx="4286520" cy="280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:\2016-17\11 класс\ШАР\1312268840_810084_3.jpg"/>
          <p:cNvPicPr/>
          <p:nvPr/>
        </p:nvPicPr>
        <p:blipFill>
          <a:blip r:embed="rId3"/>
          <a:srcRect l="6511" t="0" r="14038" b="4583"/>
          <a:stretch/>
        </p:blipFill>
        <p:spPr>
          <a:xfrm>
            <a:off x="4643280" y="214200"/>
            <a:ext cx="3929400" cy="314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E:\2016-17\11 класс\ШАР\269250080f8ae7525abd064e2f422e0096733e22006d8543978396926f205631-600x600.jpg"/>
          <p:cNvPicPr/>
          <p:nvPr/>
        </p:nvPicPr>
        <p:blipFill>
          <a:blip r:embed="rId4"/>
          <a:srcRect l="0" t="13751" r="0" b="8750"/>
          <a:stretch/>
        </p:blipFill>
        <p:spPr>
          <a:xfrm>
            <a:off x="500040" y="3429000"/>
            <a:ext cx="38577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3c65"/>
                </a:solidFill>
                <a:latin typeface="Arial"/>
                <a:ea typeface="Times New Roman"/>
              </a:rPr>
              <a:t>Измерения, проведенные в </a:t>
            </a:r>
            <a:r>
              <a:rPr b="1" lang="en-US" sz="3200" spc="-1" strike="noStrike">
                <a:solidFill>
                  <a:srgbClr val="3c3c65"/>
                </a:solidFill>
                <a:latin typeface="Arial"/>
                <a:ea typeface="Times New Roman"/>
              </a:rPr>
              <a:t>XVII </a:t>
            </a:r>
            <a:r>
              <a:rPr b="1" lang="ru-RU" sz="3200" spc="-1" strike="noStrike">
                <a:solidFill>
                  <a:srgbClr val="3c3c65"/>
                </a:solidFill>
                <a:latin typeface="Arial"/>
                <a:ea typeface="Times New Roman"/>
              </a:rPr>
              <a:t>веке, показали, что Земля имеет форму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геоида</a:t>
            </a:r>
            <a:r>
              <a:rPr b="1" i="1" lang="ru-RU" sz="3200" spc="-1" strike="noStrike">
                <a:solidFill>
                  <a:srgbClr val="3c3c65"/>
                </a:solidFill>
                <a:latin typeface="Arial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3c3c65"/>
                </a:solidFill>
                <a:latin typeface="Arial"/>
                <a:ea typeface="Times New Roman"/>
              </a:rPr>
              <a:t>шара, немного сплющенного вдоль одного из диаметров – ос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E:\2016-17\11 класс\ШАР\146adbd17637.jpg"/>
          <p:cNvPicPr/>
          <p:nvPr/>
        </p:nvPicPr>
        <p:blipFill>
          <a:blip r:embed="rId1"/>
          <a:srcRect l="23050" t="0" r="20705" b="4999"/>
          <a:stretch/>
        </p:blipFill>
        <p:spPr>
          <a:xfrm>
            <a:off x="2786040" y="278604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2016-17\11 класс\ШАР\i.jpg"/>
          <p:cNvPicPr/>
          <p:nvPr/>
        </p:nvPicPr>
        <p:blipFill>
          <a:blip r:embed="rId2"/>
          <a:stretch/>
        </p:blipFill>
        <p:spPr>
          <a:xfrm>
            <a:off x="428760" y="4429080"/>
            <a:ext cx="2038320" cy="2048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E:\2016-17\11 класс\ШАР\i (1).jpg"/>
          <p:cNvPicPr/>
          <p:nvPr/>
        </p:nvPicPr>
        <p:blipFill>
          <a:blip r:embed="rId3"/>
          <a:srcRect l="13936" t="0" r="14088" b="0"/>
          <a:stretch/>
        </p:blipFill>
        <p:spPr>
          <a:xfrm>
            <a:off x="6429240" y="3571920"/>
            <a:ext cx="22147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3:59:51Z</dcterms:created>
  <dc:creator>Uchitel</dc:creator>
  <dc:description/>
  <dc:language>en-US</dc:language>
  <cp:lastModifiedBy>user</cp:lastModifiedBy>
  <dcterms:modified xsi:type="dcterms:W3CDTF">2017-12-27T16:00:03Z</dcterms:modified>
  <cp:revision>17</cp:revision>
  <dc:subject/>
  <dc:title>Сфера и шар. Уравнение сферы.</dc:title>
</cp:coreProperties>
</file>