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B122-613D-42F9-BC32-FA38E6CC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EDF2-B0CD-4C70-85EF-5C91B2BE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1AE-66F1-4DCC-A704-B4EAA101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C168-F7A5-4C6D-A5F7-4F60DA67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18C2-12F7-47D5-B894-3F86A257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D19B-DFF5-431C-9CF0-052C4B19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0F6A-EBC5-414E-A3E7-646F97F8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E6E8-8BC7-48BB-AB60-36890A23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BB32-3E6D-4077-B191-39F0666A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C406-7956-42D2-88CB-255F1392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E2D9-8326-441C-9D5A-38D6A62F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D6FC-9A36-43F4-987D-10671D14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AE5A-C0EE-49A6-8E56-5D531C98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6942-44E7-4ECD-9977-DC254303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F0A0-0C88-47DE-BB17-250512A4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5A4F-33CA-4881-BCB1-202EAA30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DECF-3DD0-49E8-94F4-D2855891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17126-ACA3-49B6-B315-8AF8879A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375B2-81B7-4E50-A902-62A86AF3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8C616-A891-43E8-BB5D-2337C440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FF747-F7EE-4639-8B8F-EB85FD49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23229-D8F2-4459-ACA6-DD39B5BE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376-FBA9-4D22-B9F6-47A341BC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706CB-FD3C-430F-95D5-C185B3C7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D07CA-9A7E-4DE9-8677-26D89DFF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2374F-4266-42F8-8FD6-2E63D5C7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8C169-1327-45F7-9593-4EE3CBBF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ABAFF-59D8-4B33-8E7F-DF7C3A2C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2C1CA-12AC-44D4-9ED4-A4482182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10E67-26F2-4E79-8CCD-43EC4E44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10445-83F3-46F8-9A5C-C5CC35FF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D7995-0B8A-4E50-A8BF-FFC67FFE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104D8-CB41-4FEB-B224-104F0CB5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E3E3-174B-46C4-BC46-5DF68CF5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621AB-0A34-42A4-AD88-033B9D12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F7D2C-95DC-4245-B413-13BC4F93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F9B72-5496-49B4-9D48-13248B4F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80F4D-2B81-4B10-8045-5184E447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D9257-5300-4D16-A834-81F036D9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ED720-27D8-4905-AD6C-2FFA252E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313C6-DF9E-4F3A-A85D-1E475F17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76A61-E73A-4577-91F8-320F61A3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A8DEE-5427-40DC-9CAC-C0237548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E425-20E0-4FF1-B984-DBEFC806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3C3A-80CC-4FA5-94B9-9E7DB6BE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6FD9-2783-440B-A09B-6F9BF336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67A4-9081-4231-9E2C-70FCB270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804F-4223-46B4-813B-4E0FE5F5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C723-7279-441B-AE10-27242AA1E2E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FADF-A414-4BA8-91D7-60B637CFDA30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0059-2159-4EDB-BD09-41A94E54266F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64B1-68DD-4F8F-AC8E-086B6D64801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0" i="1" lang="ru-RU" sz="2900" spc="-1" strike="noStrike">
                <a:solidFill>
                  <a:srgbClr val="04617b"/>
                </a:solidFill>
                <a:latin typeface="Calibri"/>
              </a:rPr>
              <a:t>Двенадцатое октября </a:t>
            </a:r>
            <a:br>
              <a:rPr sz="2900"/>
            </a:br>
            <a:r>
              <a:rPr b="0" i="1" lang="ru-RU" sz="2900" spc="-1" strike="noStrike">
                <a:solidFill>
                  <a:srgbClr val="04617b"/>
                </a:solidFill>
                <a:latin typeface="Calibri"/>
              </a:rPr>
              <a:t>Классная работа</a:t>
            </a:r>
            <a:br>
              <a:rPr sz="2900"/>
            </a:br>
            <a:r>
              <a:rPr b="0" i="1" lang="ru-RU" sz="2900" spc="-1" strike="noStrike">
                <a:solidFill>
                  <a:srgbClr val="04617b"/>
                </a:solidFill>
                <a:latin typeface="Calibri"/>
              </a:rPr>
              <a:t>Сказуемое и способы его выражения.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657240" y="2209320"/>
            <a:ext cx="5187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Ученье есть труд и должно быть трудом, полным мысл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.Д. Ушинск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6" descr="1 ct"/>
          <p:cNvPicPr/>
          <p:nvPr/>
        </p:nvPicPr>
        <p:blipFill>
          <a:blip r:embed="rId1"/>
          <a:stretch/>
        </p:blipFill>
        <p:spPr>
          <a:xfrm>
            <a:off x="304920" y="44197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бота с учебнико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nstantia"/>
              </a:rPr>
              <a:t>Упражнение 69 . </a:t>
            </a: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Пользуясь теоретическим материалом , попробуйте найти сказуемые разных видов, подчеркните их, списывая текст без ошибок. Раскройте </a:t>
            </a:r>
            <a:r>
              <a:rPr b="1" i="1" lang="ru-RU" sz="1400" spc="-1" strike="noStrike">
                <a:solidFill>
                  <a:srgbClr val="000000"/>
                </a:solidFill>
                <a:latin typeface="Constantia"/>
              </a:rPr>
              <a:t>скобк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(Ни)чего  более русского, чем язык, у нас нет. Мы пользуемся им так(же) естественно, как пьем или дышим. В глубине ХХ века, в которой мы находимся, слово «пользоваться» становится все более безнравственным, если(не)преступным. Воздухом равно дышат люди бедные и богатые, разных убеждений, возрастов, национальностей и вероисповеданий.  Бесплатность его (ни)когда (не)обсуждалась до нашего времени. Но воздух оказался (не0 бесплатен в перспективе. Сознание современного человека трещит, осложненное теперь  еще и экологическими проблемами. Но перестроиться все еще (не) может. Воздух, вода, земля…какой бесполезной вещью может оказаться однажды бриллиант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Язык- тот(же) океан. Как (бы) ни были обширны и глубоки и тот, и другой, в них трудно добавить хоть каплю, хоть слово. Всего этого столько, сколько есть. Но- (не)больше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(А.Битов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4617b"/>
                </a:solidFill>
                <a:latin typeface="Times New Roman"/>
              </a:rPr>
              <a:t>Домашнее задание: </a:t>
            </a:r>
            <a:br>
              <a:rPr sz="2400"/>
            </a:br>
            <a:r>
              <a:rPr b="0" i="1" lang="ru-RU" sz="2400" spc="-1" strike="noStrike">
                <a:solidFill>
                  <a:srgbClr val="04617b"/>
                </a:solidFill>
                <a:latin typeface="Times New Roman"/>
              </a:rPr>
              <a:t>1.упр.68, подобрать и записать в тетрадь по 2 примера на каждый вид сказуемого из учебника биологии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0" y="348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" descr="1 ct"/>
          <p:cNvPicPr/>
          <p:nvPr/>
        </p:nvPicPr>
        <p:blipFill>
          <a:blip r:embed="rId1"/>
          <a:stretch/>
        </p:blipFill>
        <p:spPr>
          <a:xfrm>
            <a:off x="152280" y="3049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7720" y="190476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892080" y="1904760"/>
            <a:ext cx="80233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Искренность, уравновешенность, понимание самого себя и других - вот залог счастья и успеха в любой области деятельности.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                   Г.Сель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1 ct"/>
          <p:cNvPicPr/>
          <p:nvPr/>
        </p:nvPicPr>
        <p:blipFill>
          <a:blip r:embed="rId1"/>
          <a:stretch/>
        </p:blipFill>
        <p:spPr>
          <a:xfrm>
            <a:off x="152280" y="304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1 ct"/>
          <p:cNvPicPr/>
          <p:nvPr/>
        </p:nvPicPr>
        <p:blipFill>
          <a:blip r:embed="rId2"/>
          <a:stretch/>
        </p:blipFill>
        <p:spPr>
          <a:xfrm>
            <a:off x="152280" y="3049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689760" y="5943240"/>
            <a:ext cx="23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а севере дик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И.Ши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sever"/>
          <p:cNvPicPr/>
          <p:nvPr/>
        </p:nvPicPr>
        <p:blipFill>
          <a:blip r:embed="rId1"/>
          <a:stretch/>
        </p:blipFill>
        <p:spPr>
          <a:xfrm>
            <a:off x="0" y="228600"/>
            <a:ext cx="3419640" cy="48006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5"/>
          <p:cNvSpPr/>
          <p:nvPr/>
        </p:nvSpPr>
        <p:spPr>
          <a:xfrm>
            <a:off x="3429000" y="2362320"/>
            <a:ext cx="5715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.Лермо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евере диком стоит од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ко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голой вершине сос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дремлет, к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ясь, и снегом сыпучим                                                                Одета, ка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из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снится ей все, что в пустыне д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кой,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м крае, где солнца в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хо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 и грустна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тес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ючем        Прекрасная пальма р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Ribina"/>
          <p:cNvPicPr/>
          <p:nvPr/>
        </p:nvPicPr>
        <p:blipFill>
          <a:blip r:embed="rId1"/>
          <a:stretch/>
        </p:blipFill>
        <p:spPr>
          <a:xfrm>
            <a:off x="3790800" y="704880"/>
            <a:ext cx="1562400" cy="1143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3048120" y="266652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Являясь наряду с берёзой поэтическим символом России, рябина - ещё и знак счастья и мир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6" descr="Картинка 1 из 95448"/>
          <p:cNvPicPr/>
          <p:nvPr/>
        </p:nvPicPr>
        <p:blipFill>
          <a:blip r:embed="rId2"/>
          <a:stretch/>
        </p:blipFill>
        <p:spPr>
          <a:xfrm>
            <a:off x="228600" y="3429000"/>
            <a:ext cx="2824200" cy="3200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Ribina"/>
          <p:cNvPicPr/>
          <p:nvPr/>
        </p:nvPicPr>
        <p:blipFill>
          <a:blip r:embed="rId3"/>
          <a:stretch/>
        </p:blipFill>
        <p:spPr>
          <a:xfrm>
            <a:off x="5715000" y="152280"/>
            <a:ext cx="3187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ь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1.Формирование орфоэпических и синтаксических навык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2. Обобщение сведений о сказуемом, знакомых учащимся по курсу 5-7 класс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3.Ознакомление с разными типами сказуемых, формирование умений находить сказуемое, определять форму сказуемог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7" descr="1 ct"/>
          <p:cNvPicPr/>
          <p:nvPr/>
        </p:nvPicPr>
        <p:blipFill>
          <a:blip r:embed="rId1"/>
          <a:stretch/>
        </p:blipFill>
        <p:spPr>
          <a:xfrm>
            <a:off x="7238880" y="152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1 ct"/>
          <p:cNvPicPr/>
          <p:nvPr/>
        </p:nvPicPr>
        <p:blipFill>
          <a:blip r:embed="rId2"/>
          <a:stretch/>
        </p:blipFill>
        <p:spPr>
          <a:xfrm>
            <a:off x="7238880" y="152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1 ct"/>
          <p:cNvPicPr/>
          <p:nvPr/>
        </p:nvPicPr>
        <p:blipFill>
          <a:blip r:embed="rId3"/>
          <a:stretch/>
        </p:blipFill>
        <p:spPr>
          <a:xfrm>
            <a:off x="7238880" y="1522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676520" y="533520"/>
            <a:ext cx="7315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титесь к §14, на стр.49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смотрите рубрику «Теоретические сведения»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анализируйте и определите, какая информация вам уже знакома, а какая новая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зовите виды сказуемого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е морфологические способы выражения сказуемого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7" descr="1 ct"/>
          <p:cNvPicPr/>
          <p:nvPr/>
        </p:nvPicPr>
        <p:blipFill>
          <a:blip r:embed="rId1"/>
          <a:stretch/>
        </p:blipFill>
        <p:spPr>
          <a:xfrm>
            <a:off x="0" y="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915400" cy="112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4617b"/>
                </a:solidFill>
                <a:latin typeface="Calibri"/>
              </a:rPr>
              <a:t>Виды сказуемого. </a:t>
            </a:r>
            <a:br>
              <a:rPr sz="2800"/>
            </a:br>
            <a:r>
              <a:rPr b="0" i="1" lang="ru-RU" sz="2800" spc="-1" strike="noStrike">
                <a:solidFill>
                  <a:srgbClr val="04617b"/>
                </a:solidFill>
                <a:latin typeface="Calibri"/>
              </a:rPr>
              <a:t>Морфологические способы его выраже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676520" y="1828800"/>
            <a:ext cx="7162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Простое глагольное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Глагол в форме какого-либо наклонения: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 синем небе звезды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блещут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Фразеологическое сочетание: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        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шел из себя </a:t>
            </a:r>
            <a:br>
              <a:rPr sz="1800"/>
            </a:b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    бьет баклуши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ришел в негодовани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Составное глагольно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спомогательный глагол + неопределенная форма глагола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ладимир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чинал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сильно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беспокоиться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Составное именное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глагол-связка + именная часть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Погода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была хорошая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     Деревня, где скучал Евгений,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была прелестный уголок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6" descr="1 ct"/>
          <p:cNvPicPr/>
          <p:nvPr/>
        </p:nvPicPr>
        <p:blipFill>
          <a:blip r:embed="rId1"/>
          <a:stretch/>
        </p:blipFill>
        <p:spPr>
          <a:xfrm>
            <a:off x="228600" y="52578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Спишите, подчеркните грамматическую основу, проанализируйте чем выражено сказуемое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а холмах и на равнинах рдеют кисти на рябинах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Я б тогда не стала гнуться и качатьс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ы, рябинушка моя, кудревата, листоват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ябина! Воспета ты в песнях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Алгоритм действий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о определению типа сказуемых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4" descr="russ.png"/>
          <p:cNvPicPr/>
          <p:nvPr/>
        </p:nvPicPr>
        <p:blipFill>
          <a:blip r:embed="rId1"/>
          <a:stretch/>
        </p:blipFill>
        <p:spPr>
          <a:xfrm>
            <a:off x="733320" y="2081160"/>
            <a:ext cx="7677360" cy="4095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1 ct"/>
          <p:cNvPicPr/>
          <p:nvPr/>
        </p:nvPicPr>
        <p:blipFill>
          <a:blip r:embed="rId2"/>
          <a:stretch/>
        </p:blipFill>
        <p:spPr>
          <a:xfrm>
            <a:off x="228600" y="-3049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russ.png"/>
          <p:cNvPicPr/>
          <p:nvPr/>
        </p:nvPicPr>
        <p:blipFill>
          <a:blip r:embed="rId3"/>
          <a:stretch/>
        </p:blipFill>
        <p:spPr>
          <a:xfrm>
            <a:off x="457200" y="1981080"/>
            <a:ext cx="82105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560" y="244080"/>
            <a:ext cx="8537400" cy="1203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Найдите из текста примеры, иллюстрирующие исследуемый нами материал (устно)</a:t>
            </a:r>
            <a:br>
              <a:rPr sz="36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Рябина — любимый персонаж русского фольклора. В народном календаре славян есть день «Петр-Павел рябинник», приходящийся на конец сентября. Это то время, когда созревают рябиновые ягоды. В этот день ветки с плодами связывали в пучки и развешивали под крышами домов. Такой обычай связан с представлениями о рябине как дереве, способном защитить человека от всяких бед. Рябиновыми ветками украшали не только жилые помещения, но и сараи, ворота, даже на краю каждого поля втыкали рябиновые вет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Рябина воспета в песнях, о ней сложены стихи, пословицы, загадки. Чаще всего в народном представлении рябина — это тонкая и нежная девушка, страдающая, плачуща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5" descr="Ribina"/>
          <p:cNvPicPr/>
          <p:nvPr/>
        </p:nvPicPr>
        <p:blipFill>
          <a:blip r:embed="rId1"/>
          <a:stretch/>
        </p:blipFill>
        <p:spPr>
          <a:xfrm>
            <a:off x="8102520" y="0"/>
            <a:ext cx="1041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02:21:36Z</dcterms:created>
  <dc:creator>Босс</dc:creator>
  <dc:description/>
  <dc:language>en-US</dc:language>
  <cp:lastModifiedBy>ПК 7</cp:lastModifiedBy>
  <dcterms:modified xsi:type="dcterms:W3CDTF">2017-12-27T07:33:4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