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29E7-2380-481D-BF29-7F55ABB191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65682-ACA8-41FF-A874-A9850BB41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9AF5E-11D4-467F-8491-34546EDC5B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027F8-250A-48FE-B573-1F91E342A1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BEAA0-FAF1-4522-BF6A-8F2AA9B189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D1676-15E4-4D26-9A30-0E77646A0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CF691-5E2E-493A-9874-9DFCB6C2E8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AEB05-CEF1-45FF-85A6-C5F31A768C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14AB-8CDC-4D0F-819B-BDCF8BC841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D557D-7389-4DC4-9B3D-DBFEE8EFE1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01A5-3406-4802-820D-D0FC7BDC7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23F42-4111-4EB3-911B-3338D8FA3D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25E8E-347E-485E-AAC3-9652E94ED3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61F96-6744-4507-AD2C-83EB754063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71A91-2997-421D-8560-4E739D739B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A4E8-0B13-44B1-BFE8-CB31A87D16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6CCD4-1EE9-4BC5-8906-EBCA5F7514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1720-5A90-4734-9955-4BCDD6021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006-1105-4BFB-B58A-2E7977DF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33D-7E06-406D-BFA2-DEE2004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B73-9765-4595-9A70-0845F33E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1CE-379F-4D95-B647-2E08DF34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812-E8E7-4207-A0D3-80EE848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3E3-E690-4187-884E-21915007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D63-CA59-4D92-B8C5-018210D5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B37-AB34-49F2-8C74-B00C12E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2CC-71A1-4428-AFEE-E540904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BA3-DE67-46CA-9D82-E3ADF57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287-2664-4A1F-880E-88757B6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253-0B57-491A-A641-28B2BEA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F0134-C37F-4457-B82A-35D83E62E7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4d"/>
                </a:solidFill>
                <a:latin typeface="Arial"/>
              </a:rPr>
              <a:t>Урок по теме «Сравнение десятичных дроб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дготовила и прове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КОУ «Нижнемамо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Ш № 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нских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73240" y="422280"/>
            <a:ext cx="8902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тематического диктан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81040" y="2565360"/>
            <a:ext cx="76770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“+”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 “+”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9  “+”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 и менее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“+”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-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634840" y="351000"/>
            <a:ext cx="48805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групп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493920" y="1208160"/>
            <a:ext cx="4982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циент А  -  36,5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468360" y="2208240"/>
            <a:ext cx="6715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циент Б  -  38,2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93920" y="3137040"/>
            <a:ext cx="498276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циент В -   36,6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93200" y="4065480"/>
            <a:ext cx="4912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циент Г  -  37,1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64480" y="5065560"/>
            <a:ext cx="4988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циент Д  -  37,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688320" y="6208560"/>
            <a:ext cx="10188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617480" y="6208560"/>
            <a:ext cx="925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2509560" y="6208560"/>
            <a:ext cx="1018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3332880" y="6208560"/>
            <a:ext cx="11012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330800" y="6208560"/>
            <a:ext cx="750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493000" y="493560"/>
            <a:ext cx="5007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групп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21440" y="1565280"/>
            <a:ext cx="6267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А  -  1,43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792720" y="2494080"/>
            <a:ext cx="62614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Б  -  1,38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21440" y="3422520"/>
            <a:ext cx="62676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В  -  1,46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90920" y="4351320"/>
            <a:ext cx="6022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Г  -   1,5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93080" y="5280120"/>
            <a:ext cx="62737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Д  -  1,52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993680" y="279360"/>
            <a:ext cx="5162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групп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31280" y="1351080"/>
            <a:ext cx="7363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А  -  41,13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30200" y="2279520"/>
            <a:ext cx="7188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Б  -  40,8 се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6960" y="3208320"/>
            <a:ext cx="7363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В  -  40,72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3280" y="4208400"/>
            <a:ext cx="74563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Г  -  42,10 се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2920" y="5208480"/>
            <a:ext cx="736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Д  -  41,44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554760" y="565200"/>
            <a:ext cx="3566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 u="sng">
                <a:solidFill>
                  <a:srgbClr val="0070c0"/>
                </a:solidFill>
                <a:uFillTx/>
                <a:latin typeface="Arial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20480" y="1636560"/>
            <a:ext cx="74152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учиться сравн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сятичные дроб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21000" y="3780000"/>
            <a:ext cx="3573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 u="sng">
                <a:solidFill>
                  <a:srgbClr val="0070c0"/>
                </a:solidFill>
                <a:uFillTx/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97520" y="4923000"/>
            <a:ext cx="6645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сятичных дроб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11280" y="565200"/>
            <a:ext cx="82864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равнить дроб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611280" y="1851120"/>
            <a:ext cx="86119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а)   2,1   и   12,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б)   2,1   и   2,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)   2,11   и   2,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г)   2,11   и   2,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96720" y="422280"/>
            <a:ext cx="88585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Для того, чтобы сравнить две десятичные дроби, нужно сначала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равн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количество целых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 больше будет та дроб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у которой целых больше,  если целых у них одинаково, то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равниваем количество десятых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и так дале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493000" y="493560"/>
            <a:ext cx="5007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групп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21440" y="1565280"/>
            <a:ext cx="6267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А  -  1,43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92720" y="2494080"/>
            <a:ext cx="62614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Б  -  1,38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721440" y="3422520"/>
            <a:ext cx="62676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В  -  1,46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788400" y="4351320"/>
            <a:ext cx="5433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Г  -   1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793080" y="5280120"/>
            <a:ext cx="62737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ащийся Д  -  1,52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687360" y="4351320"/>
            <a:ext cx="599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115680" y="435132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830160" y="6423120"/>
            <a:ext cx="750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682640" y="6423120"/>
            <a:ext cx="857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2544840" y="6423120"/>
            <a:ext cx="75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3364200" y="6423120"/>
            <a:ext cx="680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188240" y="6423120"/>
            <a:ext cx="762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993680" y="279360"/>
            <a:ext cx="5162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для групп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31280" y="1351080"/>
            <a:ext cx="7363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А  -  41,13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22280" y="2279520"/>
            <a:ext cx="5940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Б  -  40,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516960" y="3208320"/>
            <a:ext cx="7363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В  -  40,72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03280" y="4208400"/>
            <a:ext cx="74563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Г  -  42,10 се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02920" y="5208480"/>
            <a:ext cx="736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ортсмен Д  -  41,44 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761880" y="2279520"/>
            <a:ext cx="1090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6187320" y="227952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473120" y="6280200"/>
            <a:ext cx="750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325600" y="6280200"/>
            <a:ext cx="8571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544680" y="6280200"/>
            <a:ext cx="75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187800" y="6280200"/>
            <a:ext cx="762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4007160" y="6280200"/>
            <a:ext cx="680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682560" y="351000"/>
            <a:ext cx="7628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182680" y="1136520"/>
            <a:ext cx="4946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равнить числ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578040" y="2279520"/>
            <a:ext cx="565344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 12,567   и   125,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 7,399   и   7,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 0,0091   и   0,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8560" y="2708280"/>
            <a:ext cx="2814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Arial"/>
              </a:rPr>
              <a:t>I </a:t>
            </a: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вариа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39840" y="5280120"/>
            <a:ext cx="2814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Arial"/>
              </a:rPr>
              <a:t>I </a:t>
            </a: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вариа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3433320" y="4851360"/>
            <a:ext cx="535176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 4,199   и   4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 18,342  и  183,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 0,02   и   0,00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774360" y="493560"/>
            <a:ext cx="75934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.31,  № 1200, 1202, 1203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выучи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611280" y="3422520"/>
            <a:ext cx="70722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Итог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 – 15 баллов  -   «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-13 баллов   -   «</a:t>
            </a: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-10 баллов   -   «</a:t>
            </a:r>
            <a:r>
              <a:rPr b="0" lang="ru-RU" sz="48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енее 8 баллов  -  «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554760" y="565200"/>
            <a:ext cx="3566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420480" y="1636560"/>
            <a:ext cx="74152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учиться сравн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сятичные дроб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573480" y="4422600"/>
            <a:ext cx="84650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822240" y="1627200"/>
          <a:ext cx="695016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627200"/>
                    <a:ext cx="695016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3"/>
          <p:cNvGraphicFramePr/>
          <p:nvPr/>
        </p:nvGraphicFramePr>
        <p:xfrm>
          <a:off x="676440" y="3346560"/>
          <a:ext cx="7937280" cy="36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3346560"/>
                    <a:ext cx="793728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"/>
          <p:cNvGraphicFramePr/>
          <p:nvPr/>
        </p:nvGraphicFramePr>
        <p:xfrm>
          <a:off x="682560" y="5280120"/>
          <a:ext cx="6742080" cy="36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2560" y="5280120"/>
                    <a:ext cx="6742080" cy="36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Box 6"/>
          <p:cNvSpPr/>
          <p:nvPr/>
        </p:nvSpPr>
        <p:spPr>
          <a:xfrm>
            <a:off x="4390920" y="993600"/>
            <a:ext cx="2135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6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135160" y="351000"/>
            <a:ext cx="5999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4463640" y="565200"/>
            <a:ext cx="2015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34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884160" y="1530360"/>
          <a:ext cx="7656480" cy="46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4160" y="1530360"/>
                    <a:ext cx="7656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"/>
          <p:cNvGraphicFramePr/>
          <p:nvPr/>
        </p:nvGraphicFramePr>
        <p:xfrm>
          <a:off x="896760" y="3065400"/>
          <a:ext cx="7072560" cy="449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6760" y="3065400"/>
                    <a:ext cx="707256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825480" y="4065480"/>
          <a:ext cx="7643880" cy="478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5480" y="4065480"/>
                    <a:ext cx="76438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986480" y="565200"/>
            <a:ext cx="5583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682560" y="2279520"/>
          <a:ext cx="6858000" cy="565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279520"/>
                    <a:ext cx="6858000" cy="56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3"/>
          <p:cNvSpPr/>
          <p:nvPr/>
        </p:nvSpPr>
        <p:spPr>
          <a:xfrm>
            <a:off x="484200" y="1422360"/>
            <a:ext cx="3731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986480" y="493560"/>
            <a:ext cx="5583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428040" y="1351080"/>
            <a:ext cx="610920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ны ли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   4,30   и   4,3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   0,6   и   0,06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   7,2000   и   7,2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)   19   и   19,00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)   50,6   и   5,0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489960" y="493560"/>
            <a:ext cx="4379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 диктан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52240" y="1351080"/>
            <a:ext cx="25034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841320" y="2422440"/>
            <a:ext cx="31892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)  14,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842040" y="3708360"/>
            <a:ext cx="3413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)  2,00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917640" y="4994280"/>
            <a:ext cx="4441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)   30,007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16"/>
          <p:cNvGraphicFramePr/>
          <p:nvPr/>
        </p:nvGraphicFramePr>
        <p:xfrm>
          <a:off x="396720" y="2065320"/>
          <a:ext cx="655344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065320"/>
                    <a:ext cx="655344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325440" y="3351240"/>
          <a:ext cx="6742080" cy="35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" y="3351240"/>
                    <a:ext cx="6742080" cy="35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254160" y="4422600"/>
          <a:ext cx="6742080" cy="448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4160" y="4422600"/>
                    <a:ext cx="67420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325440" y="5780160"/>
          <a:ext cx="6742080" cy="44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440" y="5780160"/>
                    <a:ext cx="674208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0"/>
          <p:cNvSpPr/>
          <p:nvPr/>
        </p:nvSpPr>
        <p:spPr>
          <a:xfrm>
            <a:off x="1132920" y="351000"/>
            <a:ext cx="4379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 диктан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195200" y="1136520"/>
            <a:ext cx="25034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82560" y="636480"/>
            <a:ext cx="3071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   4,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686760" y="708120"/>
            <a:ext cx="581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94080" y="1636560"/>
            <a:ext cx="2326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   0,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0560" y="3208320"/>
            <a:ext cx="34405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   7,2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765000" y="4494240"/>
            <a:ext cx="1992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)  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768240" y="5708520"/>
            <a:ext cx="27151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)   50,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33680" y="636480"/>
            <a:ext cx="13878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4263120" y="1922400"/>
            <a:ext cx="15141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3401280" y="1922400"/>
            <a:ext cx="5572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5118120" y="3208320"/>
            <a:ext cx="11332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329720" y="3279600"/>
            <a:ext cx="581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3979080" y="4494240"/>
            <a:ext cx="1895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,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3115080" y="4494240"/>
            <a:ext cx="581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4548960" y="5708520"/>
            <a:ext cx="15141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,0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3615480" y="5780160"/>
            <a:ext cx="5572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6410160" y="422280"/>
            <a:ext cx="25034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>Antonova</dc:creator>
  <dc:description/>
  <dc:language>en-US</dc:language>
  <cp:lastModifiedBy>user</cp:lastModifiedBy>
  <dcterms:modified xsi:type="dcterms:W3CDTF">2017-12-27T15:05:32Z</dcterms:modified>
  <cp:revision>40</cp:revision>
  <dc:subject/>
  <dc:title>Слайд 1</dc:title>
</cp:coreProperties>
</file>