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laser.wav" ContentType="audio/x-wav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9FB-28FC-4854-8998-FBCD03DD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E07-7F2B-472C-99BA-98651C8E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E28-0D09-480F-997B-A872A24D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278-9ABE-4F31-A4B8-E75A6853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781-8940-47D2-B874-205669D6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A6C-FC22-48CB-9485-085AA817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E72-C18D-4481-AED4-BF8037FD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687-76A7-485D-AE04-45283E86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33C-478A-48EE-BC41-ABC12CD4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873-C4DE-41A6-9AC8-35CA18A0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6CF-1DA3-4C43-A481-82F1B95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410-53AB-4AA3-BD84-7C6AB53C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7C04-B749-452E-A8EE-8B3D41387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565520" y="695160"/>
            <a:ext cx="345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ill Sans Ultra Bold"/>
              </a:rPr>
              <a:t>ПРОЕКТНАЯ ДЕЯТЕЛЬ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ill Sans Ultra Bold"/>
              </a:rPr>
              <a:t>с детьми младшег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ill Sans Ultra Bold"/>
              </a:rPr>
              <a:t>дошкольного возрас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067560" y="3789360"/>
            <a:ext cx="53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дготовила: воспитатель МБДО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«Детский сад общеразвивающего вида №64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Борсякова М.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926880" y="58770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2015 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0"/>
          <p:cNvSpPr txBox="1"/>
          <p:nvPr/>
        </p:nvSpPr>
        <p:spPr>
          <a:xfrm>
            <a:off x="1476360" y="2708280"/>
            <a:ext cx="73058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Я РАСТУ И ЗДОРОВЫМ БЫТЬ ХОЧУ"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695600" y="623736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итамины я люблю – быть здоровым я хочу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SL272740"/>
          <p:cNvPicPr/>
          <p:nvPr/>
        </p:nvPicPr>
        <p:blipFill>
          <a:blip r:embed="rId2"/>
          <a:stretch/>
        </p:blipFill>
        <p:spPr>
          <a:xfrm>
            <a:off x="108000" y="836640"/>
            <a:ext cx="7488360" cy="5245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2211120" y="42840"/>
            <a:ext cx="41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 жизни нам необходим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чень много витаминов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269080" y="836640"/>
            <a:ext cx="42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сех сейчас не перечес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ужно нам побольше е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Мясо, овощи и фрукты 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туральные продукт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81080" y="836640"/>
            <a:ext cx="7272360" cy="5303880"/>
          </a:xfrm>
          <a:prstGeom prst="rect">
            <a:avLst/>
          </a:prstGeom>
          <a:ln w="0">
            <a:noFill/>
          </a:ln>
        </p:spPr>
      </p:pic>
      <p:sp>
        <p:nvSpPr>
          <p:cNvPr id="94" name="WordArt 6"/>
          <p:cNvSpPr txBox="1"/>
          <p:nvPr/>
        </p:nvSpPr>
        <p:spPr>
          <a:xfrm>
            <a:off x="1258920" y="333360"/>
            <a:ext cx="6848280" cy="48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ЛШЕБНАЯ СИЛА ВИТАМИНОВ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30872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055680" y="47628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поможет нам ст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28120" y="6256440"/>
            <a:ext cx="73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итамины помогают нам не болеть и быстрее адаптироватьс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 детскому сад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272000" y="1484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РЕПКИ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7097040" y="30686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ИЛЬН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022520" y="458136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КРАСИВЫМИ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2700360" y="2565360"/>
            <a:ext cx="5435640" cy="407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3781800" y="40464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ГИМНАСТИК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РОБУЖД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30800" y="1911240"/>
            <a:ext cx="648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УПРАЖНЕНИЕ: «Мы проснулись – потянулись…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716360" y="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4105080" cy="307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4788000" y="3284640"/>
            <a:ext cx="4103640" cy="307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869800" y="29242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304680" y="63817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йчи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405800" y="6381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вые нож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5"/>
          <a:stretch/>
        </p:blipFill>
        <p:spPr>
          <a:xfrm>
            <a:off x="324000" y="0"/>
            <a:ext cx="4066920" cy="3049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2"/>
          <p:cNvSpPr/>
          <p:nvPr/>
        </p:nvSpPr>
        <p:spPr>
          <a:xfrm>
            <a:off x="1622160" y="29242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ятни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424680" y="981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Гибкость, ловкость, быстро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м полезна и нужна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52720" y="21337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Чтоб успеш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азвиваться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ужно спорт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ниматься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29760" y="6021360"/>
            <a:ext cx="31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т занятий физкульту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Будет стройная фигура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496680" y="1159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УПРАЖНЕНИЯ 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В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4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7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618000" cy="4824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5491080" y="0"/>
            <a:ext cx="3652920" cy="4869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 rot="5400000">
            <a:off x="2603520" y="2159640"/>
            <a:ext cx="406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КАЛИВА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71000" y="5157720"/>
            <a:ext cx="89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оем руки и лицо водой комнатной температу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482920" y="59500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 простой воды и мы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У микробов тают силы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Микроб"/>
          <p:cNvPicPr/>
          <p:nvPr/>
        </p:nvPicPr>
        <p:blipFill>
          <a:blip r:embed="rId4"/>
          <a:stretch/>
        </p:blipFill>
        <p:spPr>
          <a:xfrm>
            <a:off x="6948360" y="573408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7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4" nodeType="afterEffect" fill="hold" presetClass="exit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5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24036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SL272682"/>
          <p:cNvPicPr/>
          <p:nvPr/>
        </p:nvPicPr>
        <p:blipFill>
          <a:blip r:embed="rId3"/>
          <a:stretch/>
        </p:blipFill>
        <p:spPr>
          <a:xfrm>
            <a:off x="3564000" y="1700280"/>
            <a:ext cx="5421240" cy="4065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1258200" y="76500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СВОЁ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ЛОТЕНЦЕ - ЗАЛОГ ЗДОРОВЬ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476360" y="5877000"/>
            <a:ext cx="57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НАСУХО ВЫТИРАЕМСЯ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060360" y="11592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ФОРМИРУЕМ КГ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260"/>
                            </p:stCondLst>
                            <p:childTnLst>
                              <p:par>
                                <p:cTn id="5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5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5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2559600" y="333360"/>
            <a:ext cx="633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АЖНАЯ РОЛЬ в укреплении здоровья принадлежи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шим стоп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SL272726"/>
          <p:cNvPicPr/>
          <p:nvPr/>
        </p:nvPicPr>
        <p:blipFill>
          <a:blip r:embed="rId2"/>
          <a:stretch/>
        </p:blipFill>
        <p:spPr>
          <a:xfrm>
            <a:off x="1619280" y="981000"/>
            <a:ext cx="5838840" cy="43815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92560" y="5608800"/>
            <a:ext cx="64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ПОЛЕЗНО ходить, играть выполнять физическ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упражнения БОСИКОМ (в холодную погоду – в носках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SL272690"/>
          <p:cNvPicPr/>
          <p:nvPr/>
        </p:nvPicPr>
        <p:blipFill>
          <a:blip r:embed="rId2"/>
          <a:stretch/>
        </p:blipFill>
        <p:spPr>
          <a:xfrm>
            <a:off x="0" y="0"/>
            <a:ext cx="3645000" cy="486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SL272691"/>
          <p:cNvPicPr/>
          <p:nvPr/>
        </p:nvPicPr>
        <p:blipFill>
          <a:blip r:embed="rId3"/>
          <a:stretch/>
        </p:blipFill>
        <p:spPr>
          <a:xfrm>
            <a:off x="3851280" y="115920"/>
            <a:ext cx="4964040" cy="3713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109080" y="5084640"/>
            <a:ext cx="39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а ещё полезнее – ходи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босиком по массажном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оврику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155480" y="407664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ли по массажной дорожк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504680" y="5013360"/>
            <a:ext cx="44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 этом случае эффект закалив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дополняется эффектом физическ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оздействия массажера на нервны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центры, расположенные на стопа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SL272704"/>
          <p:cNvPicPr/>
          <p:nvPr/>
        </p:nvPicPr>
        <p:blipFill>
          <a:blip r:embed="rId2"/>
          <a:stretch/>
        </p:blipFill>
        <p:spPr>
          <a:xfrm>
            <a:off x="2124000" y="1700280"/>
            <a:ext cx="5437440" cy="4079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3564000" y="40464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А чтобы нам был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интереснее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185640" y="6084720"/>
            <a:ext cx="57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поиграем в весёлый трамвайчик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1332000" y="1268280"/>
            <a:ext cx="55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писание проект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68360" y="2276640"/>
            <a:ext cx="805500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Georgia"/>
              </a:rPr>
              <a:t>Вид проекта:</a:t>
            </a:r>
            <a:r>
              <a:rPr b="1" lang="ru-RU" sz="2000" spc="-1" strike="noStrike">
                <a:solidFill>
                  <a:srgbClr val="0000cc"/>
                </a:solidFill>
                <a:latin typeface="Georgia"/>
              </a:rPr>
              <a:t> краткосрочный, группов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Georgia"/>
              </a:rPr>
              <a:t>Участники проекта:</a:t>
            </a:r>
            <a:r>
              <a:rPr b="1" lang="ru-RU" sz="2000" spc="-1" strike="noStrike">
                <a:solidFill>
                  <a:srgbClr val="0000cc"/>
                </a:solidFill>
                <a:latin typeface="Georgia"/>
              </a:rPr>
              <a:t> дети, родители, педагог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Georgia"/>
              </a:rPr>
              <a:t>Возраст детей:</a:t>
            </a:r>
            <a:r>
              <a:rPr b="1" lang="ru-RU" sz="2000" spc="-1" strike="noStrike">
                <a:solidFill>
                  <a:srgbClr val="0000cc"/>
                </a:solidFill>
                <a:latin typeface="Georgia"/>
              </a:rPr>
              <a:t> вторая младшая групп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Georgia"/>
              </a:rPr>
              <a:t>Актуальность проекта: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 настоящее время существуют тенденции снижения здоровья подрастающего поколения, поэтому потребность в формировании у детей представлений о здоровом образе жизни возрастает и требует поиска новых путей в образовании, воспитании и развитии дошкольников.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054880" y="189000"/>
            <a:ext cx="46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ТОГИ ПРОЕКТА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8320" y="1052640"/>
            <a:ext cx="86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. Проект «Я расту и здоровым быть хочу» помогает решить задач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здоровления детей, начавших посещать детский сад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832680" y="1773360"/>
            <a:ext cx="69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2. У детей сформированы начальные потребности в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облюдении личной гигиен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826920" y="2492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3. Ребята получили представление о ценности здоровья 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еобходимости вести здоровый образ жизн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920" y="3284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4. Физические упражнения и закаливающие организм процедуры прочно вошли в ежедневный распорядок дня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46400" y="4076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5. Дети узнали много нового о питании, богатом витаминам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533880" y="4508640"/>
            <a:ext cx="80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6. В ходе реализации проекта дошкольники познакомили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 занимательным литературным творчеством К.И. Чуковско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90480" y="5589720"/>
            <a:ext cx="77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ЦЕЛЬ ПРОЕКТА ДОСТИГНУ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3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8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3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8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694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66920" y="2421000"/>
            <a:ext cx="821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4675320" cy="3116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5005440" y="0"/>
            <a:ext cx="42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ЕЛЬ: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формиров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дорового образа жизн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звит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знавательных 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ворческих способносте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 детей младшег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ошкольного возраст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32200" y="306864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mic"/>
              </a:rPr>
              <a:t>ЗАДАЧ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-339840" y="3429000"/>
            <a:ext cx="47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. Укреплять и охранять здоровь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детей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-337320" y="4005360"/>
            <a:ext cx="44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2. Воспитывать потребность в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облюдении навыков гигиен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-336960" y="4653000"/>
            <a:ext cx="50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3. Прививать представление 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ценности здоровья и желание ве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здоровый образ жизн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339480" y="6216480"/>
            <a:ext cx="47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5. Заложить основы понятий 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правильном и полезном питан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SL272570"/>
          <p:cNvPicPr/>
          <p:nvPr/>
        </p:nvPicPr>
        <p:blipFill>
          <a:blip r:embed="rId3"/>
          <a:stretch/>
        </p:blipFill>
        <p:spPr>
          <a:xfrm>
            <a:off x="5043600" y="2637000"/>
            <a:ext cx="4100400" cy="4221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-334080" y="5589720"/>
            <a:ext cx="51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4. Развивать уважение к физически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упражнениям и закаливанию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49120" y="0"/>
            <a:ext cx="87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БЪЕКТ: оздоровление детей второй младшей групп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1484280"/>
            <a:ext cx="25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ЕДМЕТ: традиционн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и новаторские  метод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здоровитель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аботы; подвижные игры, как наиболе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эффективные сред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здоровления дет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SL272651"/>
          <p:cNvPicPr/>
          <p:nvPr/>
        </p:nvPicPr>
        <p:blipFill>
          <a:blip r:embed="rId2"/>
          <a:stretch/>
        </p:blipFill>
        <p:spPr>
          <a:xfrm>
            <a:off x="2484360" y="755640"/>
            <a:ext cx="66596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68" fill="hold">
                                          <p:stCondLst>
                                            <p:cond delay="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3" autoRev="1" fill="hold">
                                          <p:stCondLst>
                                            <p:cond delay="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" fill="hold">
                                          <p:stCondLst>
                                            <p:cond delay="1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375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375"/>
                            </p:stCondLst>
                            <p:childTnLst>
                              <p:par>
                                <p:cTn id="139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L272725"/>
          <p:cNvPicPr/>
          <p:nvPr/>
        </p:nvPicPr>
        <p:blipFill>
          <a:blip r:embed="rId2"/>
          <a:stretch/>
        </p:blipFill>
        <p:spPr>
          <a:xfrm>
            <a:off x="179280" y="1268280"/>
            <a:ext cx="4041720" cy="5389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L272730"/>
          <p:cNvPicPr/>
          <p:nvPr/>
        </p:nvPicPr>
        <p:blipFill>
          <a:blip r:embed="rId3"/>
          <a:stretch/>
        </p:blipFill>
        <p:spPr>
          <a:xfrm>
            <a:off x="4356000" y="1268280"/>
            <a:ext cx="4680000" cy="3510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4354920" y="5013360"/>
            <a:ext cx="46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доровье в порядке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пасибо зарядк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02240" y="189000"/>
            <a:ext cx="88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Чтоб здоровым быть сполна - физкультура всем нуж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754560" y="620640"/>
            <a:ext cx="76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ля начала, по порядку, становитесь на зарядку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612160" y="3524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улярные прогулки и физические упражнения 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жем воздухе – залог здоровья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64818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355720" y="620640"/>
            <a:ext cx="358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а прогулк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ы скакали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 игры разны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Играли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99320" y="3927600"/>
            <a:ext cx="380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Бегали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Соревновалис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И здоровь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Набирались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2"/>
          <a:stretch/>
        </p:blipFill>
        <p:spPr>
          <a:xfrm>
            <a:off x="4643280" y="348156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2855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0" y="3618000"/>
            <a:ext cx="4859280" cy="3240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53800" y="227664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исуем дождик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 окном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220000" y="3933720"/>
            <a:ext cx="365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 зонтика 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зиновых сапо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дождь гуля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53800" y="1052640"/>
            <a:ext cx="43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ненастный ден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6624720" cy="4413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245600" y="476280"/>
            <a:ext cx="761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Формируем культурно-гигиенические навыки с помощь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редств художественной литера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970920" y="595008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Чтение сказки К.И. Чуковского «МОЙДОДЫР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91" fill="hold">
                                          <p:stCondLst>
                                            <p:cond delay="9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1" autoRev="1" fill="hold">
                                          <p:stCondLst>
                                            <p:cond delay="9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7" fill="hold">
                                          <p:stCondLst>
                                            <p:cond delay="173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280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4T09:24:29Z</dcterms:created>
  <dc:creator>Владимир</dc:creator>
  <dc:description/>
  <dc:language>en-US</dc:language>
  <cp:lastModifiedBy>Владимир</cp:lastModifiedBy>
  <dcterms:modified xsi:type="dcterms:W3CDTF">2017-11-12T10:35:16Z</dcterms:modified>
  <cp:revision>37</cp:revision>
  <dc:subject/>
  <dc:title>Слайд 1</dc:title>
</cp:coreProperties>
</file>