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8.jpeg" ContentType="image/jpeg"/>
  <Override PartName="/ppt/media/image24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2.png" ContentType="image/png"/>
  <Override PartName="/ppt/media/image27.jpeg" ContentType="image/jpeg"/>
  <Override PartName="/ppt/media/image6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5D0F-B720-4C63-B0D5-189A79D2C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3401-DEF7-494D-B088-1BCED802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E1A8-936B-4B41-8FE6-5DAB4BFB6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BBA8-A463-4E7B-BA5B-E3E3FC2D2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C467-D452-42EF-A1F7-1EE57EC2E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66C9-FBDA-443F-A9B9-5A8F2326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FFCB-AD2A-40A4-A551-1C8E9A66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F93D-2E4A-41EB-9AD7-ACB52877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EEB0-4333-410F-8CED-E1575059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83A6-6394-4EC9-AEE6-506C2E0B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FA7A-9EC2-487B-9F0D-5C760A86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C1FE-AFB8-4525-BF3C-640DECF9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00B2-A188-4451-A3B1-02EAAED6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743D-068B-4223-AFE9-1AA84A7B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690C-8571-4B1A-A5BC-3D36BBCE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AFBE-ECF8-4E98-B178-2EF8CD384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DEDB-59A8-44D5-90C5-3C8E9BFC1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A5238-3CC8-4037-A758-1F1F6FB24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60994-0BAF-4956-A434-ED262893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3A82F-1595-4D2B-89FB-0387A89C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AC3C0-B3CA-43EC-AD3D-D609DECD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9DE5F-E7ED-4181-83C7-19261A85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8348-00F1-46D0-8B2B-4FE2EBC1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96D34-0AE5-4343-83D6-968682EF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309ED-318A-4774-94BF-89B55519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F07AB-1FBA-44F2-811B-F9C30A9D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EB132-5378-41A0-9346-697170AC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ACF86-B124-478A-A3CF-0C01079F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5ED91-98DD-44E6-811F-D26693819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C5BD8-96C6-4EA2-8386-96C07A163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0827E-0169-44D9-A57C-77AE48A95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90C91-D99A-4C80-952B-1B8890CA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CB47D-879B-42F0-8374-6FABDE3E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EA5E-2EB2-41F1-BE90-4C06BAB4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F4767-C2F1-422B-A3C1-61B879C0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B52E9-AF3A-465A-967B-F8505E47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F20E7-8BE7-4837-B33C-1DB479E6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1021C-08BB-49CB-9448-BF8FA704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36D71-42D9-48BE-AE92-AEF4ADE4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84A20-C264-4257-AEF3-52D86F03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B6387-069F-471A-9510-8FE9FAA0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58B4B-BBED-48E4-8A34-88DFF763F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2E372-CDF0-400E-9372-D8DA0D06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18ED2-966B-4BF5-89E6-2DA85B053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0F4C-9F15-47DC-A956-530E7577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205B0-9FA6-4E89-845B-97C4DB8D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CD432-907F-4F11-8EC8-63DEBA61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12B74-4915-48B9-9036-3B8B7B85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8A7C2-6654-4C46-BD16-4BF62615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00C73-AEDA-4015-B06D-75B326FC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539ED-198E-4EEA-86A6-B78BAF38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6D002-3A6E-42D5-8056-76AEA505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6C025-186D-4D75-9D25-6868CE98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F5E70-40E9-4BDC-9A6A-38B574A7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91605-4FCE-4F79-A798-1D0DE2060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79D8-B62A-4058-9C87-E3F69F41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EB182-0992-463F-AD31-8A7FF36AE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60E04-DAA2-475A-BB3F-4791BB862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91BEA-63C2-46B5-B8C4-67FEB5AA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04369-EF2C-4B94-AEA7-466247D3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C6136-A311-4A62-9F7B-82025713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17FE2-6A42-45D0-B8EC-78CDEE8A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0E172-A17B-4270-950B-FBA97469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AAEAA-A510-424A-88E8-037EFCEA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4E6F3-48BE-4CD9-BDEA-F4BF8316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2003E-7AF7-4E6E-ADA3-B2D32B4B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62BE-33AE-4249-B529-6474FA38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715A2-FB90-420D-8A6E-53A71F14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266E9-3A0F-4D13-A458-915EC5603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00038-06F1-4092-A1CD-1FB65578C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BCBAB-DA9F-482E-B77A-52EF60B92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76A32-180B-427A-B558-4301C4A9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FBC4F-7577-4D40-866B-9F35A4F9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9384D-98E7-43E1-A6ED-5C18DAB4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DB579-CE64-41C7-ACD1-0F1C1734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72DD3-17A1-4E51-AA87-C78B2F7D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68B89-158B-4C58-B048-B80A92F2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F3C3-F4BC-47D4-B687-759D24A3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061E9-B446-4F71-8AF6-E6380E9C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216F5-C903-44BC-9B39-8D230630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BA828-CDDF-4B64-B664-35E09E00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6FEB9-BE73-49D7-AE9A-44270798F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E6705-BB24-4B2F-AE1B-3410F40C6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8B020-0751-450C-B4EF-C3B136C50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E3DC0-3A74-4F88-BF14-0C3B0135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83E08-1493-44E2-841D-EEF1B22F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A983C-9CBD-46C5-A0B8-7CE541DD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3F4A4-FB3F-43B3-A1C3-25C25687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2CFB-E0D2-4E8F-89C6-25E559F3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C310B-097F-4218-9DEC-80542095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E1A11-B373-4094-9464-AF75E991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5B40A-4495-469D-914C-3DE56405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11373-7AD3-40EC-A52E-93D146F6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80BFA-3F3F-4A0D-B731-B163BA20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527D6-A597-4091-A412-82EB6093E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4E07A-091C-4774-8266-F361F52EB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A139-92DB-4FA8-B3FD-4DD3A9F50DB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E3E0-49D4-4E4A-BDBE-F708775E81F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17ED-CD9B-4BCA-B8A7-D01707D0E67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5322-0358-4087-9A69-86C0304CAF2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4609-B4C5-4886-90AC-441A8CCBE9B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9A17-7B0D-46E8-B229-635467BC871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31EA-8028-4925-9CA0-17CDB92526B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EE73-F746-4A17-8491-CCFBF9BF2EE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24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WordArt 6"/>
          <p:cNvSpPr txBox="1"/>
          <p:nvPr/>
        </p:nvSpPr>
        <p:spPr>
          <a:xfrm>
            <a:off x="324000" y="549360"/>
            <a:ext cx="8424720" cy="48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1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1" name="Прямоугольник 4"/>
          <p:cNvSpPr/>
          <p:nvPr/>
        </p:nvSpPr>
        <p:spPr>
          <a:xfrm>
            <a:off x="755640" y="476280"/>
            <a:ext cx="73454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Arial"/>
              </a:rPr>
              <a:t>Загрязнение окружающей природной среды и здоровье человека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6836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8119"/>
                </a:solidFill>
                <a:latin typeface="Arial"/>
              </a:rPr>
              <a:t>Нерациональное использование земельных ресурсов(перегрузка почв удобрениями и пестицидами, чрезмерное развитие пастбищного животноводства и т. д)приводит к деградации почвы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8119"/>
                </a:solidFill>
                <a:latin typeface="Arial"/>
              </a:rPr>
              <a:t>Серьёзную опасность представляет загрязнение почвы бытовыми и промышленными отходам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8119"/>
                </a:solidFill>
                <a:latin typeface="Arial"/>
              </a:rPr>
              <a:t>Наиболее токсичны отходы, содержащие ртуть, мышьяк, свинец, цинк ,аммиак и радиационные загрязнения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8119"/>
                </a:solidFill>
                <a:latin typeface="Arial"/>
              </a:rPr>
              <a:t>В настоящее время использование полезных ископаемых достигло максимума. Большинство полезных ископаемых относится к невозобновимым природным ресурсам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8119"/>
                </a:solidFill>
                <a:latin typeface="Arial"/>
              </a:rPr>
              <a:t>Добывая полезные ископаемые человек иногда полностью преобразует природные ландшафты, и только 5% реализуется в виде чистой продукци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Picture 5" descr="trumb_3163151"/>
          <p:cNvPicPr/>
          <p:nvPr/>
        </p:nvPicPr>
        <p:blipFill>
          <a:blip r:embed="rId1"/>
          <a:stretch/>
        </p:blipFill>
        <p:spPr>
          <a:xfrm>
            <a:off x="7812000" y="333360"/>
            <a:ext cx="1000080" cy="13334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7" descr="item_3002"/>
          <p:cNvPicPr/>
          <p:nvPr/>
        </p:nvPicPr>
        <p:blipFill>
          <a:blip r:embed="rId2"/>
          <a:stretch/>
        </p:blipFill>
        <p:spPr>
          <a:xfrm>
            <a:off x="4067280" y="5013360"/>
            <a:ext cx="1712880" cy="15843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8" descr="item_2998"/>
          <p:cNvPicPr/>
          <p:nvPr/>
        </p:nvPicPr>
        <p:blipFill>
          <a:blip r:embed="rId3"/>
          <a:stretch/>
        </p:blipFill>
        <p:spPr>
          <a:xfrm>
            <a:off x="1042920" y="5229360"/>
            <a:ext cx="1440000" cy="14284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0" descr="storm"/>
          <p:cNvPicPr/>
          <p:nvPr/>
        </p:nvPicPr>
        <p:blipFill>
          <a:blip r:embed="rId4"/>
          <a:stretch/>
        </p:blipFill>
        <p:spPr>
          <a:xfrm>
            <a:off x="6804000" y="5229360"/>
            <a:ext cx="1727280" cy="1152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53964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 особо опасным последствиям отрицательного воздействия  на человека относится ускоренная эрозия почвы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Эрозия почвы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-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процессы разрушения и выноса плодородного слоя водой или ветром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Picture 4" descr="lastscan"/>
          <p:cNvPicPr/>
          <p:nvPr/>
        </p:nvPicPr>
        <p:blipFill>
          <a:blip r:embed="rId1"/>
          <a:stretch/>
        </p:blipFill>
        <p:spPr>
          <a:xfrm>
            <a:off x="1403280" y="2492280"/>
            <a:ext cx="6193080" cy="3673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8119"/>
                </a:solidFill>
                <a:latin typeface="Arial"/>
              </a:rPr>
              <a:t>Нарушение состава почвы приводит к изменению таких важных микроэлементов ,как йод, кобальт, фтор, марганец, бор и др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8119"/>
                </a:solidFill>
                <a:latin typeface="Arial"/>
              </a:rPr>
              <a:t>В почве накапливаются болезнетворные микроорганизмы, яйца и личинки паразитов, вызывающих различные заболевани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8119"/>
                </a:solidFill>
                <a:latin typeface="Arial"/>
              </a:rPr>
              <a:t>Из-за эрозий почв образуются сели, оползни, ураганы и смерчи, что приводит к многочисленным жертвам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603360" y="285840"/>
            <a:ext cx="8089920" cy="9889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i"/>
          <p:cNvPicPr/>
          <p:nvPr/>
        </p:nvPicPr>
        <p:blipFill>
          <a:blip r:embed="rId2"/>
          <a:stretch/>
        </p:blipFill>
        <p:spPr>
          <a:xfrm>
            <a:off x="5435640" y="4437000"/>
            <a:ext cx="1297080" cy="15843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682800_20040830111506"/>
          <p:cNvPicPr/>
          <p:nvPr/>
        </p:nvPicPr>
        <p:blipFill>
          <a:blip r:embed="rId3"/>
          <a:stretch/>
        </p:blipFill>
        <p:spPr>
          <a:xfrm>
            <a:off x="395280" y="5013360"/>
            <a:ext cx="157788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8119"/>
                </a:solidFill>
                <a:latin typeface="Arial"/>
              </a:rPr>
              <a:t>Растения и животные играют важнейшую роль в жизни человек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8119"/>
                </a:solidFill>
                <a:latin typeface="Arial"/>
              </a:rPr>
              <a:t>Растения обеспечивают существование жизни на Земле, образовывая органические вещества из неорганических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8119"/>
                </a:solidFill>
                <a:latin typeface="Arial"/>
              </a:rPr>
              <a:t>Животные для человека служат источником белкового питания и жира, поставщиком кожи и меха и т. д, но некоторые животные являются возбудителями и переносчиками болезней, вредителям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463680" y="30240"/>
            <a:ext cx="8242200" cy="8841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dub03"/>
          <p:cNvPicPr/>
          <p:nvPr/>
        </p:nvPicPr>
        <p:blipFill>
          <a:blip r:embed="rId2"/>
          <a:stretch/>
        </p:blipFill>
        <p:spPr>
          <a:xfrm>
            <a:off x="6732720" y="4437000"/>
            <a:ext cx="1152360" cy="20876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6" descr="m09"/>
          <p:cNvPicPr/>
          <p:nvPr/>
        </p:nvPicPr>
        <p:blipFill>
          <a:blip r:embed="rId3"/>
          <a:stretch/>
        </p:blipFill>
        <p:spPr>
          <a:xfrm>
            <a:off x="7812000" y="189000"/>
            <a:ext cx="1190880" cy="8096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7" descr="m05"/>
          <p:cNvPicPr/>
          <p:nvPr/>
        </p:nvPicPr>
        <p:blipFill>
          <a:blip r:embed="rId4"/>
          <a:stretch/>
        </p:blipFill>
        <p:spPr>
          <a:xfrm>
            <a:off x="900000" y="5157720"/>
            <a:ext cx="1828800" cy="1216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8119"/>
                </a:solidFill>
                <a:latin typeface="Arial"/>
              </a:rPr>
              <a:t>Загрязнение окружающей среды влияет на животных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8119"/>
                </a:solidFill>
                <a:latin typeface="Arial"/>
              </a:rPr>
              <a:t>Влияние проявляется из-за изменения среды обитания при вырубке лесов, распашке степей, осушении болот, сооружении плотин, строительстве городов, посёлков , дорог и т.д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8119"/>
                </a:solidFill>
                <a:latin typeface="Arial"/>
              </a:rPr>
              <a:t>В следствие этого многие виды животных вынуждены переселяться на новые места, а некоторые погибают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8119"/>
                </a:solidFill>
                <a:latin typeface="Arial"/>
              </a:rPr>
              <a:t>Кроме того человек сам истребляет многие виды для своих нужд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Picture 4" descr="trumb_3162854"/>
          <p:cNvPicPr/>
          <p:nvPr/>
        </p:nvPicPr>
        <p:blipFill>
          <a:blip r:embed="rId1"/>
          <a:stretch/>
        </p:blipFill>
        <p:spPr>
          <a:xfrm>
            <a:off x="971640" y="5229360"/>
            <a:ext cx="1584360" cy="12240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trumb_3163151"/>
          <p:cNvPicPr/>
          <p:nvPr/>
        </p:nvPicPr>
        <p:blipFill>
          <a:blip r:embed="rId2"/>
          <a:stretch/>
        </p:blipFill>
        <p:spPr>
          <a:xfrm>
            <a:off x="3492360" y="4797360"/>
            <a:ext cx="1152720" cy="1656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0001"/>
          <p:cNvPicPr/>
          <p:nvPr/>
        </p:nvPicPr>
        <p:blipFill>
          <a:blip r:embed="rId3"/>
          <a:stretch/>
        </p:blipFill>
        <p:spPr>
          <a:xfrm>
            <a:off x="6732720" y="5516640"/>
            <a:ext cx="1584360" cy="100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8119"/>
                </a:solidFill>
                <a:latin typeface="Arial"/>
              </a:rPr>
              <a:t>Из-за загрязнения лесов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8119"/>
                </a:solidFill>
                <a:latin typeface="Arial"/>
              </a:rPr>
              <a:t>Воздух не очищается(многочисленные лёгочные заболевания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8119"/>
                </a:solidFill>
                <a:latin typeface="Arial"/>
              </a:rPr>
              <a:t>Многие виды животных погибают(растёт число вредителей, паразитов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8119"/>
                </a:solidFill>
                <a:latin typeface="Arial"/>
              </a:rPr>
              <a:t>Часто происходит эрозия почвы(нет урожая, голод, смерчи, сели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8119"/>
                </a:solidFill>
                <a:latin typeface="Arial"/>
              </a:rPr>
              <a:t>Обильность осадков(наводнения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8119"/>
                </a:solidFill>
                <a:latin typeface="Arial"/>
              </a:rPr>
              <a:t>Загрязнение вод(отравления, болезни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8119"/>
                </a:solidFill>
                <a:latin typeface="Arial"/>
              </a:rPr>
              <a:t>Из-за загрязнения окружающей среды животные часто болеют, домашние животные не дают продуктов животноводства, многие животные занесены в Красную книгу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463680" y="182520"/>
            <a:ext cx="8332560" cy="1060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70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8119"/>
                </a:solidFill>
                <a:latin typeface="Arial"/>
              </a:rPr>
              <a:t>Экологической ситуации в России присущи все основные черты и проявления глобального экологического кризиса. Экологическая обстановка является чрезвычайной и опасной. В настоящее время ежегодные выбросы промышленных предприятий и транспорта России составляют около 25 млн. т. По официальным данным, более 65 млн. человек, проживающих в 187 городах, подвержены воздействию загрязняющих веществ, средние годовые концентрации которых превышают предельно допустимые нормы. Каждый десятый город России имеет высокий уровень загрязнения природных сред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70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Rectangle 2" descr=""/>
          <p:cNvPicPr/>
          <p:nvPr/>
        </p:nvPicPr>
        <p:blipFill>
          <a:blip r:embed="rId1"/>
          <a:stretch/>
        </p:blipFill>
        <p:spPr>
          <a:xfrm>
            <a:off x="1139760" y="109440"/>
            <a:ext cx="7553520" cy="16527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Рисунок 1" descr=""/>
          <p:cNvPicPr/>
          <p:nvPr/>
        </p:nvPicPr>
        <p:blipFill>
          <a:blip r:embed="rId1"/>
          <a:stretch/>
        </p:blipFill>
        <p:spPr>
          <a:xfrm>
            <a:off x="1763640" y="1052640"/>
            <a:ext cx="5761080" cy="424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8119"/>
                </a:solidFill>
                <a:latin typeface="Arial"/>
              </a:rPr>
              <a:t>Большая часть загрязняющих веществ приходится на газообразные и жидкие вещества и значительно меньшая часть — на твердые примеси. Суммарный выброс вредных газообразных веществ в атмосферу значительно увеличивают транспортные средства. Доля автомобильного транспорта в общем объеме выбросов составляет в среднем по Российской Федерации 35–40%, а в крупных городах доходит до 80–90%. Выделяемые автотранспортом выхлопные газы содержат более 200 вредных веществ и соединений. Наиболее известными загрязнителями атмосферного воздуха являются: оксид углерода, оксид и диоксид азота, альдегиды, углеводороды, свинец и др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Rectangle 2" descr=""/>
          <p:cNvPicPr/>
          <p:nvPr/>
        </p:nvPicPr>
        <p:blipFill>
          <a:blip r:embed="rId1"/>
          <a:stretch/>
        </p:blipFill>
        <p:spPr>
          <a:xfrm>
            <a:off x="450720" y="176040"/>
            <a:ext cx="8242560" cy="9576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539640" y="33336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8119"/>
                </a:solidFill>
                <a:latin typeface="Arial"/>
              </a:rPr>
              <a:t>Сегодня серьёзные опасения вызывают 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8119"/>
                </a:solidFill>
                <a:latin typeface="Arial"/>
              </a:rPr>
              <a:t>-потепление климата, обусловленное парниковым эффектом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8119"/>
                </a:solidFill>
                <a:latin typeface="Arial"/>
              </a:rPr>
              <a:t>-разрушение озонового сло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8119"/>
                </a:solidFill>
                <a:latin typeface="Arial"/>
              </a:rPr>
              <a:t>-увеличение количества кислотных осадков и вредных выбросов в атмосферу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8119"/>
                </a:solidFill>
                <a:latin typeface="Arial"/>
              </a:rPr>
              <a:t>Эти явления происходят в результате загрязнения атмосферы промышленными, транспортными и бытовыми выбросам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Picture 7" descr="truba"/>
          <p:cNvPicPr/>
          <p:nvPr/>
        </p:nvPicPr>
        <p:blipFill>
          <a:blip r:embed="rId1"/>
          <a:stretch/>
        </p:blipFill>
        <p:spPr>
          <a:xfrm>
            <a:off x="324000" y="4292640"/>
            <a:ext cx="230328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8119"/>
                </a:solidFill>
                <a:latin typeface="Arial"/>
              </a:rPr>
              <a:t>Изменение состава и свойств воздушной среды неблагоприятно сказывается на здоровье человек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8119"/>
                </a:solidFill>
                <a:latin typeface="Arial"/>
              </a:rPr>
              <a:t>Особенно страдают от вредных компонентов атмосферного воздуха дыхательная, сердечно-сосудистая и иммунная системы организм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8119"/>
                </a:solidFill>
                <a:latin typeface="Arial"/>
              </a:rPr>
              <a:t>При высокой концентрации сернистого газа, пыли и дыма возникает ядовитый туман(</a:t>
            </a:r>
            <a:r>
              <a:rPr b="0" i="1" lang="ru-RU" sz="2400" spc="-1" strike="noStrike">
                <a:solidFill>
                  <a:srgbClr val="ff8119"/>
                </a:solidFill>
                <a:latin typeface="Arial"/>
              </a:rPr>
              <a:t>смог), </a:t>
            </a:r>
            <a:r>
              <a:rPr b="0" lang="ru-RU" sz="2400" spc="-1" strike="noStrike">
                <a:solidFill>
                  <a:srgbClr val="ff8119"/>
                </a:solidFill>
                <a:latin typeface="Arial"/>
              </a:rPr>
              <a:t>резко ухудшающий условия жизни людей, т.к идёт обострение лёгочных и сердечных заболеваний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8119"/>
                </a:solidFill>
                <a:latin typeface="Arial"/>
              </a:rPr>
              <a:t>Разрушение озонового слоя может привести к росту числа заболеваний раком кожи. 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450720" y="274680"/>
            <a:ext cx="8242560" cy="8589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item_3017"/>
          <p:cNvPicPr/>
          <p:nvPr/>
        </p:nvPicPr>
        <p:blipFill>
          <a:blip r:embed="rId2"/>
          <a:stretch/>
        </p:blipFill>
        <p:spPr>
          <a:xfrm>
            <a:off x="6156360" y="5229360"/>
            <a:ext cx="1487520" cy="1428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item_3004"/>
          <p:cNvPicPr/>
          <p:nvPr/>
        </p:nvPicPr>
        <p:blipFill>
          <a:blip r:embed="rId3"/>
          <a:stretch/>
        </p:blipFill>
        <p:spPr>
          <a:xfrm>
            <a:off x="3492360" y="5516640"/>
            <a:ext cx="1428840" cy="12207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7" descr="item_3023"/>
          <p:cNvPicPr/>
          <p:nvPr/>
        </p:nvPicPr>
        <p:blipFill>
          <a:blip r:embed="rId4"/>
          <a:stretch/>
        </p:blipFill>
        <p:spPr>
          <a:xfrm>
            <a:off x="1042920" y="5661000"/>
            <a:ext cx="1322280" cy="1081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907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8119"/>
                </a:solidFill>
                <a:latin typeface="Arial"/>
              </a:rPr>
              <a:t>Особое место на Земле занимает вода. Она входит в состав любого организма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8119"/>
                </a:solidFill>
                <a:latin typeface="Arial"/>
              </a:rPr>
              <a:t>97% воды на Земле- солёная, которая используется человеком очень мало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8119"/>
                </a:solidFill>
                <a:latin typeface="Arial"/>
              </a:rPr>
              <a:t>Остальные 3% -пресная вода. Без пресной воды человек может прожить не более трёх суток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8119"/>
                </a:solidFill>
                <a:latin typeface="Arial"/>
              </a:rPr>
              <a:t>Естественные запасы воды, особенно пресной, не безграничны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8119"/>
                </a:solidFill>
                <a:latin typeface="Arial"/>
              </a:rPr>
              <a:t>Сегодня качество природной воды ухудшается, в результате антропогенного воздействи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450720" y="-30240"/>
            <a:ext cx="8242560" cy="9446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item_3018"/>
          <p:cNvPicPr/>
          <p:nvPr/>
        </p:nvPicPr>
        <p:blipFill>
          <a:blip r:embed="rId2"/>
          <a:stretch/>
        </p:blipFill>
        <p:spPr>
          <a:xfrm>
            <a:off x="6948360" y="4797360"/>
            <a:ext cx="1330560" cy="14288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6" descr="item_3047"/>
          <p:cNvPicPr/>
          <p:nvPr/>
        </p:nvPicPr>
        <p:blipFill>
          <a:blip r:embed="rId3"/>
          <a:stretch/>
        </p:blipFill>
        <p:spPr>
          <a:xfrm>
            <a:off x="826920" y="5084640"/>
            <a:ext cx="208944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8119"/>
                </a:solidFill>
                <a:latin typeface="Arial"/>
              </a:rPr>
              <a:t>Загрязнение воды представляет особую опасность для здоровья населени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8119"/>
                </a:solidFill>
                <a:latin typeface="Arial"/>
              </a:rPr>
              <a:t>Недоброкачественная вода является источником распространения тяжёлых инфекционных заболеваний(холера, дизентерия, брюшной тиф, болезнь Боткина и др.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8119"/>
                </a:solidFill>
                <a:latin typeface="Arial"/>
              </a:rPr>
              <a:t>Также в воде могут содержаться яйца и личинки глистов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8119"/>
                </a:solidFill>
                <a:latin typeface="Arial"/>
              </a:rPr>
              <a:t>При питье загрязнённой воды, человек может отравиться ядовитыми веществам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Rectangle 2" descr=""/>
          <p:cNvPicPr/>
          <p:nvPr/>
        </p:nvPicPr>
        <p:blipFill>
          <a:blip r:embed="rId1"/>
          <a:stretch/>
        </p:blipFill>
        <p:spPr>
          <a:xfrm>
            <a:off x="457200" y="285840"/>
            <a:ext cx="8236080" cy="9144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" descr="item_3038"/>
          <p:cNvPicPr/>
          <p:nvPr/>
        </p:nvPicPr>
        <p:blipFill>
          <a:blip r:embed="rId2"/>
          <a:stretch/>
        </p:blipFill>
        <p:spPr>
          <a:xfrm>
            <a:off x="5364000" y="5229360"/>
            <a:ext cx="866880" cy="14284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6" descr="item_3009"/>
          <p:cNvPicPr/>
          <p:nvPr/>
        </p:nvPicPr>
        <p:blipFill>
          <a:blip r:embed="rId3"/>
          <a:stretch/>
        </p:blipFill>
        <p:spPr>
          <a:xfrm>
            <a:off x="2916360" y="5300640"/>
            <a:ext cx="1428480" cy="13813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" descr="item_3066"/>
          <p:cNvPicPr/>
          <p:nvPr/>
        </p:nvPicPr>
        <p:blipFill>
          <a:blip r:embed="rId4"/>
          <a:stretch/>
        </p:blipFill>
        <p:spPr>
          <a:xfrm>
            <a:off x="6948360" y="4941720"/>
            <a:ext cx="1428840" cy="1124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611280" y="1773360"/>
            <a:ext cx="82296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a1f2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Lucida Sans Unicode"/>
              </a:rPr>
              <a:t>Почва</a:t>
            </a:r>
            <a:r>
              <a:rPr b="0" lang="ru-RU" sz="2400" spc="-1" strike="noStrike">
                <a:solidFill>
                  <a:srgbClr val="ffc000"/>
                </a:solidFill>
                <a:latin typeface="Lucida Sans Unicode"/>
              </a:rPr>
              <a:t> — среда обитания многочисленных низших животных и микроорганизмов, в том числе бактерий, плесневых грибов, вирусов.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С промышленными твердыми отходами в почву поступают всевозможные металлы (железо, медь, алюминий, свинец, цинк) и другие химические загрязнител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Почва обладает способностью накапливать радиоактивные веществ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0720" y="36360"/>
            <a:ext cx="8242560" cy="11638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16:21:29Z</dcterms:created>
  <dc:creator>user</dc:creator>
  <dc:description/>
  <dc:language>en-US</dc:language>
  <cp:lastModifiedBy>semendyaev</cp:lastModifiedBy>
  <dcterms:modified xsi:type="dcterms:W3CDTF">2017-12-27T18:06:53Z</dcterms:modified>
  <cp:revision>3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