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99FB-B8EA-4F06-87D4-E5BA97E13D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D26C-72C8-4037-AFD3-EF39A6A243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DA20-8ABE-4DD0-86AD-E33A7E2F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62BA-0645-43F0-8F85-AA8E4D4D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9FC8-9B28-4F27-AAD5-1EC38E85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1606-FCDB-483C-98A9-8BA6F0FC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C315-825D-4EF6-B915-8F333078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6958-4337-4360-B968-F75CF115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6F85-17EA-4761-8C6A-D5F5DDA9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A313-81E3-43E3-B0EA-C8B58F74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5433-37BE-40D7-9D7C-982A2795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A2E4-2610-4BE7-A1B3-DE562E11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065A-A65A-4292-AC1C-9A2FBD1E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46D4-1276-45F5-908D-ACC110AE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D008-CB3D-4E12-ADB6-32197E84769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812/lady-may2006.c7/0_5b511_1bd30b13_XL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22320" y="449280"/>
            <a:ext cx="91440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Тема урока: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СССР в первые послевоенные годы</a:t>
            </a:r>
            <a:endParaRPr b="0" lang="en-US" sz="5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49" name="Picture 6" descr="poster-11"/>
          <p:cNvPicPr/>
          <p:nvPr/>
        </p:nvPicPr>
        <p:blipFill>
          <a:blip r:embed="rId1"/>
          <a:stretch/>
        </p:blipFill>
        <p:spPr>
          <a:xfrm>
            <a:off x="3203640" y="2421000"/>
            <a:ext cx="303516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Источники восстановления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4643280" cy="575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ерекачка новых средств из деревни в город (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низкие закупочные цены на с/х продукцию: молоко скупалось по 25 коп., в продажу – по 2р. 70к; 1 кг говядины – по 14 коп. – в рознице-11р 40 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Репарации с Германии (+ рабочая сила, оборудование, техник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Труд узников ГУЛА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Трудовой энтузиа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6" descr="poster-1946"/>
          <p:cNvPicPr/>
          <p:nvPr/>
        </p:nvPicPr>
        <p:blipFill>
          <a:blip r:embed="rId1"/>
          <a:stretch/>
        </p:blipFill>
        <p:spPr>
          <a:xfrm>
            <a:off x="4932360" y="692280"/>
            <a:ext cx="3990960" cy="3429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pl02"/>
          <p:cNvPicPr/>
          <p:nvPr/>
        </p:nvPicPr>
        <p:blipFill>
          <a:blip r:embed="rId2"/>
          <a:stretch/>
        </p:blipFill>
        <p:spPr>
          <a:xfrm>
            <a:off x="4869000" y="4221000"/>
            <a:ext cx="427500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06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Итоги экономического и социального развития за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V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пятилетку</a:t>
            </a:r>
            <a:endParaRPr b="0" lang="en-US" sz="28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95680" cy="547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1946 год – упразднение Совнаркома, создание Совета Минист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 1947 г – отменены карточ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1947 г – денежная реформа (10: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осстановлены отпуска и 8-часовой рабочий д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овышение уровня образования (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открытие новых школ и ВУЗ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316400" cy="561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осстановлено более 6 тыс. предприя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К 1950 году промышленность превзошла довоенный уровень на 7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/х достигло довоенного уровня только в зерновой проду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talon"/>
          <p:cNvPicPr/>
          <p:nvPr/>
        </p:nvPicPr>
        <p:blipFill>
          <a:blip r:embed="rId1"/>
          <a:stretch/>
        </p:blipFill>
        <p:spPr>
          <a:xfrm>
            <a:off x="250920" y="620640"/>
            <a:ext cx="5184720" cy="3960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ruble_10"/>
          <p:cNvPicPr/>
          <p:nvPr/>
        </p:nvPicPr>
        <p:blipFill>
          <a:blip r:embed="rId2"/>
          <a:stretch/>
        </p:blipFill>
        <p:spPr>
          <a:xfrm>
            <a:off x="5940360" y="1844640"/>
            <a:ext cx="3203640" cy="5013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9"/>
          <p:cNvSpPr/>
          <p:nvPr/>
        </p:nvSpPr>
        <p:spPr>
          <a:xfrm>
            <a:off x="900000" y="4724280"/>
            <a:ext cx="3745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 Narrow"/>
              </a:rPr>
              <a:t>Продуктовые Карточ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6156360" y="907920"/>
            <a:ext cx="2736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 Narrow"/>
              </a:rPr>
              <a:t>1 руб. образца 1947 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179280" y="5373720"/>
            <a:ext cx="51134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В 1952 г на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XIX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съезде партии ВКП(б) переименована в КП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Проблемы восстановления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7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1946 г. – голод (гибель ок. 1 млн. люде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За годы войны – потеря значительной части трудоспособного насе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Отставание лёгкой промышлен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Жилищная пробл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Сокращение расходов на социальную сфе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Большие расходы на экономическую поддержку стран Восточной Европ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ассмотрите историческую ситуацию и ответьте на вопросы.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После окончания Великой Отечественной войны в СССР в общественном сознании существовало убеждение, что политический режим должен быть смягчён, страна должна развиваться по демократическому пути, без давления государства, тоталитаризма и репресс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c08d"/>
                </a:solidFill>
                <a:latin typeface="Arial"/>
              </a:rPr>
              <a:t>По какому пути стала развиваться общественно-политическая жизнь в СССР? Укажите не менее 3-х направлений этого развития</a:t>
            </a:r>
            <a:endParaRPr b="0" lang="en-US" sz="28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964720" cy="5373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Была избрана довоенная модель разви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Arial"/>
              </a:rPr>
              <a:t>Основные направления развит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Руководством страны был поддержан курс довоенного развития экономики с сверхцентрализацией управления, преимущественным развитием тяжёлой промышле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В 1946 г – было объявлено о начале новой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V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ятиле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Был установлен контроль за развитием научной мысли, закрывались неугодные властям направления науки (генетика, кибернети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Для подавления демократических настроений в обществе возобновились массовые репрессии, которым подвергались представители различных слоёв нас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чему был избран этот путь развития? Назовите не менее 2-х причин.</a:t>
            </a: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517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Избранный путь развития наиболее соответствовал сути общественно-политической системы, созданной в ССС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Тяжёлая послевоенная экономическая ситуация, решение задачи быстрого восстановления хозяйства требовала сверхцентрализации всех сил не только в сфере эконом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В условиях начавшейся «холодной войны» возрождался «железный занавес», не допускалось общение с внешним ми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Упрочение официальной идеологии могло проводиться только самыми жестокими мер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[IS9IR_5-41]_[PD_01-r]"/>
          <p:cNvPicPr/>
          <p:nvPr/>
        </p:nvPicPr>
        <p:blipFill>
          <a:blip r:embed="rId1"/>
          <a:stretch/>
        </p:blipFill>
        <p:spPr>
          <a:xfrm>
            <a:off x="1143000" y="1138320"/>
            <a:ext cx="6858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school1"/>
          <p:cNvPicPr/>
          <p:nvPr/>
        </p:nvPicPr>
        <p:blipFill>
          <a:blip r:embed="rId1"/>
          <a:stretch/>
        </p:blipFill>
        <p:spPr>
          <a:xfrm>
            <a:off x="1979640" y="0"/>
            <a:ext cx="5472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иже приведены 2 точки зрения на деятельность И.В. Сталина после окончания Великой отечественной войны:</a:t>
            </a: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031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1. И.В. Сталин - великий вождь и учитель, под его руководством в послевоенный период СССР превратился в мировую державу, он создал и возглавил соц. Лагерь, добился выдающихся успехов страны после окончания вой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2. В послевоенный период тоталитарный сталинский режим достиг своего апогея, в стране был установлен тотальный контроль над всеми сферами жизни общ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- Какая из данных Т.З. для вас более предпочтительна? Приведите не менее 3-х фактов, положений, аргументирующих, выбранную вами Т.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08080" y="114480"/>
            <a:ext cx="624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ель уро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казать влияние войны на состояние советского общества его жизненной ценности, на укрепление политического режима, духовный мир, развитие новых культурных процес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208080" y="278136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лан изучения матери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Имя России-Сталин?! Сталинский режим в зеркале исторической нау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Восстановление народного хозяйства в послевоенные г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Общественно-политическая жизнь советского общества в 1945-1953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Духовная жизнь страны в 40-50-гг, ужесточение идеологического контро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ри выборе 1 точки зрения:</a:t>
            </a:r>
            <a:endParaRPr b="0" lang="en-US" sz="36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76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 послевоенный период значительно вырос авторитет Сталина в стране и ми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од руководством Сталина в кратчайшие сроки было восстановлено народное хозяйство СССР, пострадавшее в годы ВОв, намечены грандиозные планы разви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 стране были восстановлены отпуска и 8-часовой рабочий д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Несмотря на трудности периода, значительные средства выделялись на развитие науки и образ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ССР практически не уступал США в ракетно-ядерном потенциа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ри выборе 2 точки зрения:</a:t>
            </a:r>
            <a:endParaRPr b="0" lang="en-US" sz="36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76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Несмотря на «демократический импульс войны», сталинский режим был ужесточё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Установлен контроль над деятельностью учёных (шарашки), представителей куль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озобновление репрессий (военнопленные, некоторые народы, государственные деятели) – «ленинградское дело», «дело врачей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Критика и гонения на творчество писателей, композиторов, кинематографис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Идеологические кампании: «борьба с космополитизмом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истема ГУЛАГа достигла максимального разви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0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 Narrow"/>
              </a:rPr>
              <a:t>Ужесточение сталинского режима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500720" cy="501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ойна пробила брешь в "железном занавесе", которым СССР был изолирован от других стран с 30-х годов. Участники европейского похода Красной Армии (а их было почти 10 млн. человек), мобилизованные для работ в Германию жители оккупированных немцами областей СССР (до 5,5 млн.) своими глазами увидели и смогли оценить тот мир, о "разложении" и "близкой гибели" которого им говорили до войн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557000"/>
            <a:ext cx="4495680" cy="511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беда народа в войне породила множество надежд и ожидан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рестьяне рассчитывали на роспуск колхозов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нтеллигенция - на ослабление политического диктат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селение союзных и автономных республик - на изменение национальной политики. Эти настроения излагались в письмах партийному и государственному руководству, донесениях органов госбезопасн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Главными причинами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ужесточения политического режима были "демократический импульс" войны и про­рыв "железного занавеса"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 Narrow"/>
              </a:rPr>
              <a:t>Ужесточение сталинского режима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95680" cy="547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Репрессии против бывших военнопленных и угнанных в Герма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Усиление закона № 7.8  - срок заключения – до 25 л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В 1943-44 гг в Сибирь, Ср. Азию выселены крымские татары, чеченцы, ингуши, калмыки, балкарцы – всего ок. 900 тыс. чел. – Приказом министра Госбезопасности в 1951 г переселённые народы оставлены на поселении навеч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47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за 1947-1948 гг. было арестовано около 2 тыс. священников различных конфесс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В 1948 г .- Жуков снят с поста главкома, выведен из ЦК и отправлен командовать Одесским военным округ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борьба с космополитизмом: (</a:t>
            </a:r>
            <a:r>
              <a:rPr b="0" i="1" lang="ru-RU" sz="2000" spc="-1" strike="noStrike">
                <a:solidFill>
                  <a:srgbClr val="000066"/>
                </a:solidFill>
                <a:latin typeface="Arial Narrow"/>
              </a:rPr>
              <a:t>Космополит считает весь мир своим отечеством.)</a:t>
            </a: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 Обвинение в космополитизме равнялось обвинению в измене Родин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1123200"/>
            <a:ext cx="9144000" cy="2649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Narrow"/>
              </a:rPr>
              <a:t>1949-52 гг «Ленинградское дело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Narrow"/>
              </a:rPr>
              <a:t>начались аресты лидеров ленинградской парторганизации. По "ленинградскому делу" были арестованы более 2 тыс. человек, обвиненных в попытках "противопоставить Ленинград Москве". Были отданы под суд и расстреляны 200 человек, в том числе и Вознесен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71640" y="333360"/>
            <a:ext cx="74880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Политические процес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10" descr="4"/>
          <p:cNvPicPr/>
          <p:nvPr/>
        </p:nvPicPr>
        <p:blipFill>
          <a:blip r:embed="rId1"/>
          <a:stretch/>
        </p:blipFill>
        <p:spPr>
          <a:xfrm>
            <a:off x="6588000" y="4076640"/>
            <a:ext cx="1657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Политические процессы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1952-53 гг «Дело врачей» (дело врачей-отравителе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Дело, начатое органами госбезопасности в 1952 – начале 1953 г. против группы московских медиков, преимущественно причастных к лечению высших должностных лиц СССР, по обвинению в покушениях на убийство Сталина, в убийствах Жданова, Димитрова и др. Дело носило антисемитский характер и было частью кампании по «борьбе с космополитизмом», проводившейся в СССР в 1947–1953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52kat"/>
          <p:cNvPicPr/>
          <p:nvPr/>
        </p:nvPicPr>
        <p:blipFill>
          <a:blip r:embed="rId1"/>
          <a:stretch/>
        </p:blipFill>
        <p:spPr>
          <a:xfrm>
            <a:off x="539640" y="260280"/>
            <a:ext cx="5257800" cy="5400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0161"/>
          <p:cNvPicPr/>
          <p:nvPr/>
        </p:nvPicPr>
        <p:blipFill>
          <a:blip r:embed="rId2"/>
          <a:stretch/>
        </p:blipFill>
        <p:spPr>
          <a:xfrm>
            <a:off x="5867280" y="2276640"/>
            <a:ext cx="3276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2249280"/>
            <a:ext cx="4038480" cy="46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14 августа 1946г. Были приняты постановления ЦК партии о журналах «Ленинград» (редакции был объявлен выговор) и «Звезда» (журнал был закрыт), за публикацию сочинений А. Ахматовой и М. Зощен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7" descr="post-1224615727"/>
          <p:cNvPicPr/>
          <p:nvPr/>
        </p:nvPicPr>
        <p:blipFill>
          <a:blip r:embed="rId1"/>
          <a:stretch/>
        </p:blipFill>
        <p:spPr>
          <a:xfrm>
            <a:off x="5148360" y="3556080"/>
            <a:ext cx="3556080" cy="3301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1001235760"/>
          <p:cNvPicPr/>
          <p:nvPr/>
        </p:nvPicPr>
        <p:blipFill>
          <a:blip r:embed="rId2"/>
          <a:stretch/>
        </p:blipFill>
        <p:spPr>
          <a:xfrm>
            <a:off x="4284720" y="0"/>
            <a:ext cx="3311640" cy="41054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250920" y="333360"/>
            <a:ext cx="374472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Гонения на литерату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5003640" cy="604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ледующим объектом преследований становятся композиторы: Прокофьев, Хачатурян,  Мурадели. Начинается кампания против композиторов-«формалистов». Кампания вылилась в исключение из Союза композиторов ряда талантливых люд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7" descr="image789"/>
          <p:cNvPicPr/>
          <p:nvPr/>
        </p:nvPicPr>
        <p:blipFill>
          <a:blip r:embed="rId1"/>
          <a:stretch/>
        </p:blipFill>
        <p:spPr>
          <a:xfrm>
            <a:off x="5105520" y="404640"/>
            <a:ext cx="4038480" cy="2887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1001235760"/>
          <p:cNvPicPr/>
          <p:nvPr/>
        </p:nvPicPr>
        <p:blipFill>
          <a:blip r:embed="rId2"/>
          <a:stretch/>
        </p:blipFill>
        <p:spPr>
          <a:xfrm>
            <a:off x="6012000" y="3022560"/>
            <a:ext cx="253980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633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Кинематограф и театр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403848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4 сентября 1946 г. Выходит постановление ЦК партии о «безыдейных» фильмах, и начинается борьба с фильмами «Большая жизнь», «Адмирал Нахимов» и второй серией «Ивана Грозного» Эйзенштейна. Одновременно подвергается критике репертуар театров ставящих пьесы зарубежных авто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8" descr="Картинка 4 из 1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1052640"/>
            <a:ext cx="4429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231840" y="181080"/>
            <a:ext cx="8640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сновные понят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епатриац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возвращение эмигрантов в страну их происхождения с  восстановлением в правах граждан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епара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 форма материальной ответственности субъекта  международного  права за ущерб, причиненный  в результате совершенного им международного правонарушения другому субъекту международного пр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епрессия-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казание, карательная мера, применяемая государств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осмополитиз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идеология  мирового гражданства, ставящая  интересы  всего человечества  в целом   выше  интересов  отдельной нации или государства и рассматривающая человека как свободного индивида в рамках Зем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оталитаризм-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форма  политического режима, характеризующегося полным господством государства над всеми сторонами жизни обще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12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66"/>
                </a:solidFill>
                <a:uFillTx/>
                <a:latin typeface="Arial Narrow"/>
              </a:rPr>
              <a:t>Гонения на науку (окончательный запрет генетики, психологии и кибернетики)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120" name="Picture 4" descr="vavilov_427"/>
          <p:cNvPicPr/>
          <p:nvPr/>
        </p:nvPicPr>
        <p:blipFill>
          <a:blip r:embed="rId1"/>
          <a:stretch/>
        </p:blipFill>
        <p:spPr>
          <a:xfrm>
            <a:off x="250920" y="2349360"/>
            <a:ext cx="2857320" cy="4067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p934885"/>
          <p:cNvPicPr/>
          <p:nvPr/>
        </p:nvPicPr>
        <p:blipFill>
          <a:blip r:embed="rId2"/>
          <a:stretch/>
        </p:blipFill>
        <p:spPr>
          <a:xfrm>
            <a:off x="7308720" y="4292640"/>
            <a:ext cx="1613160" cy="2389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ace5a281d554"/>
          <p:cNvPicPr/>
          <p:nvPr/>
        </p:nvPicPr>
        <p:blipFill>
          <a:blip r:embed="rId3"/>
          <a:stretch/>
        </p:blipFill>
        <p:spPr>
          <a:xfrm>
            <a:off x="3059280" y="1268280"/>
            <a:ext cx="41241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нешняя политика СССР. Холодная война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6262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Холодная война период 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946-1989 гг.сопровождавшийся -политической, экономической, идеологической конфронтацией (противостоянием) двух политических систем,  СССР и США, а также их союзниками.</a:t>
            </a:r>
            <a:br>
              <a:rPr sz="3200"/>
            </a:br>
            <a:r>
              <a:rPr b="0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Н</a:t>
            </a:r>
            <a:r>
              <a:rPr b="0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чало «холодной войны» - 5 марта 1946 речь Черчилля в Фултоне (США)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«Железный занавес» -----   «доктрина сдерживания» - доктрина Трумэ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Биполярный мир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4316400" cy="511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од давлением СССР страны Вост. Европы, в которых утвердились прокоммунистические правительства, отказались от помощи СШ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отивостояние двух систем было закреплено созданием военно - политических и экономических блоков: 4 апр.1949 г. </a:t>
            </a:r>
            <a:r>
              <a:rPr b="1" lang="ru-RU" sz="2000" spc="-1" strike="noStrike">
                <a:solidFill>
                  <a:srgbClr val="2d2015"/>
                </a:solidFill>
                <a:latin typeface="Arial"/>
              </a:rPr>
              <a:t>12 государств во главе с США образовали военный блок НАТО.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ССР и 7 стран Вост. Европы подписали ряд военных соглашений  в мае 1955. Союз получил название – ОВ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1557000"/>
            <a:ext cx="4244760" cy="504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015"/>
                </a:solidFill>
                <a:latin typeface="Arial"/>
              </a:rPr>
              <a:t>В марте 1957 года  6 стран Западной Европы создали Европейское экономическое сообщ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А в странах Восточной Европы подобная организация – Совет Экономической Взаимопомощи – была создана ещё в январе 1949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[IS9IR_5-40]_[PD_02-r]"/>
          <p:cNvPicPr/>
          <p:nvPr/>
        </p:nvPicPr>
        <p:blipFill>
          <a:blip r:embed="rId1"/>
          <a:stretch/>
        </p:blipFill>
        <p:spPr>
          <a:xfrm>
            <a:off x="2195640" y="476280"/>
            <a:ext cx="48243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468360" y="0"/>
            <a:ext cx="8229600" cy="12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Гонка вооружений – наращивание ракетно- ядерной мощи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57200" y="1413000"/>
            <a:ext cx="4038480" cy="43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Ш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1945 г  испытание атомного оруж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1952 испытание термоядерного устро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1958 запуск искусственного спутн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1958 г испытание МБ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1960 развёртывание подводных лодок с баллистическими ракет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643280" y="1413000"/>
            <a:ext cx="4038840" cy="410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СС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1949 г  испытание атомного оруж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1953 испытание термоядерной бомб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1957 запуск первого искусственного спутн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1957 г испытание МБ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1963 подводные лодки с баллистическими ракет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50920" y="6186600"/>
            <a:ext cx="88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395280" y="5661000"/>
            <a:ext cx="8748720" cy="1008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иполярный (двухполюсный мир). Так назвали миропорядок, который действовал с к. 1940-х до нач. 1990-х годов в силу существования двух противоположных общественных сист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0" dur="500" autoRev="1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5" dur="500" autoRev="1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9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0" dur="500" autoRev="1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5" dur="500" autoRev="1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9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0" dur="500" autoRev="1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4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5" dur="500" autoRev="1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0" dur="500" autoRev="1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5" dur="500" autoRev="1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500" autoRev="1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5" dur="500" autoRev="1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93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5 марта 1953 год…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135" name="Picture 5" descr="156"/>
          <p:cNvPicPr/>
          <p:nvPr/>
        </p:nvPicPr>
        <p:blipFill>
          <a:blip r:embed="rId1"/>
          <a:stretch/>
        </p:blipFill>
        <p:spPr>
          <a:xfrm>
            <a:off x="324000" y="1341360"/>
            <a:ext cx="3141360" cy="2266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229-kat"/>
          <p:cNvPicPr/>
          <p:nvPr/>
        </p:nvPicPr>
        <p:blipFill>
          <a:blip r:embed="rId2"/>
          <a:stretch/>
        </p:blipFill>
        <p:spPr>
          <a:xfrm>
            <a:off x="4356000" y="1125360"/>
            <a:ext cx="4483080" cy="3067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539w"/>
          <p:cNvPicPr/>
          <p:nvPr/>
        </p:nvPicPr>
        <p:blipFill>
          <a:blip r:embed="rId3"/>
          <a:stretch/>
        </p:blipFill>
        <p:spPr>
          <a:xfrm>
            <a:off x="1116000" y="3645000"/>
            <a:ext cx="51339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 Narrow"/>
              </a:rPr>
              <a:t>Простится с вождём пришло огромное количество людей…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39640" y="1773360"/>
            <a:ext cx="813600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… </a:t>
            </a: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В народной памяти похороны Сталина запечатлелись чудовищными давками на Трубной площади, в которых погибло немало людей. В этом противники Сталина непременно усматривают зловещий смысл: мол, диктатор и после смерти разохотился хлебнуть человеческой крови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CPSU_at_lenin_mausoleum"/>
          <p:cNvPicPr/>
          <p:nvPr/>
        </p:nvPicPr>
        <p:blipFill>
          <a:blip r:embed="rId1"/>
          <a:stretch/>
        </p:blipFill>
        <p:spPr>
          <a:xfrm>
            <a:off x="1692360" y="4076640"/>
            <a:ext cx="57150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5"/>
          <p:cNvSpPr/>
          <p:nvPr/>
        </p:nvSpPr>
        <p:spPr>
          <a:xfrm>
            <a:off x="468360" y="1628640"/>
            <a:ext cx="806436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Со смертью Сталина 5 марта 1953 г. завершилась целая эпоха в жизни СССР. Отсутствие законодательно закрепленных механизмов передачи верховной власти вызвало ее затяжной кризис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Monotype Corsiva"/>
              </a:rPr>
              <a:t>Домашнее задание</a:t>
            </a:r>
            <a:endParaRPr b="0" lang="en-US" sz="7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Знать особенности и итоги послевоенной экономик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Характерные черты политического режима и внешней политики в 1945-1953 гг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57200" y="430560"/>
            <a:ext cx="802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Calibri"/>
              </a:rPr>
              <a:t>Важнейшие событ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Calibri"/>
              </a:rPr>
              <a:t>11 мая 1945 г. – прекращение поставок по ленд-лизу  в ССС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Calibri"/>
              </a:rPr>
              <a:t>29 августа 1949 г. – испытание советской атомной бом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Calibri"/>
              </a:rPr>
              <a:t>12 августа 1953г. – испытание советской водородной бомб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Calibri"/>
              </a:rPr>
              <a:t>1946-1950 г. – четвертая пятиле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Calibri"/>
              </a:rPr>
              <a:t>1946-1947 г.- засуха и голод в ССС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Calibri"/>
              </a:rPr>
              <a:t>1947 – отмена смертной ка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Calibri"/>
              </a:rPr>
              <a:t>1947 – денежная рефор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Calibri"/>
              </a:rPr>
              <a:t>1946 г. Август – постановление ЦК ВКП(б) «О журналах «Звезда» и «Ленинград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Calibri"/>
              </a:rPr>
              <a:t>1949 г. – начало перехода к обязательному семилетнему образова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064720" cy="1054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Итоги войны</a:t>
            </a:r>
            <a:br>
              <a:rPr sz="4400"/>
            </a:b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Разгром фаш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Возрос международный авторитет СССР (основная часть войск германского блока находилась на советско-немецком фронте, войска СССР уничтожили 507 немецких дивизий, 100 дивизий их союзников, разгромил Квантунскую армию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20.11</a:t>
            </a: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. </a:t>
            </a: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1945</a:t>
            </a: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-</a:t>
            </a: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01.10.1946г – суд над фашистами и фашизмом в г. Нюрнбе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СССР вернул Юж. Сахалин, Курильские о-ва, присоединил территоррии Закарпатья и Калининградской обл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Разработаны нормы международного права и мирного сосуществования на основе деятельности ООН и Совета Безопас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Развитие военно-технической мысли. Появление ядерного оруж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_____________________________________________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Arial Narrow"/>
              </a:rPr>
              <a:t>Какие итоги Великой Отечественной и Второй мировой войн можете назвать в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[IS9IR_5-42]_[PD_01-r]"/>
          <p:cNvPicPr/>
          <p:nvPr/>
        </p:nvPicPr>
        <p:blipFill>
          <a:blip r:embed="rId1"/>
          <a:stretch/>
        </p:blipFill>
        <p:spPr>
          <a:xfrm>
            <a:off x="0" y="-84240"/>
            <a:ext cx="9144000" cy="70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Заголовок 1"/>
          <p:cNvSpPr/>
          <p:nvPr/>
        </p:nvSpPr>
        <p:spPr>
          <a:xfrm>
            <a:off x="179280" y="285840"/>
            <a:ext cx="8964720" cy="1085760"/>
          </a:xfrm>
          <a:prstGeom prst="rect">
            <a:avLst/>
          </a:prstGeom>
          <a:solidFill>
            <a:srgbClr val="ffff00"/>
          </a:soli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кова была главная задача послевоенного времен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866880" y="1714680"/>
            <a:ext cx="7356240" cy="488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250920" y="260280"/>
            <a:ext cx="8183520" cy="7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Пути восстановления эконом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250920" y="1197000"/>
            <a:ext cx="4014720" cy="526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Жданов и Вознесенский (рук. Госплан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осстановление с опорой на опыт НЭ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ведение элементов рыночной экономики, развитие с/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4427640" y="1125360"/>
            <a:ext cx="4716360" cy="539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Маленков, Берия, Стал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осстановление за счёт возвращения к плановой экономи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Контроль государ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ятилетние пл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V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пятилетка – 1946-1950г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0" descr="4"/>
          <p:cNvPicPr/>
          <p:nvPr/>
        </p:nvPicPr>
        <p:blipFill>
          <a:blip r:embed="rId1"/>
          <a:stretch/>
        </p:blipFill>
        <p:spPr>
          <a:xfrm>
            <a:off x="2268360" y="4221000"/>
            <a:ext cx="1657440" cy="2232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3"/>
          <p:cNvPicPr/>
          <p:nvPr/>
        </p:nvPicPr>
        <p:blipFill>
          <a:blip r:embed="rId2"/>
          <a:stretch/>
        </p:blipFill>
        <p:spPr>
          <a:xfrm>
            <a:off x="4643280" y="1341360"/>
            <a:ext cx="1611360" cy="2158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beria"/>
          <p:cNvPicPr/>
          <p:nvPr/>
        </p:nvPicPr>
        <p:blipFill>
          <a:blip r:embed="rId3"/>
          <a:stretch/>
        </p:blipFill>
        <p:spPr>
          <a:xfrm>
            <a:off x="7020000" y="3429000"/>
            <a:ext cx="1385640" cy="2160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image006"/>
          <p:cNvPicPr/>
          <p:nvPr/>
        </p:nvPicPr>
        <p:blipFill>
          <a:blip r:embed="rId4"/>
          <a:stretch/>
        </p:blipFill>
        <p:spPr>
          <a:xfrm>
            <a:off x="468360" y="1700280"/>
            <a:ext cx="172728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Задачи 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V</a:t>
            </a: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 пятилетки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Восстановить и увеличить довоенный уровень эконом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Первоочередное развитие тяжёлой промышлен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Развитие НТ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Повышение обороноспособ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Поднять жизненный уровень насе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6T18:51:58Z</dcterms:created>
  <dc:creator>Соколова Ю.Е.</dc:creator>
  <dc:description/>
  <dc:language>en-US</dc:language>
  <cp:lastModifiedBy>U5</cp:lastModifiedBy>
  <dcterms:modified xsi:type="dcterms:W3CDTF">2016-03-14T16:20:36Z</dcterms:modified>
  <cp:revision>44</cp:revision>
  <dc:subject/>
  <dc:title>СССР в первые послевоенные годы</dc:title>
</cp:coreProperties>
</file>