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8C1-D5E9-4765-8D90-84587DBD6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A54-93A1-409B-8239-0FCC20C6B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BF7-EE43-4D29-8DD5-FFADA7075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CF8-CEF1-4187-8492-6A960FF75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492-286E-4ABF-BDBD-B2B6D5A95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24B8-8D05-4A53-86E3-B0F9080C9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BEB6-F0B3-47B5-B632-A30838C1E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633C-5D1F-4CD9-9208-94B6A0992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6CF-21FA-47B2-B112-628017FA6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E9F-4A24-4E8E-A879-CCF568A5E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929-1EBF-4F77-A15D-BFA92D85A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217-2379-4415-8788-C888085C5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355-5792-4FC0-A89F-393DFDE98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C87-C542-4035-A270-616051F32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0FF-CB6F-4FFB-AE6B-5EC087D1A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E03-B6D1-4B49-9BAC-C193632EC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4915-4B19-46AF-AF4E-46DE67764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732-2A66-498B-A1C8-264ACD9A5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690-3095-4A9C-91CB-85EA8610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B44-E4E0-4F37-B202-885602C6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40A-8CD7-4780-B84A-004F91AD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423-3294-4BB7-B1CF-2F9113CB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B7E-0775-4FC6-BEA5-2CD4F845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DDD-4620-4026-B623-7A1C0DC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E40F-1599-4DC3-B9C9-0D104D0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F06-190B-4F7A-850C-6737A890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1B9-F01C-485C-9E33-BA15B5E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2C6-9D66-4B9E-9688-184A7DFB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2D6A-679E-4E9A-8B5B-EF8AF4E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B76-63CE-473C-A892-F52A8DA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762-458A-437A-9AFE-110F9F4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25F-0A4C-446A-AE58-7303847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8907-2F48-4BA9-A9D4-5593639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F65F-3E2E-402F-9BD9-F4D2C487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A8AA-1883-4E02-91F6-3C244482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6EF-42EF-4C3D-81AE-F5B778FA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34A-574B-4117-BF41-6D2BB97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FC9-F6E4-4D06-A6ED-1B67DFDA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40A-E973-4922-9BE4-58C8FC28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13D-33C9-4100-8307-3537F47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F9F-D810-427E-987D-ACEABE4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332-7748-44CB-8564-AD7CD80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866E-906B-4970-A0EF-EECDED28C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2494-745D-4E9F-BD19-F0662B8FB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4360" y="1700280"/>
            <a:ext cx="5832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ФОРМИРОВАНИЕ РЕГУЛЯТИВНЫХ УУ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31640" y="2781000"/>
            <a:ext cx="49690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рагмент урока (планирова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133720"/>
          <a:ext cx="6719760" cy="3354120"/>
        </p:xfrm>
        <a:graphic>
          <a:graphicData uri="http://schemas.openxmlformats.org/drawingml/2006/table">
            <a:tbl>
              <a:tblPr/>
              <a:tblGrid>
                <a:gridCol w="2187720"/>
                <a:gridCol w="2185920"/>
                <a:gridCol w="2346120"/>
              </a:tblGrid>
              <a:tr h="3354120">
                <a:tc>
                  <a:txBody>
                    <a:bodyPr lIns="59760" rIns="59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Планирование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авайте составим план наше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 доске символами обозначены пункты пла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Что такое задач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Основные части задач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Работа в группе  по учеб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учится находить в задаче УСЛОВИЕ и 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учиться составлять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т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 Оценка учебных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ли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 заданным эталоно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)способа действ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б) результата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303200" y="4724280"/>
          <a:ext cx="2268720" cy="133668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478080"/>
                <a:gridCol w="596880"/>
              </a:tblGrid>
              <a:tr h="3207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Прямоугольник 65"/>
          <p:cNvSpPr/>
          <p:nvPr/>
        </p:nvSpPr>
        <p:spPr>
          <a:xfrm>
            <a:off x="2841840" y="4292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буду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34"/>
          <p:cNvGrpSpPr/>
          <p:nvPr/>
        </p:nvGrpSpPr>
        <p:grpSpPr>
          <a:xfrm>
            <a:off x="885960" y="482760"/>
            <a:ext cx="685800" cy="685800"/>
            <a:chOff x="885960" y="482760"/>
            <a:chExt cx="685800" cy="685800"/>
          </a:xfrm>
        </p:grpSpPr>
        <p:sp>
          <p:nvSpPr>
            <p:cNvPr id="115" name="Oval 79"/>
            <p:cNvSpPr/>
            <p:nvPr/>
          </p:nvSpPr>
          <p:spPr>
            <a:xfrm>
              <a:off x="885960" y="4827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8"/>
            <p:cNvSpPr/>
            <p:nvPr/>
          </p:nvSpPr>
          <p:spPr>
            <a:xfrm>
              <a:off x="100008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7"/>
            <p:cNvSpPr/>
            <p:nvPr/>
          </p:nvSpPr>
          <p:spPr>
            <a:xfrm>
              <a:off x="134316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6"/>
            <p:cNvSpPr/>
            <p:nvPr/>
          </p:nvSpPr>
          <p:spPr>
            <a:xfrm>
              <a:off x="1228680" y="70812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75"/>
            <p:cNvSpPr/>
            <p:nvPr/>
          </p:nvSpPr>
          <p:spPr>
            <a:xfrm flipV="1" rot="2538000">
              <a:off x="1114200" y="822600"/>
              <a:ext cx="228600" cy="22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360 h 228240"/>
                <a:gd name="textAreaBottom" fmla="*/ 228960 h 22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35"/>
          <p:cNvGrpSpPr/>
          <p:nvPr/>
        </p:nvGrpSpPr>
        <p:grpSpPr>
          <a:xfrm>
            <a:off x="2143080" y="476280"/>
            <a:ext cx="685800" cy="730800"/>
            <a:chOff x="2143080" y="476280"/>
            <a:chExt cx="685800" cy="730800"/>
          </a:xfrm>
        </p:grpSpPr>
        <p:sp>
          <p:nvSpPr>
            <p:cNvPr id="121" name="Oval 69"/>
            <p:cNvSpPr/>
            <p:nvPr/>
          </p:nvSpPr>
          <p:spPr>
            <a:xfrm>
              <a:off x="2143080" y="476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8"/>
            <p:cNvSpPr/>
            <p:nvPr/>
          </p:nvSpPr>
          <p:spPr>
            <a:xfrm>
              <a:off x="225108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7"/>
            <p:cNvSpPr/>
            <p:nvPr/>
          </p:nvSpPr>
          <p:spPr>
            <a:xfrm>
              <a:off x="259416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6"/>
            <p:cNvSpPr/>
            <p:nvPr/>
          </p:nvSpPr>
          <p:spPr>
            <a:xfrm>
              <a:off x="2479680" y="70812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rc 65"/>
            <p:cNvSpPr/>
            <p:nvPr/>
          </p:nvSpPr>
          <p:spPr>
            <a:xfrm flipV="1" rot="13368000">
              <a:off x="2364840" y="930960"/>
              <a:ext cx="228600" cy="22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360 h 228240"/>
                <a:gd name="textAreaBottom" fmla="*/ 228960 h 22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36"/>
          <p:cNvGrpSpPr/>
          <p:nvPr/>
        </p:nvGrpSpPr>
        <p:grpSpPr>
          <a:xfrm>
            <a:off x="3357720" y="482760"/>
            <a:ext cx="685800" cy="685800"/>
            <a:chOff x="3357720" y="482760"/>
            <a:chExt cx="685800" cy="685800"/>
          </a:xfrm>
        </p:grpSpPr>
        <p:sp>
          <p:nvSpPr>
            <p:cNvPr id="127" name="Oval 74"/>
            <p:cNvSpPr/>
            <p:nvPr/>
          </p:nvSpPr>
          <p:spPr>
            <a:xfrm>
              <a:off x="3357720" y="4827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3"/>
            <p:cNvSpPr/>
            <p:nvPr/>
          </p:nvSpPr>
          <p:spPr>
            <a:xfrm>
              <a:off x="381492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2"/>
            <p:cNvSpPr/>
            <p:nvPr/>
          </p:nvSpPr>
          <p:spPr>
            <a:xfrm>
              <a:off x="3471840" y="7081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1"/>
            <p:cNvSpPr/>
            <p:nvPr/>
          </p:nvSpPr>
          <p:spPr>
            <a:xfrm>
              <a:off x="3700440" y="70812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0"/>
            <p:cNvSpPr/>
            <p:nvPr/>
          </p:nvSpPr>
          <p:spPr>
            <a:xfrm>
              <a:off x="3586320" y="9320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80"/>
          <p:cNvSpPr/>
          <p:nvPr/>
        </p:nvSpPr>
        <p:spPr>
          <a:xfrm>
            <a:off x="1800" y="-105300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4"/>
          <p:cNvSpPr/>
          <p:nvPr/>
        </p:nvSpPr>
        <p:spPr>
          <a:xfrm>
            <a:off x="1146600" y="191628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лшебные линеечк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02"/>
          <p:cNvSpPr/>
          <p:nvPr/>
        </p:nvSpPr>
        <p:spPr>
          <a:xfrm>
            <a:off x="1164600" y="3860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сенка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2"/>
          <p:cNvSpPr/>
          <p:nvPr/>
        </p:nvSpPr>
        <p:spPr>
          <a:xfrm>
            <a:off x="4311720" y="5517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сь   Умею    Могу нау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357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Коррекция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случае расхождения с эталоном)</a:t>
            </a: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несение необходимых дополнений  и корректив в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3357360"/>
            <a:ext cx="70581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ла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пособ действ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3800" y="33336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ниверсальные учебные дейст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раж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обучающегося строить учебно-познавательную деятель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я все 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мпонен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ТИ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Копия e-l-16"/>
          <p:cNvPicPr/>
          <p:nvPr/>
        </p:nvPicPr>
        <p:blipFill>
          <a:blip r:embed="rId1"/>
          <a:stretch/>
        </p:blipFill>
        <p:spPr>
          <a:xfrm>
            <a:off x="395280" y="4149720"/>
            <a:ext cx="2176560" cy="2021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-l-15"/>
          <p:cNvPicPr/>
          <p:nvPr/>
        </p:nvPicPr>
        <p:blipFill>
          <a:blip r:embed="rId2"/>
          <a:stretch/>
        </p:blipFill>
        <p:spPr>
          <a:xfrm>
            <a:off x="6372360" y="3789360"/>
            <a:ext cx="2239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2506680" y="152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49280" y="2209680"/>
            <a:ext cx="30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8145360" y="2286000"/>
            <a:ext cx="30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743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ы и жизнен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602560" y="228600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83016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 flipH="1">
            <a:off x="594288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41148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 flipV="1">
            <a:off x="4106880" y="609480"/>
            <a:ext cx="533520" cy="1905120"/>
          </a:xfrm>
          <a:prstGeom prst="upArrow">
            <a:avLst>
              <a:gd name="adj1" fmla="val 50000"/>
              <a:gd name="adj2" fmla="val 892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819520" y="2819520"/>
            <a:ext cx="3276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гулятивные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83808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я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9144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Проблемно-диалогическ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638360" y="615960"/>
            <a:ext cx="20192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атематика, Информа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10552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638360" y="1562040"/>
            <a:ext cx="20192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Алгорит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257800" y="990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38680" y="403848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Самостоятельное выполнение действий в группе и  индивиду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09680" y="56386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оригинальных замы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т идеи через планы и эскизы к результ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181480" y="1295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57800" y="1676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роведение экспери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90720" y="266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Оценивание результ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90720" y="4724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становка учебной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Составление плана учебных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971640" y="1484280"/>
            <a:ext cx="71294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к проектировать универсальные учебные действия в нач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е. От действия к мысли: пособие для учителя/ Под ред. А.Г. Асмо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е изд. – М.: Просвещение, 20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окарева З.А. Постановка целей и задач с позиции педаг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. //Источник. – 2002 –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andart.edu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tp://pedsovet.s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90800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ятие «универсальные учебные действия»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42920" y="1773360"/>
            <a:ext cx="8101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я учиться предполаг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ноценное освоение школьниками всех компонентов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ые и учебные моти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ц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за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действия и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анируемые результаты по формированию регулятивных  УУД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 научи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и сохранять учебную задач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ть пошаговый контро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екватно воспринимать оценку учи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43880" cy="158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УД </a:t>
            </a:r>
            <a:br>
              <a:rPr sz="3600"/>
            </a:b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обеспечивают организацию</a:t>
            </a:r>
            <a:br>
              <a:rPr sz="3600"/>
            </a:b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f7f7f"/>
                </a:solidFill>
                <a:latin typeface="Arial"/>
              </a:rPr>
              <a:t>этапов</a:t>
            </a:r>
            <a:r>
              <a:rPr b="1" lang="ru-RU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99640" y="2421000"/>
            <a:ext cx="7775640" cy="3705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Целеполаг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ланир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амооценка (рефлекс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оррек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станов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учебной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задачи: соотнесение того, что уже известно и усвоено, и того, что ещё неизвес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1998720" y="1052640"/>
            <a:ext cx="56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гмент урока (целеполаг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9640" y="2637000"/>
          <a:ext cx="8064720" cy="3671640"/>
        </p:xfrm>
        <a:graphic>
          <a:graphicData uri="http://schemas.openxmlformats.org/drawingml/2006/table">
            <a:tbl>
              <a:tblPr/>
              <a:tblGrid>
                <a:gridCol w="2098800"/>
                <a:gridCol w="1941480"/>
                <a:gridCol w="2082960"/>
                <a:gridCol w="1941480"/>
              </a:tblGrid>
              <a:tr h="36716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Целеполаг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тему урока, поставить цель, учебные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А в математике встречается термин «задача»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 странице «Содержание» найдите тему  с этим термин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Отметьте закладкой эту страниц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зовите тему сегодняшнего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О каких задачах мы  будем сегодня говорить на урок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Как вы думаете, что мы должны выяснить о задач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Это будут наши учебные задачи на ур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Я видел в учебнике слово задач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«Задача. Условие и вопр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 математических задач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то такое зад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Как отличать задачи математические и учебны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Узнать что такое «условие» и «вопр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учиться самим, составлять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нформационны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 извлечение информ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нятие  цели и постановка задач уро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(планирование действ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ставление плана и последовательности действ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определение последовательности промежуточных целей с у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м конечного результат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740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RePack by SPecialiST</cp:lastModifiedBy>
  <dcterms:modified xsi:type="dcterms:W3CDTF">2014-11-27T05:08:00Z</dcterms:modified>
  <cp:revision>48</cp:revision>
  <dc:subject/>
  <dc:title>Слайд 1</dc:title>
</cp:coreProperties>
</file>