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6FE-B412-4632-B1C2-C9715D7F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063C-6D87-4AC4-A59D-484386D0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AA1-A2EE-4BA9-AB87-5B855B1B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9CF-D314-43D9-A446-8DE8A50B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41EE6-7F72-431F-87CE-EC689F71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E7382-F38D-4640-ACBA-ADE965E5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ADD03-D278-4B3E-B93B-315DEBEB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96EFE-0033-4061-9A30-CCD9782D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C71CC-5A65-42C2-84FF-EB9FB5ED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50F3C-D9AC-4FF8-BE67-824043B5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5077B-FAF5-448F-9BA7-BB383856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DC8-3730-4A09-AF75-05551B4C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5A6A6-5F7F-48B9-A834-BD19F2FB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B8D37-2BFD-409C-879B-0C99D110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2C75E-39FA-4FAF-884B-8F1594A4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F92F4-B213-4C9A-A03B-DDE72D12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6EAF3-4703-4D51-A624-E8420813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419-FEF1-4311-BED1-EA138BE3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C04-3FA1-4146-87D8-12B6FFC0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E7B-4679-49D9-BACB-4127F4C9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5890-F223-4EA9-8715-271610F0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C7F-AD60-40EE-86CD-64E35913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D411-3839-455D-9F75-3134B9A1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E948-22C4-4452-A0B7-F203DE8A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4232-7582-4DCF-AFBA-2B36D4D844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F6C1-5DC0-4095-9C5D-433CDFABCC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изнь и творчество А. Блока (1880 – 1921г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il_fi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ворческое разнообраз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06 году Заканчивает университ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у Блока принадлежит не только поэзия, но и критические работы («О лирике», «Творчество Федора Сологуба» и др.), драматические произведения («Незнакомка», «Песня судьбы»), пере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ктивная жизнь Бло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00 г. Супруги Блок совершают заграничное путешествие по Италии и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10 г. Ведет активную общественную жизн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15 г. Публикуется сборник «Стихи о России», поэма «Соловьиный сад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лужба Бло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етом 1916 г. Блок призван в действующую арм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il_fi" descr=""/>
          <p:cNvPicPr/>
          <p:nvPr/>
        </p:nvPicPr>
        <p:blipFill>
          <a:blip r:embed="rId2"/>
          <a:stretch/>
        </p:blipFill>
        <p:spPr>
          <a:xfrm>
            <a:off x="5181480" y="2666880"/>
            <a:ext cx="30481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ношение к революци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январе 1918 г. А. А. Блок пишет поэму «Двенадцать», а в течение года создает «Скифов», статьи «Искусство и революция», «Последние дни старого режима»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овые сборник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19 г. Выходит в свет сборник «Ямбы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20 г. Выходит сборник «Седое утро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олезнь Бло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сной 1921 г. Появляются симптомы смертельной болезни. 23 июля после многочисленных ходатайств в ЦК РКП(б) Блоку разрешают выехать из страны для ле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мерть Бло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тром 7 августа 1921 г. А.А. Блок скончался. Похороны состоялись  10 августа На Смоленском кладбище, а в 1944 г. Прах поэта перенесен на Волково кладбищ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омантический мир Бло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И я не знал, когда и г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Явился и исчез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Как опрокинулся в в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Лазурный сон небе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августа 1902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бложка книги Бло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il_fi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363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амятник А. Блоку – поэту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il_fi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3581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исхождение Бло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дился 16(28) ноября 1880 г. В семье Александра Львовича Блока, юриста и философа, и Александры Андреевны (урожденной Бекетовой), писательницы и переводч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Шахматово. 1894 г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Александр Блок в кругу семьи. Шахматово. 1894"/>
          <p:cNvPicPr/>
          <p:nvPr/>
        </p:nvPicPr>
        <p:blipFill>
          <a:blip r:embed="rId2"/>
          <a:stretch/>
        </p:blipFill>
        <p:spPr>
          <a:xfrm>
            <a:off x="838080" y="220968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ервые литературные опыт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887-1888 гг. появляются первые детские литературные опыты Бло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889 г. Был расторгнут брак родителей, и мать вышла замуж вторичн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ервая любов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897 г. Сердце Блока впервые посещает чувство любви, объектом которого становится Ксения Михайловна Садовская. Ей посвящены стихи, а также цикл «Через двенадцать лет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юбовь к театру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898 г. Александр Блок заканчивает гимназию. Летом этого же года происходит знакомство с Л. Д. Менделеевой. Поступление на юридический факультет Петербургского университета. Страстное увлечение театром, постановки спектаклей в Шахмато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должение образова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01 г. Подает прошение о переводе с юридического  факультета на славяно-русское отделение историко-филологического факульт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ворческий успех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03 г. Состоялся литературный дебют поэта в журнале «Новый путь», а 17 августа венчание А. Блока и Л. Менделеев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Александр Блок с Л.Д. Менделеевой. 1903"/>
          <p:cNvPicPr/>
          <p:nvPr/>
        </p:nvPicPr>
        <p:blipFill>
          <a:blip r:embed="rId2"/>
          <a:stretch/>
        </p:blipFill>
        <p:spPr>
          <a:xfrm>
            <a:off x="3581280" y="3657600"/>
            <a:ext cx="4343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накомство с символистам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04 году Блок знакомится с московскими символистами, в числе которых был А. Белый, К. Бальмонт и др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бликация сборника «Стихи о Прекрасной Даме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T</cp:lastModifiedBy>
  <dcterms:modified xsi:type="dcterms:W3CDTF">2012-06-09T06:29:0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