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339-A2C0-4BC6-9DF2-880A29A4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93D-4232-4D96-BB43-9ED3E5A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FC2-C246-41C3-8725-EDE3C3C8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E2A-1DB4-437C-876D-8F7C815F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CBCB-4728-4EF4-8ED9-84AC063C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0CA-49D2-426E-A264-384863D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7756-2C16-4F57-961D-E93279C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451-F93B-4F14-BC80-A0D1480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B125-B198-45D1-882F-F5948E8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B53-D4CA-4B22-B10D-AC1EC980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36CE-4685-4B1A-96E2-1B816A5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83E-D9F0-4F88-8B12-7054C5B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4AC-7E59-49F7-9D80-89B48A8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D89-3DE6-4F49-BBFD-343FD89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43A-9CB0-4A99-BFF4-AC2B4FD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25E4-9A5A-4174-A244-742479A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4DB8-6CF3-4100-8C48-3809ABD0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76B-AA64-4F17-80BD-40A325E5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098-549C-4F64-946D-245B8B4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488-C946-4012-8ACD-92961EC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DBA-E82F-48BE-A5D2-8E011BB6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A0C-1A32-4C8A-BF8E-1E7FBC9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3EF-E957-4D34-A6AA-22323D1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10D-6851-445C-8D72-280C5C6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22A-58FE-4226-950D-F7B30CAA19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640F-6725-4E14-90BF-56D45F4910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Алгоритм конструирования урока открытия нового знания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еятельностная цель: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у учащихся умений реализации новых способов действия.</a:t>
            </a:r>
            <a:br>
              <a:rPr sz="3200"/>
            </a:br>
            <a:br>
              <a:rPr sz="32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одержательная цель: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ширение понятийной базы за счет включения в нее новых элемент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лгоритм конструирования урока открытия нового зна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ыделить и сформулировать новое зн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способ открытия нового зн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ычленить мыслительные операции, используемые при открытии нового зн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 необходимые ЗУН и способы его повт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одобрать упражнения для этапа актуализации, опираясь на перечень необходимых мыслительных операций и ЗУН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затруднение и способ его фикс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проблемную ситуацию и диало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ставить самостоятельную работу и объективно обоснованный этало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 приемы организации и проведения первичного закреп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брать задания для этапа повторения по уровн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сти анализ урока по конспек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сти при необходимости коррективы в план консп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05:39:27Z</dcterms:created>
  <dc:creator>Ольга</dc:creator>
  <dc:description/>
  <dc:language>en-US</dc:language>
  <cp:lastModifiedBy>Ольга</cp:lastModifiedBy>
  <dcterms:modified xsi:type="dcterms:W3CDTF">2017-04-16T05:4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