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9.jpeg" ContentType="image/jpe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7164-13D8-4870-8B67-DA51A3669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01C0-8549-482E-9D26-CB81BD02F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0442-4B96-44DE-9F95-90253F5C5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455C-4B17-45BD-81E2-98A2626C7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17575-EC1A-4221-AED6-374DB5062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4A307-E3CC-4684-84D0-718ACC3AF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94AF1-8A8D-4849-A134-FF88C3665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B421D-C19D-4E5C-9A56-22131D19F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236BE-C680-4DBD-B389-02862FF98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CB1B1-3C57-4CA2-984D-FF061317D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8E380-1D0F-4524-AE61-6CF763B55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23C4-2518-4588-89FF-DB627D854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31219-3F1D-4F0B-8F40-4CC6E043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D68D9-34EE-4DA7-9ECA-49B9FD758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925FA-0685-4F9F-BE5F-02C1A6955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06F7D-3A5B-4C86-B1BC-EFFE70769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6EAFB-3206-4094-B408-87299F428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34B3D-439A-47ED-AB8A-0CA934B7D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62187-EADB-4B85-BDEC-ED7389BD8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16632-0873-4727-B84B-81ACB1635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4D6C9-44B9-4CD4-8049-B12AF0F0D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03B91-86D8-45E3-80BB-CDE490654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FCC5-9D44-4254-84D7-A37410D28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17371-8843-4192-AFC9-C9EF2BFC2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CF7E3-A3FC-4607-B30C-10C145FA3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3EE0D-5B1C-4F88-8B24-2ACDA9A7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001A0-2732-4B9E-ADF8-3126689F1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6874A-DAA6-4D34-B976-8B02DB36E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4573D-EE91-4193-A552-702B484D4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CE0BE-1C82-453F-A725-6C463AA27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6E1D3-AE8B-46BE-A782-2483AFE39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3709C-576E-4A01-BECB-D7139CA38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015CA-674C-4C94-A59C-9AAA4C095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85BE-3116-463B-AB08-E3DA07D25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6CBF5-7231-43C4-8618-710455E5E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AE284-36BF-4D6C-A0D5-E4092E13C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907B0-816F-4763-A112-E2E8225D8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436F2-51EE-4F5C-AA4B-83FFE91E2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22447-239E-47EA-97BA-2B89E3932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C0D5F-5134-41B4-B253-9CDF5E07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B3902-D5D8-41F9-A1D1-0BD3AF10D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78EE6-F9B1-4BB3-B0A9-C744C62C3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D4F9A-943F-4E40-8A83-1606E70D7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2D26CA-9F76-44FB-BEEC-780E62D53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3F34-04CA-48F2-83AC-C5FA0C20B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46D1A-E602-4E21-ACB8-BB6C5E101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A1B233-6626-4FF0-9D8E-D4D3502F4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CDBE5-D7CB-45BC-8BBB-7F4A1106B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43855F-4869-4D21-A1B4-3CBFF9F76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532C8-B692-4865-81DC-68FC0EF25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5F426-274E-420D-A01C-8001EE6D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F63C1-76DF-4902-9149-84958FE1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D1F90E-CFBF-4F38-8A3F-5424F987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4CFEF5-F9C7-410D-B5EA-8652F7DA4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101D3-DF73-43D3-9951-0F951BE29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A91C-ADCE-4F7E-91FA-D1118FD1F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DC4076-6B39-4F29-9D61-88AD70463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E86B45-36AE-4B4E-8648-EBBCC4207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6912B9-C094-4637-AC1D-28126C6D9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1BE6E3-F1D5-4156-A23B-38E88639F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014AAD-C3F1-4EBD-BC2B-0B000F63C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0DB115-0E52-4459-9770-463D69AFB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56BA0B-CBEC-4B98-B167-A2FA4F765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46372F-0823-4AFE-99BA-03BD7A8CD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DAE4F5-DFF5-4039-88A2-5F6CB0D59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AEBE9F-E690-426F-89C7-368DEB9E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48B7-E182-4053-8074-071700D1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5E172F-0893-459D-A714-90BC6D984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8106D9-E40A-4E48-B71E-185DF5180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55EF55-C9D0-4E30-BE69-ED1D2EDB5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F5C039-399D-4AB1-872E-735944E71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1B5903-5B5E-46ED-BC7C-9104749B4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F45FD8-E304-4F36-A585-19EE0BD98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DB1DDC-B825-4B22-903D-ACF4804DD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0C0343-FFDC-43B0-964A-240355962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301E1B-0161-4F08-8250-1B9950D2F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08B460-EF67-4DB8-B079-B6391571B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B7FA-D533-40F0-8905-BC04F7692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5015AE-691C-4A92-B842-903B4FF4E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65D2BF-D22B-4A17-8836-9DE65B507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B31A6F-E835-4102-9AEC-3491441EB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3525FF-F86A-4E46-82A0-D3183CD4C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393276-0818-4ADF-9E77-AB8075400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D40B-D3E9-4647-9C90-E313FAE9B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B8D9D-6FB1-44C1-AB27-89A71AB286E9}" type="datetime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Автор: Доронина Екатерина Валерьевна, МКОУ СОШ № 1, Г. Корки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699DF-17BA-4018-B5C9-6807B7F85786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7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ectangle 8"/>
          <p:cNvGrpSpPr/>
          <p:nvPr/>
        </p:nvGrpSpPr>
        <p:grpSpPr>
          <a:xfrm>
            <a:off x="347760" y="2944800"/>
            <a:ext cx="7143480" cy="2462400"/>
            <a:chOff x="347760" y="2944800"/>
            <a:chExt cx="7143480" cy="2462400"/>
          </a:xfrm>
        </p:grpSpPr>
        <p:pic>
          <p:nvPicPr>
            <p:cNvPr id="50" name="Rectangle 8" descr=""/>
            <p:cNvPicPr/>
            <p:nvPr/>
          </p:nvPicPr>
          <p:blipFill>
            <a:blip r:embed="rId3"/>
            <a:stretch/>
          </p:blipFill>
          <p:spPr>
            <a:xfrm>
              <a:off x="349200" y="2945880"/>
              <a:ext cx="7139880" cy="24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7760" y="2944800"/>
              <a:ext cx="7143480" cy="24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Rectangle 11"/>
          <p:cNvGrpSpPr/>
          <p:nvPr/>
        </p:nvGrpSpPr>
        <p:grpSpPr>
          <a:xfrm>
            <a:off x="7570800" y="2944800"/>
            <a:ext cx="1195200" cy="2462400"/>
            <a:chOff x="7570800" y="2944800"/>
            <a:chExt cx="1195200" cy="2462400"/>
          </a:xfrm>
        </p:grpSpPr>
        <p:pic>
          <p:nvPicPr>
            <p:cNvPr id="53" name="Rectangle 11" descr=""/>
            <p:cNvPicPr/>
            <p:nvPr/>
          </p:nvPicPr>
          <p:blipFill>
            <a:blip r:embed="rId4"/>
            <a:stretch/>
          </p:blipFill>
          <p:spPr>
            <a:xfrm>
              <a:off x="7570800" y="2944800"/>
              <a:ext cx="119520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Rectangle 12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5C57F-C042-48C2-B326-F86093BE8BC5}" type="datetime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Автор: Доронина Екатерина Валерьевна, МКОУ СОШ № 1, Г. Корки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4753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AF143-8E67-4686-8C64-9DC6EAC0F216}" type="slidenum">
              <a:rPr b="0" lang="ru-RU" sz="2800" spc="-1" strike="noStrike">
                <a:solidFill>
                  <a:srgbClr val="47534c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Rectangle 12"/>
          <p:cNvGrpSpPr/>
          <p:nvPr/>
        </p:nvGrpSpPr>
        <p:grpSpPr>
          <a:xfrm>
            <a:off x="450720" y="2944800"/>
            <a:ext cx="8266320" cy="2468520"/>
            <a:chOff x="450720" y="2944800"/>
            <a:chExt cx="8266320" cy="2468520"/>
          </a:xfrm>
        </p:grpSpPr>
        <p:pic>
          <p:nvPicPr>
            <p:cNvPr id="103" name="Rectangle 12" descr=""/>
            <p:cNvPicPr/>
            <p:nvPr/>
          </p:nvPicPr>
          <p:blipFill>
            <a:blip r:embed="rId3"/>
            <a:stretch/>
          </p:blipFill>
          <p:spPr>
            <a:xfrm>
              <a:off x="450720" y="2944800"/>
              <a:ext cx="82663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Rectangle 15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F22A0-0FB3-4F24-AFD2-B94D32056C04}" type="datetime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Автор: Доронина Екатерина Валерьевна, МКОУ СОШ № 1, Г. Корки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AD41A-671D-4CA1-AF43-C00327AA3C23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ounded Rectangle 10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B3243-6FC2-4C17-825A-36B90735FEFB}" type="datetime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Автор: Доронина Екатерина Валерьевна, МКОУ СОШ № 1, Г. Корки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9BD80-B1CA-4966-9469-7A09710EB44A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Rectangle 7"/>
          <p:cNvGrpSpPr/>
          <p:nvPr/>
        </p:nvGrpSpPr>
        <p:grpSpPr>
          <a:xfrm>
            <a:off x="560520" y="1504800"/>
            <a:ext cx="2719080" cy="3524400"/>
            <a:chOff x="560520" y="1504800"/>
            <a:chExt cx="2719080" cy="3524400"/>
          </a:xfrm>
        </p:grpSpPr>
        <p:pic>
          <p:nvPicPr>
            <p:cNvPr id="195" name="Rectangle 7" descr=""/>
            <p:cNvPicPr/>
            <p:nvPr/>
          </p:nvPicPr>
          <p:blipFill>
            <a:blip r:embed="rId3"/>
            <a:stretch/>
          </p:blipFill>
          <p:spPr>
            <a:xfrm>
              <a:off x="560520" y="1504800"/>
              <a:ext cx="271908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Rectangle 9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7618C-180F-4492-9705-3BF6C92A8006}" type="datetime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Автор: Доронина Екатерина Валерьевна, МКОУ СОШ № 1, Г. Корки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4633E-1556-465A-9F9E-7E690F89638C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ounded Rectangle 8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Rectangle 9"/>
          <p:cNvGrpSpPr/>
          <p:nvPr/>
        </p:nvGrpSpPr>
        <p:grpSpPr>
          <a:xfrm>
            <a:off x="689040" y="4956120"/>
            <a:ext cx="7772040" cy="1371240"/>
            <a:chOff x="689040" y="4956120"/>
            <a:chExt cx="7772040" cy="1371240"/>
          </a:xfrm>
        </p:grpSpPr>
        <p:pic>
          <p:nvPicPr>
            <p:cNvPr id="242" name="Rectangle 9" descr=""/>
            <p:cNvPicPr/>
            <p:nvPr/>
          </p:nvPicPr>
          <p:blipFill>
            <a:blip r:embed="rId3"/>
            <a:stretch/>
          </p:blipFill>
          <p:spPr>
            <a:xfrm>
              <a:off x="691920" y="4959000"/>
              <a:ext cx="77691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89040" y="4956120"/>
              <a:ext cx="776916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Rectangle 11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2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0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46AA0-65DD-4D04-9A9F-C0BB6D431057}" type="datetime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3C515-A72D-49C7-B0FF-C55185AF3189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Автор: Доронина Екатерина Валерьевна, МКОУ СОШ № 1, Г. Корки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6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AFA45-9E05-484A-B6D4-81C21529794D}" type="datetime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Автор: Доронина Екатерина Валерьевна, МКОУ СОШ № 1, Г. Корки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E9CBF-F3D9-4976-AFBB-3622567535B9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Нижний колонтитул 1"/>
          <p:cNvSpPr/>
          <p:nvPr/>
        </p:nvSpPr>
        <p:spPr>
          <a:xfrm>
            <a:off x="5148360" y="6165720"/>
            <a:ext cx="3392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Arial"/>
              </a:rPr>
              <a:t>Автор: Шибалева Татьяна Евгенье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Arial"/>
              </a:rPr>
              <a:t>ГБОУ Школа №1959 г. Моск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4440" y="3227040"/>
            <a:ext cx="66294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7534c"/>
                </a:solidFill>
                <a:latin typeface="Book Antiqua"/>
              </a:rPr>
              <a:t>ИСПОЛНИТЕЛЬ ЧЕРЕПАХА</a:t>
            </a:r>
            <a:endParaRPr b="0" lang="en-US" sz="40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4038480" y="30492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F57FA-3705-4296-B2FC-426443F1958D}" type="datetime3"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0 июля, 2026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11" descr="0000014980"/>
          <p:cNvPicPr/>
          <p:nvPr/>
        </p:nvPicPr>
        <p:blipFill>
          <a:blip r:embed="rId1"/>
          <a:stretch/>
        </p:blipFill>
        <p:spPr>
          <a:xfrm>
            <a:off x="6997680" y="1052640"/>
            <a:ext cx="187344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b7d72"/>
                </a:solidFill>
                <a:latin typeface="Book Antiqua"/>
              </a:rPr>
              <a:t>ЦИКЛ </a:t>
            </a:r>
            <a:r>
              <a:rPr b="1" lang="ru-RU" sz="2800" spc="-1" strike="noStrike" u="sng">
                <a:solidFill>
                  <a:srgbClr val="6b7d72"/>
                </a:solidFill>
                <a:uFillTx/>
                <a:latin typeface="Book Antiqua"/>
              </a:rPr>
              <a:t>ПОВТОРИ</a:t>
            </a:r>
            <a:r>
              <a:rPr b="1" lang="ru-RU" sz="2800" spc="-1" strike="noStrike">
                <a:solidFill>
                  <a:srgbClr val="6b7d72"/>
                </a:solidFill>
                <a:latin typeface="Book Antiqua"/>
              </a:rPr>
              <a:t> В КУМИРЕ ЗАПИСЫВАЕТСЯ СЛЕДУЮЩИМ ОБРАЗОМ:</a:t>
            </a:r>
            <a:endParaRPr b="0" lang="en-US" sz="28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Нц 4 раз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64b3c"/>
                </a:solidFill>
                <a:latin typeface="Arial"/>
              </a:rPr>
              <a:t>Вперед (50)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64b3c"/>
                </a:solidFill>
                <a:latin typeface="Arial"/>
              </a:rPr>
              <a:t>Вправо (90)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кц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60" name="Picture 5" descr="https://thumbs.dreamstime.com/z/turtle-standing-eyeglass-illustration-white-background-32732384.jpg"/>
          <p:cNvPicPr/>
          <p:nvPr/>
        </p:nvPicPr>
        <p:blipFill>
          <a:blip r:embed="rId1"/>
          <a:srcRect l="0" t="0" r="10543" b="0"/>
          <a:stretch/>
        </p:blipFill>
        <p:spPr>
          <a:xfrm>
            <a:off x="5292720" y="1773360"/>
            <a:ext cx="319716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6868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b7d72"/>
                </a:solidFill>
                <a:latin typeface="Book Antiqua"/>
              </a:rPr>
              <a:t>СОСТАВИТЬ ПРОГРАММЫ ДЛЯ РИСОВАНИЯ</a:t>
            </a:r>
            <a:endParaRPr b="0" lang="en-US" sz="36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62" name="Picture 5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6570720" cy="242712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6" descr=""/>
          <p:cNvPicPr/>
          <p:nvPr/>
        </p:nvPicPr>
        <p:blipFill>
          <a:blip r:embed="rId2"/>
          <a:stretch/>
        </p:blipFill>
        <p:spPr>
          <a:xfrm>
            <a:off x="6659640" y="3789360"/>
            <a:ext cx="2378160" cy="2987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6" descr="https://i.ytimg.com/vi/gTgEVdu2TcI/hqdefault.jpg"/>
          <p:cNvPicPr/>
          <p:nvPr/>
        </p:nvPicPr>
        <p:blipFill>
          <a:blip r:embed="rId3"/>
          <a:srcRect l="18701" t="0" r="18331" b="0"/>
          <a:stretch/>
        </p:blipFill>
        <p:spPr>
          <a:xfrm>
            <a:off x="1476360" y="4292640"/>
            <a:ext cx="197172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https://ds02.infourok.ru/uploads/ex/02bf/0002c1de-6e31becd/43/img2.jpg"/>
          <p:cNvPicPr/>
          <p:nvPr/>
        </p:nvPicPr>
        <p:blipFill>
          <a:blip r:embed="rId1"/>
          <a:srcRect l="4933" t="14940" r="0" b="0"/>
          <a:stretch/>
        </p:blipFill>
        <p:spPr>
          <a:xfrm>
            <a:off x="971640" y="1790640"/>
            <a:ext cx="7275600" cy="488304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b7d72"/>
                </a:solidFill>
                <a:latin typeface="Book Antiqua"/>
              </a:rPr>
              <a:t>ЗНАКОМИМСЯ С ЧЕРЕПАХОЙ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5553000" cy="665784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5" descr=""/>
          <p:cNvPicPr/>
          <p:nvPr/>
        </p:nvPicPr>
        <p:blipFill>
          <a:blip r:embed="rId2"/>
          <a:stretch/>
        </p:blipFill>
        <p:spPr>
          <a:xfrm>
            <a:off x="3800520" y="1305000"/>
            <a:ext cx="5343480" cy="55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https://ds02.infourok.ru/uploads/ex/02bf/0002c1de-6e31becd/55/hello_html_4177242e.png"/>
          <p:cNvPicPr/>
          <p:nvPr/>
        </p:nvPicPr>
        <p:blipFill>
          <a:blip r:embed="rId1"/>
          <a:srcRect l="0" t="0" r="0" b="25922"/>
          <a:stretch/>
        </p:blipFill>
        <p:spPr>
          <a:xfrm>
            <a:off x="324000" y="1773360"/>
            <a:ext cx="8351640" cy="49496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b7d72"/>
                </a:solidFill>
                <a:latin typeface="Book Antiqua"/>
              </a:rPr>
              <a:t>ОСНОВНЫЕ КОМАНДЫ</a:t>
            </a:r>
            <a:br>
              <a:rPr sz="3200"/>
            </a:br>
            <a:r>
              <a:rPr b="1" lang="ru-RU" sz="3200" spc="-1" strike="noStrike">
                <a:solidFill>
                  <a:srgbClr val="6b7d72"/>
                </a:solidFill>
                <a:latin typeface="Book Antiqua"/>
              </a:rPr>
              <a:t> ЧЕРЕПАШКИ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826128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b7d72"/>
                </a:solidFill>
                <a:latin typeface="Book Antiqua"/>
              </a:rPr>
              <a:t>ОСНОВНЫЕ КОМАНДЫ ЧЕРЕПАШКИ.</a:t>
            </a:r>
            <a:br>
              <a:rPr sz="3600"/>
            </a:br>
            <a:endParaRPr b="0" lang="en-US" sz="36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68360" y="220464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1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)</a:t>
            </a: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 Oпустить хвост -</a:t>
            </a:r>
            <a:r>
              <a:rPr b="1" i="1" lang="ru-RU" sz="2400" spc="-1" strike="noStrike">
                <a:solidFill>
                  <a:srgbClr val="564b3c"/>
                </a:solidFill>
                <a:latin typeface="Century Gothic"/>
              </a:rPr>
              <a:t>Черепашка при движении оставляет следы на песке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2)</a:t>
            </a: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 Поднять хвост-</a:t>
            </a:r>
            <a:r>
              <a:rPr b="1" i="1" lang="ru-RU" sz="2400" spc="-1" strike="noStrike">
                <a:solidFill>
                  <a:srgbClr val="564b3c"/>
                </a:solidFill>
                <a:latin typeface="Century Gothic"/>
              </a:rPr>
              <a:t>Черепашка не оставляет следов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3) Вперед (50) -</a:t>
            </a:r>
            <a:r>
              <a:rPr b="1" i="1" lang="ru-RU" sz="2400" spc="-1" strike="noStrike">
                <a:solidFill>
                  <a:srgbClr val="564b3c"/>
                </a:solidFill>
                <a:latin typeface="Century Gothic"/>
              </a:rPr>
              <a:t>Движение вперед на 50 шагов (точек экрана)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4) Вправо (90)-</a:t>
            </a:r>
            <a:r>
              <a:rPr b="1" i="1" lang="ru-RU" sz="2400" spc="-1" strike="noStrike">
                <a:solidFill>
                  <a:srgbClr val="564b3c"/>
                </a:solidFill>
                <a:latin typeface="Century Gothic"/>
              </a:rPr>
              <a:t>Повернуть направо на 90º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5) </a:t>
            </a: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Влево (180)-</a:t>
            </a:r>
            <a:r>
              <a:rPr b="1" i="1" lang="ru-RU" sz="2400" spc="-1" strike="noStrike">
                <a:solidFill>
                  <a:srgbClr val="564b3c"/>
                </a:solidFill>
                <a:latin typeface="Century Gothic"/>
              </a:rPr>
              <a:t>Повернуть налево на 180º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6)</a:t>
            </a:r>
            <a:r>
              <a:rPr b="1" lang="en-US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Назад (60) -</a:t>
            </a:r>
            <a:r>
              <a:rPr b="1" i="1" lang="ru-RU" sz="2400" spc="-1" strike="noStrike">
                <a:solidFill>
                  <a:srgbClr val="564b3c"/>
                </a:solidFill>
                <a:latin typeface="Century Gothic"/>
              </a:rPr>
              <a:t>Движение назад на 60 точек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b7d72"/>
                </a:solidFill>
                <a:latin typeface="Book Antiqua"/>
              </a:rPr>
              <a:t>ЦИКЛ  ПОВТОРИ</a:t>
            </a:r>
            <a:endParaRPr b="0" lang="en-US" sz="36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7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64b3c"/>
                </a:solidFill>
                <a:latin typeface="Arial"/>
              </a:rPr>
              <a:t>Повтори 4</a:t>
            </a:r>
            <a:r>
              <a:rPr b="0" lang="en-US" sz="3000" spc="-1" strike="noStrike">
                <a:solidFill>
                  <a:srgbClr val="564b3c"/>
                </a:solidFill>
                <a:latin typeface="Arial"/>
              </a:rPr>
              <a:t>[ </a:t>
            </a:r>
            <a:r>
              <a:rPr b="0" lang="ru-RU" sz="3000" spc="-1" strike="noStrike">
                <a:solidFill>
                  <a:srgbClr val="564b3c"/>
                </a:solidFill>
                <a:latin typeface="Arial"/>
              </a:rPr>
              <a:t>ВПЕРЕД 50 ВПРАВО 90</a:t>
            </a:r>
            <a:r>
              <a:rPr b="0" lang="en-US" sz="3000" spc="-1" strike="noStrike">
                <a:solidFill>
                  <a:srgbClr val="564b3c"/>
                </a:solidFill>
                <a:latin typeface="Arial"/>
              </a:rPr>
              <a:t>]</a:t>
            </a:r>
            <a:endParaRPr b="0" lang="en-US" sz="3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51"/>
              </a:spcBef>
              <a:buClr>
                <a:srgbClr val="93a2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64b3c"/>
                </a:solidFill>
                <a:latin typeface="Arial"/>
              </a:rPr>
              <a:t>Квадрат</a:t>
            </a:r>
            <a:endParaRPr b="0" lang="en-US" sz="3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64b3c"/>
                </a:solidFill>
                <a:latin typeface="Arial"/>
              </a:rPr>
              <a:t>Повтори 3</a:t>
            </a:r>
            <a:r>
              <a:rPr b="0" lang="en-US" sz="3000" spc="-1" strike="noStrike">
                <a:solidFill>
                  <a:srgbClr val="564b3c"/>
                </a:solidFill>
                <a:latin typeface="Arial"/>
              </a:rPr>
              <a:t>[ </a:t>
            </a:r>
            <a:r>
              <a:rPr b="0" lang="ru-RU" sz="3000" spc="-1" strike="noStrike">
                <a:solidFill>
                  <a:srgbClr val="564b3c"/>
                </a:solidFill>
                <a:latin typeface="Arial"/>
              </a:rPr>
              <a:t>ВПЕРЕД 50 ВПРАВО 120</a:t>
            </a:r>
            <a:r>
              <a:rPr b="0" lang="en-US" sz="3000" spc="-1" strike="noStrike">
                <a:solidFill>
                  <a:srgbClr val="564b3c"/>
                </a:solidFill>
                <a:latin typeface="Arial"/>
              </a:rPr>
              <a:t>]</a:t>
            </a:r>
            <a:endParaRPr b="0" lang="en-US" sz="3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64b3c"/>
                </a:solidFill>
                <a:latin typeface="Arial"/>
              </a:rPr>
              <a:t>- Правильный треугольник</a:t>
            </a:r>
            <a:endParaRPr b="0" lang="en-US" sz="3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45" name="Picture 6" descr=""/>
          <p:cNvPicPr/>
          <p:nvPr/>
        </p:nvPicPr>
        <p:blipFill>
          <a:blip r:embed="rId1"/>
          <a:stretch/>
        </p:blipFill>
        <p:spPr>
          <a:xfrm>
            <a:off x="6846840" y="2205000"/>
            <a:ext cx="1517760" cy="151776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7" descr=""/>
          <p:cNvPicPr/>
          <p:nvPr/>
        </p:nvPicPr>
        <p:blipFill>
          <a:blip r:embed="rId2"/>
          <a:stretch/>
        </p:blipFill>
        <p:spPr>
          <a:xfrm>
            <a:off x="6742080" y="4653000"/>
            <a:ext cx="1727280" cy="17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b7d72"/>
                </a:solidFill>
                <a:latin typeface="Arial"/>
              </a:rPr>
              <a:t>ПРАВИЛО РИСОВАНИЯ ПРАВИЛЬНОГО </a:t>
            </a:r>
            <a:r>
              <a:rPr b="0" lang="en-US" sz="3600" spc="-1" strike="noStrike">
                <a:solidFill>
                  <a:srgbClr val="6b7d72"/>
                </a:solidFill>
                <a:latin typeface="Arial"/>
              </a:rPr>
              <a:t>N</a:t>
            </a:r>
            <a:r>
              <a:rPr b="0" lang="ru-RU" sz="3600" spc="-1" strike="noStrike">
                <a:solidFill>
                  <a:srgbClr val="6b7d72"/>
                </a:solidFill>
                <a:latin typeface="Arial"/>
              </a:rPr>
              <a:t>-УГОЛЬНИКА:</a:t>
            </a:r>
            <a:endParaRPr b="0" lang="en-US" sz="36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64b3c"/>
                </a:solidFill>
                <a:latin typeface="Arial"/>
              </a:rPr>
              <a:t>Повтори </a:t>
            </a:r>
            <a:r>
              <a:rPr b="1" lang="en-US" sz="3200" spc="-1" strike="noStrike">
                <a:solidFill>
                  <a:srgbClr val="564b3c"/>
                </a:solidFill>
                <a:latin typeface="Arial"/>
              </a:rPr>
              <a:t>N [</a:t>
            </a:r>
            <a:r>
              <a:rPr b="1" lang="ru-RU" sz="3200" spc="-1" strike="noStrike">
                <a:solidFill>
                  <a:srgbClr val="564b3c"/>
                </a:solidFill>
                <a:latin typeface="Arial"/>
              </a:rPr>
              <a:t>вперед 50 вправо 360</a:t>
            </a:r>
            <a:r>
              <a:rPr b="1" lang="en-US" sz="3200" spc="-1" strike="noStrike">
                <a:solidFill>
                  <a:srgbClr val="564b3c"/>
                </a:solidFill>
                <a:latin typeface="Arial"/>
              </a:rPr>
              <a:t>/N]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64b3c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564b3c"/>
                </a:solidFill>
                <a:latin typeface="Arial"/>
              </a:rPr>
              <a:t>- так как черепаха при рисовании правильного </a:t>
            </a:r>
            <a:r>
              <a:rPr b="1" lang="en-US" sz="3200" spc="-1" strike="noStrike">
                <a:solidFill>
                  <a:srgbClr val="564b3c"/>
                </a:solidFill>
                <a:latin typeface="Arial"/>
              </a:rPr>
              <a:t>N-</a:t>
            </a:r>
            <a:r>
              <a:rPr b="1" lang="ru-RU" sz="3200" spc="-1" strike="noStrike">
                <a:solidFill>
                  <a:srgbClr val="564b3c"/>
                </a:solidFill>
                <a:latin typeface="Arial"/>
              </a:rPr>
              <a:t>угольника совершает общий поворот на 360 градусов и возвращается в исходную точку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49" name="Picture 5" descr="http://efty.net/wp-content/uploads/2014/04/url.jpg"/>
          <p:cNvPicPr/>
          <p:nvPr/>
        </p:nvPicPr>
        <p:blipFill>
          <a:blip r:embed="rId1"/>
          <a:stretch/>
        </p:blipFill>
        <p:spPr>
          <a:xfrm>
            <a:off x="2124000" y="4405320"/>
            <a:ext cx="381636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b7d72"/>
                </a:solidFill>
                <a:latin typeface="Book Antiqua"/>
              </a:rPr>
              <a:t>ДОПИШИ</a:t>
            </a:r>
            <a:endParaRPr b="0" lang="en-US" sz="36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Arial"/>
              </a:rPr>
              <a:t>Правильный пятиугольник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Arial"/>
              </a:rPr>
              <a:t>Повтори 5</a:t>
            </a:r>
            <a:r>
              <a:rPr b="0" lang="en-US" sz="2400" spc="-1" strike="noStrike">
                <a:solidFill>
                  <a:srgbClr val="564b3c"/>
                </a:solidFill>
                <a:latin typeface="Arial"/>
              </a:rPr>
              <a:t>[ </a:t>
            </a:r>
            <a:r>
              <a:rPr b="0" lang="ru-RU" sz="2400" spc="-1" strike="noStrike">
                <a:solidFill>
                  <a:srgbClr val="564b3c"/>
                </a:solidFill>
                <a:latin typeface="Arial"/>
              </a:rPr>
              <a:t>ВПЕРЕД 50 ВПРАВО ?</a:t>
            </a:r>
            <a:r>
              <a:rPr b="0" lang="en-US" sz="2400" spc="-1" strike="noStrike">
                <a:solidFill>
                  <a:srgbClr val="564b3c"/>
                </a:solidFill>
                <a:latin typeface="Arial"/>
              </a:rPr>
              <a:t>]</a:t>
            </a:r>
            <a:br>
              <a:rPr sz="2400"/>
            </a:b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Arial"/>
              </a:rPr>
              <a:t>Правильный шестиугольник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Arial"/>
              </a:rPr>
              <a:t>Повтори 6</a:t>
            </a:r>
            <a:r>
              <a:rPr b="0" lang="en-US" sz="2400" spc="-1" strike="noStrike">
                <a:solidFill>
                  <a:srgbClr val="564b3c"/>
                </a:solidFill>
                <a:latin typeface="Arial"/>
              </a:rPr>
              <a:t>[ </a:t>
            </a:r>
            <a:r>
              <a:rPr b="0" lang="ru-RU" sz="2400" spc="-1" strike="noStrike">
                <a:solidFill>
                  <a:srgbClr val="564b3c"/>
                </a:solidFill>
                <a:latin typeface="Arial"/>
              </a:rPr>
              <a:t>ВПЕРЕД 50 ВПРАВО ?</a:t>
            </a:r>
            <a:r>
              <a:rPr b="0" lang="en-US" sz="2400" spc="-1" strike="noStrike">
                <a:solidFill>
                  <a:srgbClr val="564b3c"/>
                </a:solidFill>
                <a:latin typeface="Arial"/>
              </a:rPr>
              <a:t>]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Arial"/>
              </a:rPr>
              <a:t>Правильный восьмиугольник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Arial"/>
              </a:rPr>
              <a:t>Повтори 8</a:t>
            </a:r>
            <a:r>
              <a:rPr b="0" lang="en-US" sz="2400" spc="-1" strike="noStrike">
                <a:solidFill>
                  <a:srgbClr val="564b3c"/>
                </a:solidFill>
                <a:latin typeface="Arial"/>
              </a:rPr>
              <a:t>[ </a:t>
            </a:r>
            <a:r>
              <a:rPr b="0" lang="ru-RU" sz="2400" spc="-1" strike="noStrike">
                <a:solidFill>
                  <a:srgbClr val="564b3c"/>
                </a:solidFill>
                <a:latin typeface="Arial"/>
              </a:rPr>
              <a:t>ВПЕРЕД 50 ВПРАВО ?</a:t>
            </a:r>
            <a:r>
              <a:rPr b="0" lang="en-US" sz="2400" spc="-1" strike="noStrike">
                <a:solidFill>
                  <a:srgbClr val="564b3c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1"/>
          <a:stretch/>
        </p:blipFill>
        <p:spPr>
          <a:xfrm>
            <a:off x="6894360" y="1484280"/>
            <a:ext cx="1654200" cy="149868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5" descr=""/>
          <p:cNvPicPr/>
          <p:nvPr/>
        </p:nvPicPr>
        <p:blipFill>
          <a:blip r:embed="rId2"/>
          <a:stretch/>
        </p:blipFill>
        <p:spPr>
          <a:xfrm>
            <a:off x="7023240" y="3068640"/>
            <a:ext cx="1523880" cy="13525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7" descr=""/>
          <p:cNvPicPr/>
          <p:nvPr/>
        </p:nvPicPr>
        <p:blipFill>
          <a:blip r:embed="rId3"/>
          <a:stretch/>
        </p:blipFill>
        <p:spPr>
          <a:xfrm>
            <a:off x="6894360" y="4724280"/>
            <a:ext cx="175284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b7d72"/>
                </a:solidFill>
                <a:latin typeface="Book Antiqua"/>
              </a:rPr>
              <a:t>КРУГ – ПРАВИЛЬНЫЙ 360 УГОЛЬНИК</a:t>
            </a:r>
            <a:endParaRPr b="0" lang="en-US" sz="36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Arial"/>
              </a:rPr>
              <a:t>Повтори 360</a:t>
            </a:r>
            <a:r>
              <a:rPr b="0" lang="en-US" sz="2400" spc="-1" strike="noStrike">
                <a:solidFill>
                  <a:srgbClr val="564b3c"/>
                </a:solidFill>
                <a:latin typeface="Arial"/>
              </a:rPr>
              <a:t>[ </a:t>
            </a:r>
            <a:r>
              <a:rPr b="0" lang="ru-RU" sz="2400" spc="-1" strike="noStrike">
                <a:solidFill>
                  <a:srgbClr val="564b3c"/>
                </a:solidFill>
                <a:latin typeface="Arial"/>
              </a:rPr>
              <a:t>ВПЕРЕД 1 ВПРАВО 1</a:t>
            </a:r>
            <a:r>
              <a:rPr b="0" lang="en-US" sz="2400" spc="-1" strike="noStrike">
                <a:solidFill>
                  <a:srgbClr val="564b3c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Arial"/>
              </a:rPr>
              <a:t>Повтори 360</a:t>
            </a:r>
            <a:r>
              <a:rPr b="0" lang="en-US" sz="2400" spc="-1" strike="noStrike">
                <a:solidFill>
                  <a:srgbClr val="564b3c"/>
                </a:solidFill>
                <a:latin typeface="Arial"/>
              </a:rPr>
              <a:t>[ </a:t>
            </a:r>
            <a:r>
              <a:rPr b="0" lang="ru-RU" sz="2400" spc="-1" strike="noStrike">
                <a:solidFill>
                  <a:srgbClr val="564b3c"/>
                </a:solidFill>
                <a:latin typeface="Arial"/>
              </a:rPr>
              <a:t>ВПЕРЕД 2 ВПРАВО 1</a:t>
            </a:r>
            <a:r>
              <a:rPr b="0" lang="en-US" sz="2400" spc="-1" strike="noStrike">
                <a:solidFill>
                  <a:srgbClr val="564b3c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Arial"/>
              </a:rPr>
              <a:t>Круг в 2 раза больше первого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Arial"/>
              </a:rPr>
              <a:t>Повтори 180</a:t>
            </a:r>
            <a:r>
              <a:rPr b="0" lang="en-US" sz="2400" spc="-1" strike="noStrike">
                <a:solidFill>
                  <a:srgbClr val="564b3c"/>
                </a:solidFill>
                <a:latin typeface="Arial"/>
              </a:rPr>
              <a:t>[ </a:t>
            </a:r>
            <a:r>
              <a:rPr b="0" lang="ru-RU" sz="2400" spc="-1" strike="noStrike">
                <a:solidFill>
                  <a:srgbClr val="564b3c"/>
                </a:solidFill>
                <a:latin typeface="Arial"/>
              </a:rPr>
              <a:t>ВПЕРЕД 1 ВПРАВО 1</a:t>
            </a:r>
            <a:r>
              <a:rPr b="0" lang="en-US" sz="2400" spc="-1" strike="noStrike">
                <a:solidFill>
                  <a:srgbClr val="564b3c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Arial"/>
              </a:rPr>
              <a:t>- Половина круга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57" name="Picture 5" descr="https://ds03.infourok.ru/uploads/ex/0ddc/00041903-e512c089/hello_html_m5aeee4b7.png"/>
          <p:cNvPicPr/>
          <p:nvPr/>
        </p:nvPicPr>
        <p:blipFill>
          <a:blip r:embed="rId1"/>
          <a:stretch/>
        </p:blipFill>
        <p:spPr>
          <a:xfrm>
            <a:off x="5937120" y="3932280"/>
            <a:ext cx="301176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8T10:55:06Z</dcterms:created>
  <dc:creator>Доронина</dc:creator>
  <dc:description/>
  <dc:language>en-US</dc:language>
  <cp:lastModifiedBy>Татьяна Шибалева</cp:lastModifiedBy>
  <dcterms:modified xsi:type="dcterms:W3CDTF">2017-12-28T20:34:00Z</dcterms:modified>
  <cp:revision>46</cp:revision>
  <dc:subject/>
  <dc:title>Презентация PowerPoint</dc:title>
</cp:coreProperties>
</file>