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F7D2-3C34-41C8-9DC9-A66F9F35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62A8-E8AE-4A32-B3AB-815EA4D7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FC60-A846-4049-8282-EB50C646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E8A9-1249-403B-B8D4-DFB64B63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E5A-0964-4D90-A8CA-BC5EBBF6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292-F13D-4B99-B77A-8BEE2F98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C6CC-7FE7-4636-8084-FCFCA860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765-0531-4FEF-9F6E-82B48D86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2B2-BE65-422A-8D9C-CFBF9817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CAEF-1060-4B97-9013-E8927AB7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F52B-14D1-4785-A622-3658DEEF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9F0-B1D5-405D-BF4F-EF816D4D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2C83-1993-44DE-B48F-70AD471120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01680" y="612720"/>
            <a:ext cx="408132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2280" y="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Arial"/>
              </a:rPr>
              <a:t>Чтение сборочного чертеж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Рис. 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419720" y="0"/>
            <a:ext cx="472428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Как называется изделие, для чег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меняется, каковы его габарит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ры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Перечислить детали, входящие в соста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делия, определить их количеств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Есть ли в данном изделии подвиж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ал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Какими изображениями задано издели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Проанализировать геометрическу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рму болта нажимного 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граничи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Есть ли в данном изделии стандар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али,   каковы их размеры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 Какую роль в изделии игр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граничител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 Перечислить способы соедин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алей в издел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. Какую геометрическую форму име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ромысло в месте присоединения 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хват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 flipH="1" rot="16222200">
            <a:off x="4353120" y="5001840"/>
            <a:ext cx="1751040" cy="1501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934320" y="4876920"/>
            <a:ext cx="123192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5697360" y="63244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6840360" y="64008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7526160" y="624852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6840360" y="4952880"/>
            <a:ext cx="228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983360" y="63244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419720" y="4876920"/>
            <a:ext cx="190476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6400800" y="4876920"/>
            <a:ext cx="21337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5240160" y="65530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0" y="457200"/>
            <a:ext cx="4454640" cy="5867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457200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Чтение сборочного чертеж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Рис. 2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572000" y="1295280"/>
            <a:ext cx="457200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Как называется изделие, каковы его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абаритные размер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Перечислить детали, входящие в соста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делия. Определить их количеств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Какими изображениями задано издели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Проанализировать геометрическую фор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ержня и осн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Какая резьба нарезана на винте зажимно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Есть ли в данном изделии стандарт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тали, каковы их размер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Какую роль в изделии играет винт (Поз.7)?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. Перечислить способы соединения деталей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дел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. Рассказать порядок сборки деталей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дел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77320" cy="49989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2438280" y="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Чтение сборочного чертеж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Рис. 2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602000" y="0"/>
            <a:ext cx="60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Условности и упрощения на сборочных чертеж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905120" y="304920"/>
            <a:ext cx="462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9999"/>
                </a:solidFill>
                <a:uFillTx/>
                <a:latin typeface="Arial"/>
              </a:rPr>
              <a:t>Условности </a:t>
            </a:r>
            <a:r>
              <a:rPr b="1" i="1" lang="ru-RU" sz="1600" spc="-1" strike="noStrike">
                <a:solidFill>
                  <a:srgbClr val="009999"/>
                </a:solidFill>
                <a:latin typeface="Arial"/>
              </a:rPr>
              <a:t>облегчают чтение чертежа.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9720" y="609480"/>
            <a:ext cx="68986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Виды, разрезы, сечения располагают в проекционной связи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2. Смежные детали в разрезе штрихуют в раз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направл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3. Непустотелые детали в продольном разрез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изображают нерассеченными (болты, винт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шпильки, шпонки, штифты, валы, оси и т.д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4. Крайнее или промежуточное полож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подвижных деталей показывают штрихпунктирной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линией или с соответствующими размерами.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5. Допускается не показывать детали, мешающ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восприятию конструктивных особеннос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других частей издел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6. Пограничные, обрабатываемые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соседние изделия изображаю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тон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сплошной лин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6049800" y="990720"/>
            <a:ext cx="309420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943600" y="1981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2" descr=""/>
          <p:cNvPicPr/>
          <p:nvPr/>
        </p:nvPicPr>
        <p:blipFill>
          <a:blip r:embed="rId2"/>
          <a:stretch/>
        </p:blipFill>
        <p:spPr>
          <a:xfrm>
            <a:off x="3911760" y="4343400"/>
            <a:ext cx="2490480" cy="25146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3"/>
          <p:cNvSpPr/>
          <p:nvPr/>
        </p:nvSpPr>
        <p:spPr>
          <a:xfrm rot="1051200">
            <a:off x="6224400" y="631944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908000" y="0"/>
            <a:ext cx="561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Упрощения </a:t>
            </a: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облегчают выполнение чертеж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380880"/>
            <a:ext cx="2158920" cy="3345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0" y="3657600"/>
            <a:ext cx="202104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3352680" y="45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420280" y="457200"/>
            <a:ext cx="7112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1. Фаски, проточки, гнезда, закругления и другие мел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элементы на сборочном чертеже не показываю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2. Зазоры между стержнем и отверстием не показывают.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3. Допускается вместо нескольких одинаковых элем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изображать на сборочном чертеже только оди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4. Допускается не показывать шайбы.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5. При симметричности сборочной единицы вычерчива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половину или немного больше половины изображ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6. Для укорачивания изображения изделия без уменьш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масштаба используют разрыв.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7. Для уменьшения количества изображений использу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размерные зна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 flipH="1" flipV="1">
            <a:off x="685440" y="2282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V="1">
            <a:off x="1219320" y="45684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1371600" y="13716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3108240" y="262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4"/>
          <p:cNvSpPr/>
          <p:nvPr/>
        </p:nvSpPr>
        <p:spPr>
          <a:xfrm>
            <a:off x="3048120" y="5334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6"/>
          <p:cNvSpPr/>
          <p:nvPr/>
        </p:nvSpPr>
        <p:spPr>
          <a:xfrm>
            <a:off x="380880" y="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7"/>
          <p:cNvSpPr/>
          <p:nvPr/>
        </p:nvSpPr>
        <p:spPr>
          <a:xfrm>
            <a:off x="1600200" y="304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8"/>
          <p:cNvSpPr/>
          <p:nvPr/>
        </p:nvSpPr>
        <p:spPr>
          <a:xfrm>
            <a:off x="2057400" y="15238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2058840" y="1523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1601640" y="304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382320" y="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3049560" y="5334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5"/>
          <p:cNvSpPr/>
          <p:nvPr/>
        </p:nvSpPr>
        <p:spPr>
          <a:xfrm flipV="1">
            <a:off x="1295280" y="365724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6"/>
          <p:cNvSpPr/>
          <p:nvPr/>
        </p:nvSpPr>
        <p:spPr>
          <a:xfrm flipV="1">
            <a:off x="1676520" y="3657240"/>
            <a:ext cx="2286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27"/>
          <p:cNvSpPr/>
          <p:nvPr/>
        </p:nvSpPr>
        <p:spPr>
          <a:xfrm>
            <a:off x="1828800" y="3352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1830240" y="3352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9"/>
          <p:cNvSpPr/>
          <p:nvPr/>
        </p:nvSpPr>
        <p:spPr>
          <a:xfrm>
            <a:off x="160020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30"/>
          <p:cNvSpPr/>
          <p:nvPr/>
        </p:nvSpPr>
        <p:spPr>
          <a:xfrm>
            <a:off x="228600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2" descr=""/>
          <p:cNvPicPr/>
          <p:nvPr/>
        </p:nvPicPr>
        <p:blipFill>
          <a:blip r:embed="rId3"/>
          <a:stretch/>
        </p:blipFill>
        <p:spPr>
          <a:xfrm>
            <a:off x="3124080" y="3657600"/>
            <a:ext cx="993960" cy="1488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3" descr=""/>
          <p:cNvPicPr/>
          <p:nvPr/>
        </p:nvPicPr>
        <p:blipFill>
          <a:blip r:embed="rId4"/>
          <a:stretch/>
        </p:blipFill>
        <p:spPr>
          <a:xfrm>
            <a:off x="4419720" y="3657600"/>
            <a:ext cx="968400" cy="1676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4"/>
          <p:cNvSpPr/>
          <p:nvPr/>
        </p:nvSpPr>
        <p:spPr>
          <a:xfrm>
            <a:off x="3124080" y="36576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5"/>
          <p:cNvSpPr/>
          <p:nvPr/>
        </p:nvSpPr>
        <p:spPr>
          <a:xfrm>
            <a:off x="4419720" y="36576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6"/>
          <p:cNvSpPr/>
          <p:nvPr/>
        </p:nvSpPr>
        <p:spPr>
          <a:xfrm flipV="1">
            <a:off x="3962520" y="47239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7"/>
          <p:cNvSpPr/>
          <p:nvPr/>
        </p:nvSpPr>
        <p:spPr>
          <a:xfrm flipH="1" flipV="1">
            <a:off x="4343400" y="47239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8"/>
          <p:cNvSpPr/>
          <p:nvPr/>
        </p:nvSpPr>
        <p:spPr>
          <a:xfrm>
            <a:off x="4191120" y="44197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9"/>
          <p:cNvSpPr/>
          <p:nvPr/>
        </p:nvSpPr>
        <p:spPr>
          <a:xfrm>
            <a:off x="419256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0" descr=""/>
          <p:cNvPicPr/>
          <p:nvPr/>
        </p:nvPicPr>
        <p:blipFill>
          <a:blip r:embed="rId5"/>
          <a:stretch/>
        </p:blipFill>
        <p:spPr>
          <a:xfrm>
            <a:off x="6583320" y="3200400"/>
            <a:ext cx="2417760" cy="30481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1"/>
          <p:cNvSpPr/>
          <p:nvPr/>
        </p:nvSpPr>
        <p:spPr>
          <a:xfrm>
            <a:off x="8839080" y="32767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2"/>
          <p:cNvSpPr/>
          <p:nvPr/>
        </p:nvSpPr>
        <p:spPr>
          <a:xfrm>
            <a:off x="8991720" y="48006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3" descr=""/>
          <p:cNvPicPr/>
          <p:nvPr/>
        </p:nvPicPr>
        <p:blipFill>
          <a:blip r:embed="rId6"/>
          <a:stretch/>
        </p:blipFill>
        <p:spPr>
          <a:xfrm>
            <a:off x="3429000" y="5410080"/>
            <a:ext cx="2209680" cy="911520"/>
          </a:xfrm>
          <a:prstGeom prst="rect">
            <a:avLst/>
          </a:prstGeom>
          <a:ln w="0">
            <a:noFill/>
          </a:ln>
        </p:spPr>
      </p:pic>
      <p:sp>
        <p:nvSpPr>
          <p:cNvPr id="101" name="Line 45"/>
          <p:cNvSpPr/>
          <p:nvPr/>
        </p:nvSpPr>
        <p:spPr>
          <a:xfrm flipV="1">
            <a:off x="1752480" y="251424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7"/>
          <p:cNvSpPr/>
          <p:nvPr/>
        </p:nvSpPr>
        <p:spPr>
          <a:xfrm>
            <a:off x="228744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8"/>
          <p:cNvSpPr/>
          <p:nvPr/>
        </p:nvSpPr>
        <p:spPr>
          <a:xfrm>
            <a:off x="2286000" y="2971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9"/>
          <p:cNvSpPr/>
          <p:nvPr/>
        </p:nvSpPr>
        <p:spPr>
          <a:xfrm>
            <a:off x="2287440" y="2971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0"/>
          <p:cNvSpPr/>
          <p:nvPr/>
        </p:nvSpPr>
        <p:spPr>
          <a:xfrm>
            <a:off x="8534520" y="48006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1"/>
          <p:cNvSpPr/>
          <p:nvPr/>
        </p:nvSpPr>
        <p:spPr>
          <a:xfrm>
            <a:off x="8535960" y="4800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дежда</dc:creator>
  <dc:description/>
  <dc:language>en-US</dc:language>
  <cp:lastModifiedBy>Надежда</cp:lastModifiedBy>
  <dcterms:modified xsi:type="dcterms:W3CDTF">2017-12-28T09:13:5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