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wmf" ContentType="image/x-wmf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 type="dt" idx="39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 type="ftr" idx="40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 type="sldNum" idx="41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C985CA-C312-4482-BF05-106C2E2E8FB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C3202A-28CC-45EF-80FA-2FAC37274D6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71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13214B-2CB4-4218-B3CE-82B622B6493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73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BD6185-7144-49B1-B92B-FB8096C7B96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74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D05226-1F62-400E-866F-3D4615FAA35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74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8AFB56-5F34-44F5-954E-095FFC2FC6A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149728-1792-4913-96E5-0E3D31D97D9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74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C08BF2-6B3F-405B-96C8-9BDCA5657D2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7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E5BC92-6E4B-4BCB-8808-0F141C2064A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71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F44D01-1C48-4D70-A6D6-9F401AF4C63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71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AAB4BD-99DC-447A-AAF7-CC4964F43D3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71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E4FFFC-0E5C-4F52-A7A9-8D449906984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72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C7A94E-4FF4-4F03-9A84-53EF025C614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9B282B-E3F9-4213-83E0-356F9A197B4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72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9D4C0F-BB16-44AE-954E-AAF3E1F8042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73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B0C27E-0B03-4557-9597-F12681F45C4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73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861D6-22A3-425C-8CE1-54B8DE51A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CA2A6-D917-4852-A5C8-1D5D6F299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9E862AF-C01F-44C1-A002-FDF0E90EF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0F5BD99-A3F7-43FE-9EA4-B076734B9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1383023-D624-431C-B247-69AA3C9E8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354B536-30B5-4467-9EF6-54008EB69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12F323A-AFC5-41E3-B817-992EA3A30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408F2EB-225F-4019-A566-E1E3B9E75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42D62A6-B4A9-4A86-9AA2-F75C8CC56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A17CDF0-C8DD-4087-BE66-31ABBE2FF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5927278-C1C3-4DC7-9485-3D6075FE9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5FE7235-E2D3-4EB3-99EE-C9AA45FFB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975EA-93D8-47E8-AEF9-426689275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60C903B-9BCD-4A14-9E4A-26B1668A0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BCEE7D6-765C-459E-AAFD-F4BD66A8F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9F8EFA8-8380-4DBF-83FE-3495E39E7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771AD39-C0FD-4EEA-8186-72AE9295A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BF2AC7F-BAF9-4089-A11F-CB0CABE5F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1A81DA1-B50D-4D49-88FB-214799DAA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8A63F3B-DCD9-45A5-B370-3F7BFF635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E9CC927-810B-4AA5-BCEE-26CD27711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88BC617-3FA5-4F2D-966F-2299EF80E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74E1843-F138-417D-B56D-0406445F6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F002A-F359-42AF-ACBF-279A88418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7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8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1160850-79DA-433D-B82D-48B013E63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B05866C-F432-47B2-BFEC-A4D195D82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0B348C3-8E37-400F-AF1E-BA9129482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F97B36F-E320-4C07-8D10-7A79D8982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2286321-DB6B-41F2-B499-5D091DCE0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7CA7F74-57F6-4910-ABB4-875FAB97F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F72B102-DCCD-44A9-BBE1-036402043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2A560FA-FBE9-41CC-8930-77375FA96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F51F8E6-9895-4B60-BC15-8A2A04446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92C69F9-917B-40D3-9914-1408F47D0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E47AE-6630-4EE6-9BD9-80E679D87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C786043-9CE8-4E7D-B020-534318E01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152F7B9-794F-44D8-867B-57F34B826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7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8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8B3C85B-9A27-4658-91D8-72E931609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1B70B25-29B5-460A-B64E-C0BBEB450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2E6B589-6DF6-4D83-9D16-43466AE02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07FA4C8-3CE4-4671-9816-50CDB6530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F484BB8-2295-444F-9E4D-10CABDF3A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AE92B1E-67FC-4721-BC19-F87729072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2C6FA89-8C48-4DAD-8C0B-BCBC9B03B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0215342-FAD4-4626-898F-42D42D5CF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856DA-DE2E-463F-B4CC-747B0E042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FA366B0-0956-4D9D-AB77-04376C6C0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8E6E986-1FF5-437B-83FB-6999249EF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3FDFA1E-8832-4DF3-B26D-58BF9F3C6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1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0A1192E-C520-4398-AFEA-74FCFB954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7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8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CAC440C-5638-4F87-A7FD-A252E206E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1CAF2B3-975C-4BEA-ACE8-3D55C0501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95EE884-20CC-47F5-9999-1D39A7A32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1717C71-515B-4ED7-9A8B-0BD180AA9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AB6E752-0CA3-4867-8423-9E09D9D98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A259DF9-AFE1-42F5-B9AE-DF6E1898B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7F603-2DD2-4DDE-A334-9D1A88B9A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83C45B4-A0C7-4DFA-920D-5E7BD11A0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4EBBEBE-6F67-4579-9034-BA09F8570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ED74CFD-12B2-478E-A0D6-0BBA37201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44BC432-4E67-442B-B2FC-F27BD3FEC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89C9AB1-5AC3-4A0A-B993-342105648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E1367FA-04B2-4638-A892-118FFE1A4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6CB39DA-F04B-47B7-BE7B-A9145F282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50673-B168-4ED5-8968-AB26748E1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92FB9-4413-4B38-BECF-451CA70CE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A1581-2396-447F-80D7-010B80FC1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D4BB5-1D22-4416-A279-80822B050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281D6-18E2-44C9-B14B-AB1692E88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746D3-5811-4D72-8BA0-449A7D5B5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726DA-51BD-4548-88C9-B289F140E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0A2FB-E1DC-4D00-BE6F-0B4757B78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728D1-C56D-4F23-A477-183B435D8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8CFA6-5061-4380-A249-21B0CF80F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49A8AF-E2AA-430E-8F2D-2E8D14F0A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7E1A0C-6D36-4CE4-BE61-4A55E5268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A92844-EB7A-4799-9458-A75FE5BE5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973345-159B-4AEF-A2E2-1A96E6BD0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F018A1-78AB-43F7-B106-4C9622BA7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B2B71-817F-4394-BD85-A306F840F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56A602-3927-44F3-9EC7-777581AB0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1ECC98-4F63-45A3-92D8-2B205AD48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48270C-E4C7-4694-871A-7490BEB6F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50BD32-12D3-471B-A4C2-40DFB6EDC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041883-8114-4CDB-AAB3-A48700F94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9DC621-0852-4B81-ACA3-5E5FF53B8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1B0632-4456-4B0B-9582-1C8466927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DD6B5F-F798-4C6A-899B-BCE6CAD0E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41561A-7FFE-4855-98FD-C01830B27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B43B46-53FF-42ED-A32A-6B15D5769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54749-3A75-424E-9D91-CC436F1A8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45B86A-EBB1-4388-8414-5FF165DEA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504358-D6FB-4C2C-9C33-6693BC160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56B4BA-0744-4E61-A7A6-36CFC1A38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1D647C-9AB6-431A-8797-07CA8FB8E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50D453-B5C8-4339-B427-49DC4C245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F92516-5170-4C7D-BAEA-9E74CD25B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C8C2A8-1A79-45BA-81AC-A5BEC4DC9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74F534-5745-408A-951D-E0F14E3ED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C0F932-7099-4211-8814-DDEC27780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78B8F5-C84B-4847-88A1-37BA28B6E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004D1-EB90-4560-8E31-938B239FC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8DD7D5-ABEA-454D-B768-B8E648CCB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801EBC-16C6-496A-8836-D9C484523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C50610-FFD0-4E41-A542-AEA2E1069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00AA70-29FD-4FCC-8D47-73E0BDA3A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75BEC7-6B6C-477C-B208-6747D1AF5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82217A-E626-4071-987C-75F771E63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6F2C10-F4B8-4D28-A2E5-1B7FAC3B1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00B3AF-4372-4A55-B85B-016F2B58D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9BE532-2F90-4891-9701-332662A3E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813FCA-400A-477A-82FC-351F23FFB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8E386-95BF-4F63-895B-44363F75D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373903-355C-48FF-99A4-F20E3117C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CC23D5-3C50-4595-B16E-37B9DB02D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B18ACC-5452-4C88-95B4-1FFCD9AC6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456079-C953-4ADA-8E49-2CE66D93A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7BF9F2-CAF2-47EB-9745-08875276A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64BBAE-2688-4BDC-BA13-0565E76D2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6F1C01-E444-4AC6-BA8C-9BC930CC1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BCF564-28D1-4B55-8139-713CBD785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EB43C6-A99C-4705-AB71-7A1DCB98D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83C1AD-CCF1-4EC5-9D72-49A616CD0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5AA52-F0B3-4944-9377-13C4260D4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D6CB9E-FD5F-4EFF-8B1F-235523456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8E085A-3CD6-45C6-AB10-53322F2EB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B4D3CD-88B3-4AA2-A580-F822D19AB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D9DDD28-150F-4A1B-8834-78225BC61BC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BEDFF82-A68C-48C4-85C5-E348AF7AB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451C2AF-E9B3-42C9-A021-C74710800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1BCFAC3-6C21-40AB-B570-A4F28DFD4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4F1CC76-EAE0-49BD-80D6-2779DC3D0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A23033F-348E-4C86-BA88-5EC48129C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370DAEE-4547-4A74-855C-EA9ABB9EA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0AFF5-640D-4CA5-9347-5DA83B349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1DCD225-5106-4049-9C66-67753D5F1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80A5ED2-BC84-4387-9BD0-4DFD253C6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1E867B9-24CE-47A8-AC85-A367A37D5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F6AC688-846C-47E4-9F6D-411DEAAB4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D33B5DC-5E75-4177-B55D-AE57F494A77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FF69534-D278-4F51-9AFE-EA7DFC397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2AD14B0-8A74-4C6F-AC28-C5429A840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D7830EE-295B-4574-B3ED-5DA56BFCC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812BCD1-7B27-4A1F-ADEC-11C689D93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FEF96E1-B741-480C-A889-B0BD9CBAF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43E69-A362-4300-82A7-5C2A6B93B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C907656-40F9-4BD0-979C-863F0C19C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5BF478B-9BD7-4402-BE83-7949B23ED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8D04287-9C47-4A7F-A706-B10E26413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5FC560A-39E6-4C08-B531-26A25E620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FCCBA61-992F-4983-80E0-0B411B5D7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14463B9-6E28-4127-9F9F-6907B5599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B2E6307-E3E6-4792-8EEC-48F669FED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3662EBE-D5C0-4ACC-8A4F-6A6AE7CF6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E395BD9-CCB6-4918-AED6-21868D57D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FC5B1D5-39E8-4F8F-9477-626063B46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16.3.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C1726D1-5518-456B-9DE9-C731C6FC41C7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Snip and Round Single Corner Rectangle 8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Right Triangle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Freeform 9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Freeform 10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 type="dt" idx="2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16.3.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 type="ftr" idx="2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 type="sldNum" idx="29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0D67669-E51D-4D2E-BBEF-98AEC4037D77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1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492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493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94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5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496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97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 type="dt" idx="3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16.3.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 type="ftr" idx="3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 type="sldNum" idx="32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D2AB85B-3C81-4DB0-BBE7-39ABAE324B60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1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42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3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4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5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46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7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 type="dt" idx="3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16.3.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 type="ftr" idx="3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 type="sldNum" idx="3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5EC7DA5-C4CB-4134-93DC-A6140F4F03B8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Snip and Round Single Corner Rectangle 8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Right Triangle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Freeform 9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Freeform 10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 type="dt" idx="3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16.3.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 type="ftr" idx="37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 type="sldNum" idx="38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DCF4C96-988B-47D4-A3CB-D6B6EAFB258F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16.3.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D189E48-799B-4EBD-B78C-24183AC9DA5F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6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16.3.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F2C8DAA-9B67-4A63-B356-0BC43412D1C5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16.3.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 type="sldNum" idx="12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C1B0A57-E408-457A-9B97-2E8062745FF3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2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16.3.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sldNum" idx="1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0A204CE-345A-455E-AEBE-0846429384D0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Snip and Round Single Corner Rectangle 8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ight Triangle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Freeform 9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Freeform 10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16.3.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 type="ftr" idx="17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 type="sldNum" idx="18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5E6FCF8-580E-47EE-ACB1-20721033AEAF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9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29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30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16.3.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sldNum" idx="20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3CF087E-BA69-4197-8069-7707AE8EAAC1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6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347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348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49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0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351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2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16.3.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ftr" idx="2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sldNum" idx="2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F58206B-DF3B-4A9D-90C3-15694560F589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6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397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398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9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0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401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2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 type="dt" idx="2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16.3.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 type="ftr" idx="2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 type="sldNum" idx="2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80C3661-50B6-444F-9251-20C345C2E574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1" name="Picture 5" descr="http://galina-bykova.ru/wp-content/uploads/2017/03/17710823.jpg"/>
          <p:cNvPicPr/>
          <p:nvPr/>
        </p:nvPicPr>
        <p:blipFill>
          <a:blip r:embed="rId1"/>
          <a:stretch/>
        </p:blipFill>
        <p:spPr>
          <a:xfrm>
            <a:off x="5076720" y="3429000"/>
            <a:ext cx="3903840" cy="3193920"/>
          </a:xfrm>
          <a:prstGeom prst="rect">
            <a:avLst/>
          </a:prstGeom>
          <a:ln w="0">
            <a:noFill/>
          </a:ln>
        </p:spPr>
      </p:pic>
      <p:pic>
        <p:nvPicPr>
          <p:cNvPr id="642" name="Прямоугольник 1" descr=""/>
          <p:cNvPicPr/>
          <p:nvPr/>
        </p:nvPicPr>
        <p:blipFill>
          <a:blip r:embed="rId2"/>
          <a:stretch/>
        </p:blipFill>
        <p:spPr>
          <a:xfrm>
            <a:off x="1657440" y="469800"/>
            <a:ext cx="6194160" cy="2224080"/>
          </a:xfrm>
          <a:prstGeom prst="rect">
            <a:avLst/>
          </a:prstGeom>
          <a:ln w="0">
            <a:noFill/>
          </a:ln>
        </p:spPr>
      </p:pic>
      <p:pic>
        <p:nvPicPr>
          <p:cNvPr id="643" name="Прямоугольник 2" descr=""/>
          <p:cNvPicPr/>
          <p:nvPr/>
        </p:nvPicPr>
        <p:blipFill>
          <a:blip r:embed="rId3"/>
          <a:stretch/>
        </p:blipFill>
        <p:spPr>
          <a:xfrm>
            <a:off x="378000" y="2919240"/>
            <a:ext cx="5187600" cy="145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spcBef>
                <a:spcPts val="638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4617b"/>
                </a:solidFill>
                <a:latin typeface="Calibri"/>
              </a:rPr>
              <a:t>Пример 5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1" name="Text Box 2"/>
          <p:cNvSpPr/>
          <p:nvPr/>
        </p:nvSpPr>
        <p:spPr>
          <a:xfrm>
            <a:off x="457200" y="907920"/>
            <a:ext cx="8229600" cy="52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638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ерепашка выполняет следующие команд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38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повтори 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R</a:t>
            </a: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 [вперед 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100 </a:t>
            </a: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направо 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Х</a:t>
            </a: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38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ведите через запятую значения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, чтобы на экране появился треугольни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38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ешен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38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38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38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80-60=120, повторить надо не менее 3 ра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38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Ответ: 3,1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38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38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38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Freeform 3"/>
          <p:cNvSpPr/>
          <p:nvPr/>
        </p:nvSpPr>
        <p:spPr>
          <a:xfrm>
            <a:off x="4500720" y="4437000"/>
            <a:ext cx="1440" cy="1800"/>
          </a:xfrm>
          <a:custGeom>
            <a:avLst/>
            <a:gdLst>
              <a:gd name="textAreaLeft" fmla="*/ 0 w 1440"/>
              <a:gd name="textAreaRight" fmla="*/ 1800 w 1440"/>
              <a:gd name="textAreaTop" fmla="*/ 0 h 1800"/>
              <a:gd name="textAreaBottom" fmla="*/ 2160 h 1800"/>
            </a:gdLst>
            <a:ahLst/>
            <a:rect l="textAreaLeft" t="textAreaTop" r="textAreaRight" b="textAreaBottom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Freeform 4"/>
          <p:cNvSpPr/>
          <p:nvPr/>
        </p:nvSpPr>
        <p:spPr>
          <a:xfrm>
            <a:off x="4572000" y="4437000"/>
            <a:ext cx="1440" cy="1800"/>
          </a:xfrm>
          <a:custGeom>
            <a:avLst/>
            <a:gdLst>
              <a:gd name="textAreaLeft" fmla="*/ 0 w 1440"/>
              <a:gd name="textAreaRight" fmla="*/ 1800 w 1440"/>
              <a:gd name="textAreaTop" fmla="*/ 0 h 1800"/>
              <a:gd name="textAreaBottom" fmla="*/ 2160 h 1800"/>
            </a:gdLst>
            <a:ahLst/>
            <a:rect l="textAreaLeft" t="textAreaTop" r="textAreaRight" b="textAreaBottom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4" name="Object 5"/>
              <p:cNvSpPr txBox="1"/>
              <p:nvPr/>
            </p:nvSpPr>
            <p:spPr>
              <a:xfrm>
                <a:off x="2843280" y="3716280"/>
                <a:ext cx="4651200" cy="127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(</m:t>
                        </m:r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180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80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3488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4617b"/>
                </a:solidFill>
                <a:latin typeface="Calibri"/>
              </a:rPr>
              <a:t>Задание №14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6" name="Text Box 2"/>
          <p:cNvSpPr/>
          <p:nvPr/>
        </p:nvSpPr>
        <p:spPr>
          <a:xfrm>
            <a:off x="457200" y="857160"/>
            <a:ext cx="8229600" cy="56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638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4617b"/>
                </a:solidFill>
                <a:latin typeface="Calibri"/>
              </a:rPr>
              <a:t>ПРИМЕР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38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У исполнителя </a:t>
            </a:r>
            <a:r>
              <a:rPr b="1" i="1" lang="ru-RU" sz="2200" spc="-1" strike="noStrike">
                <a:solidFill>
                  <a:srgbClr val="000000"/>
                </a:solidFill>
                <a:latin typeface="Calibri"/>
              </a:rPr>
              <a:t>Утроитель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две команды, которым присвоены номера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38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1. вычти один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38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2. умножь на тр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38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ервая из них уменьшает число на экране на 1, вторая – утраивает его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38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Запишите порядок команд в алгоритме получения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38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из числа 5 числа 26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38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содержащем не более 5 команд, указывая лишь номера команд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38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Если таких алгоритмов более одного, то запишите любой из них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4617b"/>
                </a:solidFill>
                <a:latin typeface="Calibri"/>
              </a:rPr>
              <a:t>Решение: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8" name="Text Box 2"/>
          <p:cNvSpPr/>
          <p:nvPr/>
        </p:nvSpPr>
        <p:spPr>
          <a:xfrm>
            <a:off x="457200" y="1125360"/>
            <a:ext cx="82296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638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38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5-1=4 </a:t>
            </a: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(1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38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4-1=3 </a:t>
            </a: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(1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38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3*3=9 </a:t>
            </a: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(2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38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9*3=27  </a:t>
            </a: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(2)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            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38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27-1=26   </a:t>
            </a: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(1)            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38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38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Ответ: 1122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" dur="500"/>
                                        <p:tgtEl>
                                          <p:spTgt spid="6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6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500"/>
                                        <p:tgtEl>
                                          <p:spTgt spid="6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6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500"/>
                                        <p:tgtEl>
                                          <p:spTgt spid="6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6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Rectangle 1"/>
          <p:cNvSpPr/>
          <p:nvPr/>
        </p:nvSpPr>
        <p:spPr>
          <a:xfrm>
            <a:off x="557280" y="2187720"/>
            <a:ext cx="3214800" cy="43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Решение от обратного: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813-1=8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812:2=4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406:2=2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203-1=2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202:2=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01-1=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00:2=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50:2=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25-1=2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24-1=2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23-1=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22-1=21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Ответ: 12 коман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Rectangle 2"/>
          <p:cNvSpPr/>
          <p:nvPr/>
        </p:nvSpPr>
        <p:spPr>
          <a:xfrm>
            <a:off x="214200" y="30240"/>
            <a:ext cx="8501040" cy="21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4617b"/>
                </a:solidFill>
                <a:latin typeface="Calibri"/>
              </a:rPr>
              <a:t>Пример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екоторый исполнитель может выполнить только две команды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рибавить 1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 число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умножить на 2.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Укажите минимальное количество команд, которые может выполнить исполнитель, чтобы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з числа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21 получить число 813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Rectangle 3"/>
          <p:cNvSpPr/>
          <p:nvPr/>
        </p:nvSpPr>
        <p:spPr>
          <a:xfrm>
            <a:off x="4786200" y="2143080"/>
            <a:ext cx="3500640" cy="222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164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Calibri"/>
              </a:rPr>
              <a:t>Обратными к данным командам являютс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buClr>
                <a:srgbClr val="000000"/>
              </a:buClr>
              <a:buFont typeface="Calibri"/>
              <a:buAutoNum type="arabicParenR"/>
              <a:tabLst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Calibri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buClr>
                <a:srgbClr val="000000"/>
              </a:buClr>
              <a:buFont typeface="Calibri"/>
              <a:buAutoNum type="arabicParenR"/>
              <a:tabLst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Calibri"/>
              </a:rPr>
              <a:t>: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6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6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500"/>
                                        <p:tgtEl>
                                          <p:spTgt spid="6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500"/>
                                        <p:tgtEl>
                                          <p:spTgt spid="6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" dur="500"/>
                                        <p:tgtEl>
                                          <p:spTgt spid="6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" dur="500"/>
                                        <p:tgtEl>
                                          <p:spTgt spid="6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" dur="500"/>
                                        <p:tgtEl>
                                          <p:spTgt spid="6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6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" dur="500"/>
                                        <p:tgtEl>
                                          <p:spTgt spid="6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500"/>
                                        <p:tgtEl>
                                          <p:spTgt spid="6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" dur="500"/>
                                        <p:tgtEl>
                                          <p:spTgt spid="6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" dur="500"/>
                                        <p:tgtEl>
                                          <p:spTgt spid="69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4617b"/>
                </a:solidFill>
                <a:latin typeface="Calibri"/>
              </a:rPr>
              <a:t>Пример 3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03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638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екоторый исполнитель может выполнить только две команд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Font typeface="Calibri"/>
              <a:buAutoNum type="arabicParenR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рибавить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Font typeface="Calibri"/>
              <a:buAutoNum type="arabicParenR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Число умножить на 2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38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кажите минимальное количество команд, которые может выполнить исполнитель, чтобы из числа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19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получить число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62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38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25160" y="664920"/>
            <a:ext cx="7931160" cy="631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4617b"/>
                </a:solidFill>
                <a:latin typeface="Calibri"/>
              </a:rPr>
              <a:t>Пример 4:</a:t>
            </a:r>
            <a:br>
              <a:rPr sz="3600"/>
            </a:b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05" name="Text Box 2"/>
          <p:cNvSpPr/>
          <p:nvPr/>
        </p:nvSpPr>
        <p:spPr>
          <a:xfrm>
            <a:off x="250920" y="2637000"/>
            <a:ext cx="350028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80000"/>
              </a:lnSpc>
              <a:spcBef>
                <a:spcPts val="638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Решение от обратного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38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192:3=64                          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38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64-1=6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38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63:3=2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38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21-1=2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38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20-1=1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38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38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38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38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Rectangle 3"/>
          <p:cNvSpPr/>
          <p:nvPr/>
        </p:nvSpPr>
        <p:spPr>
          <a:xfrm>
            <a:off x="4356000" y="2637000"/>
            <a:ext cx="4000680" cy="44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Проверяем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19+1=20 </a:t>
            </a:r>
            <a:r>
              <a:rPr b="0" lang="ru-RU" sz="4000" spc="-1" strike="noStrike">
                <a:solidFill>
                  <a:srgbClr val="0070c0"/>
                </a:solidFill>
                <a:latin typeface="Calibri"/>
              </a:rPr>
              <a:t>(1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20+1=21 </a:t>
            </a:r>
            <a:r>
              <a:rPr b="0" lang="ru-RU" sz="4000" spc="-1" strike="noStrike">
                <a:solidFill>
                  <a:srgbClr val="0070c0"/>
                </a:solidFill>
                <a:latin typeface="Calibri"/>
              </a:rPr>
              <a:t>(1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21*3=63 </a:t>
            </a:r>
            <a:r>
              <a:rPr b="0" lang="ru-RU" sz="4000" spc="-1" strike="noStrike">
                <a:solidFill>
                  <a:srgbClr val="0070c0"/>
                </a:solidFill>
                <a:latin typeface="Calibri"/>
              </a:rPr>
              <a:t>(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63+1=64 </a:t>
            </a:r>
            <a:r>
              <a:rPr b="0" lang="ru-RU" sz="4000" spc="-1" strike="noStrike">
                <a:solidFill>
                  <a:srgbClr val="0070c0"/>
                </a:solidFill>
                <a:latin typeface="Calibri"/>
              </a:rPr>
              <a:t>(1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64*3=192 </a:t>
            </a:r>
            <a:r>
              <a:rPr b="0" lang="ru-RU" sz="4000" spc="-1" strike="noStrike">
                <a:solidFill>
                  <a:srgbClr val="0070c0"/>
                </a:solidFill>
                <a:latin typeface="Calibri"/>
              </a:rPr>
              <a:t>(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Ответ:1121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Rectangle 4"/>
          <p:cNvSpPr/>
          <p:nvPr/>
        </p:nvSpPr>
        <p:spPr>
          <a:xfrm>
            <a:off x="324000" y="981000"/>
            <a:ext cx="835812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164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екоторый исполнитель может выполнить только две команд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1) к числу прибавить 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2) число умножить на 3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апишите порядок команд в программе получения </a:t>
            </a:r>
            <a:r>
              <a:rPr b="1" lang="ru-RU" sz="1800" spc="-1" strike="noStrike">
                <a:solidFill>
                  <a:srgbClr val="0070c0"/>
                </a:solidFill>
                <a:latin typeface="Calibri"/>
              </a:rPr>
              <a:t>из числа 19числа 192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одержащей не более 6 команд, указывая лишь номер коман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" dur="500"/>
                                        <p:tgtEl>
                                          <p:spTgt spid="7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500"/>
                                        <p:tgtEl>
                                          <p:spTgt spid="7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" dur="500"/>
                                        <p:tgtEl>
                                          <p:spTgt spid="7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" dur="500"/>
                                        <p:tgtEl>
                                          <p:spTgt spid="7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" dur="500"/>
                                        <p:tgtEl>
                                          <p:spTgt spid="7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5" dur="5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4617b"/>
                </a:solidFill>
                <a:latin typeface="Calibri"/>
              </a:rPr>
              <a:t>Задание №6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5" name="Text Box 2"/>
          <p:cNvSpPr/>
          <p:nvPr/>
        </p:nvSpPr>
        <p:spPr>
          <a:xfrm>
            <a:off x="0" y="785880"/>
            <a:ext cx="8686800" cy="57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1640">
              <a:lnSpc>
                <a:spcPct val="80000"/>
              </a:lnSpc>
              <a:spcBef>
                <a:spcPts val="638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Perpetua Titling MT"/>
              </a:rPr>
              <a:t>Исполнитель Черепашка перемещается на экране компьютера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Perpetua Titling MT"/>
              </a:rPr>
              <a:t>оставляя след в виде линии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ru-RU" sz="2000" spc="-1" strike="noStrike">
                <a:solidFill>
                  <a:srgbClr val="000000"/>
                </a:solidFill>
                <a:latin typeface="Perpetua Titling MT"/>
              </a:rPr>
              <a:t>В каждый конкретный момент известно положение исполнителя и направление его движения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ru-RU" sz="2000" spc="-1" strike="noStrike">
                <a:solidFill>
                  <a:srgbClr val="000000"/>
                </a:solidFill>
                <a:latin typeface="Perpetua Titling MT"/>
              </a:rPr>
              <a:t>У исполнителя существуют две команды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638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перед n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u-RU" sz="2000" spc="-1" strike="noStrike">
                <a:solidFill>
                  <a:srgbClr val="000000"/>
                </a:solidFill>
                <a:latin typeface="Perpetua Titling MT"/>
              </a:rPr>
              <a:t>где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n </a:t>
            </a:r>
            <a:r>
              <a:rPr b="0" lang="ru-RU" sz="2000" spc="-1" strike="noStrike">
                <a:solidFill>
                  <a:srgbClr val="000000"/>
                </a:solidFill>
                <a:latin typeface="Perpetua Titling MT"/>
              </a:rPr>
              <a:t>– целое число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), </a:t>
            </a:r>
            <a:r>
              <a:rPr b="0" lang="ru-RU" sz="2000" spc="-1" strike="noStrike">
                <a:solidFill>
                  <a:srgbClr val="000000"/>
                </a:solidFill>
                <a:latin typeface="Perpetua Titling MT"/>
              </a:rPr>
              <a:t>вызывающая передвижение Черепашки на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n </a:t>
            </a:r>
            <a:r>
              <a:rPr b="0" lang="ru-RU" sz="2000" spc="-1" strike="noStrike">
                <a:solidFill>
                  <a:srgbClr val="000000"/>
                </a:solidFill>
                <a:latin typeface="Perpetua Titling MT"/>
              </a:rPr>
              <a:t>шагов в направлении движения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638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аправо m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u-RU" sz="2000" spc="-1" strike="noStrike">
                <a:solidFill>
                  <a:srgbClr val="000000"/>
                </a:solidFill>
                <a:latin typeface="Perpetua Titling MT"/>
              </a:rPr>
              <a:t>где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m </a:t>
            </a:r>
            <a:r>
              <a:rPr b="0" lang="ru-RU" sz="2000" spc="-1" strike="noStrike">
                <a:solidFill>
                  <a:srgbClr val="000000"/>
                </a:solidFill>
                <a:latin typeface="Perpetua Titling MT"/>
              </a:rPr>
              <a:t>– целое число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), </a:t>
            </a:r>
            <a:r>
              <a:rPr b="0" lang="ru-RU" sz="2000" spc="-1" strike="noStrike">
                <a:solidFill>
                  <a:srgbClr val="000000"/>
                </a:solidFill>
                <a:latin typeface="Perpetua Titling MT"/>
              </a:rPr>
              <a:t>вызывающая изменение направ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638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Perpetua Titling MT"/>
              </a:rPr>
              <a:t>движения на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m </a:t>
            </a:r>
            <a:r>
              <a:rPr b="0" lang="ru-RU" sz="2000" spc="-1" strike="noStrike">
                <a:solidFill>
                  <a:srgbClr val="000000"/>
                </a:solidFill>
                <a:latin typeface="Perpetua Titling MT"/>
              </a:rPr>
              <a:t>градусов по часовой стрелке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638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Perpetua Titling MT"/>
              </a:rPr>
              <a:t>Запись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овтори k [Команда1 Команда2 Команда3] </a:t>
            </a:r>
            <a:r>
              <a:rPr b="0" lang="ru-RU" sz="2000" spc="-1" strike="noStrike">
                <a:solidFill>
                  <a:srgbClr val="000000"/>
                </a:solidFill>
                <a:latin typeface="Perpetua Titling MT"/>
              </a:rPr>
              <a:t>означает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Perpetua Titling MT"/>
              </a:rPr>
              <a:t>чт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638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Perpetua Titling MT"/>
              </a:rPr>
              <a:t>последовательность команд в скобках повторится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k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Perpetua Titling MT"/>
              </a:rPr>
              <a:t>раз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638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638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4f6228"/>
                </a:solidFill>
                <a:latin typeface="Perpetua Titling MT"/>
              </a:rPr>
              <a:t>Черепашке был дан для исполнения следующий алгоритм</a:t>
            </a:r>
            <a:r>
              <a:rPr b="1" lang="ru-RU" sz="2400" spc="-1" strike="noStrike">
                <a:solidFill>
                  <a:srgbClr val="4f6228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638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4f6228"/>
                </a:solidFill>
                <a:latin typeface="Calibri"/>
              </a:rPr>
              <a:t>Повтори 10 [Направо 36 Вперед 20 Направо 36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638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4f6228"/>
                </a:solidFill>
                <a:latin typeface="Perpetua Titling MT"/>
              </a:rPr>
              <a:t>Какая фигура появится на экране</a:t>
            </a:r>
            <a:r>
              <a:rPr b="0" lang="ru-RU" sz="2400" spc="-1" strike="noStrike">
                <a:solidFill>
                  <a:srgbClr val="4f6228"/>
                </a:solidFill>
                <a:latin typeface="Calibri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638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4f6228"/>
                </a:solidFill>
                <a:latin typeface="Calibri"/>
              </a:rPr>
              <a:t>1) </a:t>
            </a:r>
            <a:r>
              <a:rPr b="0" lang="ru-RU" sz="2400" spc="-1" strike="noStrike">
                <a:solidFill>
                  <a:srgbClr val="4f6228"/>
                </a:solidFill>
                <a:latin typeface="Perpetua Titling MT"/>
              </a:rPr>
              <a:t>Правильный пятиугольн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638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4f6228"/>
                </a:solidFill>
                <a:latin typeface="Calibri"/>
              </a:rPr>
              <a:t>2) </a:t>
            </a:r>
            <a:r>
              <a:rPr b="0" lang="ru-RU" sz="2400" spc="-1" strike="noStrike">
                <a:solidFill>
                  <a:srgbClr val="4f6228"/>
                </a:solidFill>
                <a:latin typeface="Perpetua Titling MT"/>
              </a:rPr>
              <a:t>Правильный шестиугольн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638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4f6228"/>
                </a:solidFill>
                <a:latin typeface="Calibri"/>
              </a:rPr>
              <a:t>3) </a:t>
            </a:r>
            <a:r>
              <a:rPr b="0" lang="ru-RU" sz="2400" spc="-1" strike="noStrike">
                <a:solidFill>
                  <a:srgbClr val="4f6228"/>
                </a:solidFill>
                <a:latin typeface="Perpetua Titling MT"/>
              </a:rPr>
              <a:t>Правильный десятиугольн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638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4f6228"/>
                </a:solidFill>
                <a:latin typeface="Calibri"/>
              </a:rPr>
              <a:t>4) </a:t>
            </a:r>
            <a:r>
              <a:rPr b="0" lang="ru-RU" sz="2400" spc="-1" strike="noStrike">
                <a:solidFill>
                  <a:srgbClr val="4f6228"/>
                </a:solidFill>
                <a:latin typeface="Perpetua Titling MT"/>
              </a:rPr>
              <a:t>Незамкнутая ломаная ли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638"/>
              </a:spcBef>
              <a:buClr>
                <a:srgbClr val="4f6228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638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6" name="Picture 3" descr=""/>
          <p:cNvPicPr/>
          <p:nvPr/>
        </p:nvPicPr>
        <p:blipFill>
          <a:blip r:embed="rId1"/>
          <a:stretch/>
        </p:blipFill>
        <p:spPr>
          <a:xfrm>
            <a:off x="6516720" y="5072040"/>
            <a:ext cx="2341440" cy="13255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6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6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00"/>
                                        <p:tgtEl>
                                          <p:spTgt spid="6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" dur="500"/>
                                        <p:tgtEl>
                                          <p:spTgt spid="6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6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64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64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6858000" cy="582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4617b"/>
                </a:solidFill>
                <a:latin typeface="Calibri"/>
              </a:rPr>
              <a:t>Сведения из геометрии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8" name="Text Box 2"/>
          <p:cNvSpPr/>
          <p:nvPr/>
        </p:nvSpPr>
        <p:spPr>
          <a:xfrm>
            <a:off x="457200" y="785880"/>
            <a:ext cx="8229600" cy="59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164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умма внутренних углов правильного многоугольника угольника вычисляется по формул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38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38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умма внешних углов многоугольника равна 360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38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38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38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AutoShape 3"/>
          <p:cNvSpPr/>
          <p:nvPr/>
        </p:nvSpPr>
        <p:spPr>
          <a:xfrm>
            <a:off x="6500880" y="2143080"/>
            <a:ext cx="1357200" cy="1214640"/>
          </a:xfrm>
          <a:prstGeom prst="hexagon">
            <a:avLst>
              <a:gd name="adj" fmla="val 27934"/>
              <a:gd name="vf" fmla="val 115470"/>
            </a:avLst>
          </a:prstGeom>
          <a:noFill/>
          <a:ln w="2556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0" name="Object 4"/>
              <p:cNvSpPr txBox="1"/>
              <p:nvPr/>
            </p:nvSpPr>
            <p:spPr>
              <a:xfrm>
                <a:off x="3286080" y="1857240"/>
                <a:ext cx="2428920" cy="127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180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651" name="Group 5"/>
          <p:cNvGrpSpPr/>
          <p:nvPr/>
        </p:nvGrpSpPr>
        <p:grpSpPr>
          <a:xfrm>
            <a:off x="4736880" y="4290480"/>
            <a:ext cx="2766960" cy="1899000"/>
            <a:chOff x="4736880" y="4290480"/>
            <a:chExt cx="2766960" cy="1899000"/>
          </a:xfrm>
        </p:grpSpPr>
        <p:sp>
          <p:nvSpPr>
            <p:cNvPr id="652" name="AutoShape 6"/>
            <p:cNvSpPr/>
            <p:nvPr/>
          </p:nvSpPr>
          <p:spPr>
            <a:xfrm>
              <a:off x="5599800" y="4777560"/>
              <a:ext cx="1447560" cy="924840"/>
            </a:xfrm>
            <a:prstGeom prst="hexagon">
              <a:avLst>
                <a:gd name="adj" fmla="val 39130"/>
                <a:gd name="vf" fmla="val 115470"/>
              </a:avLst>
            </a:prstGeom>
            <a:noFill/>
            <a:ln w="25560">
              <a:solidFill>
                <a:srgbClr val="3a5f8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Line 7"/>
            <p:cNvSpPr/>
            <p:nvPr/>
          </p:nvSpPr>
          <p:spPr>
            <a:xfrm flipV="1">
              <a:off x="5929560" y="4290480"/>
              <a:ext cx="266400" cy="5454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Line 8"/>
            <p:cNvSpPr/>
            <p:nvPr/>
          </p:nvSpPr>
          <p:spPr>
            <a:xfrm flipV="1">
              <a:off x="6844320" y="4775760"/>
              <a:ext cx="659520" cy="288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Line 9"/>
            <p:cNvSpPr/>
            <p:nvPr/>
          </p:nvSpPr>
          <p:spPr>
            <a:xfrm>
              <a:off x="7048800" y="5242320"/>
              <a:ext cx="451800" cy="5328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Line 10"/>
            <p:cNvSpPr/>
            <p:nvPr/>
          </p:nvSpPr>
          <p:spPr>
            <a:xfrm flipH="1">
              <a:off x="6449040" y="5646960"/>
              <a:ext cx="269640" cy="54252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Line 11"/>
            <p:cNvSpPr/>
            <p:nvPr/>
          </p:nvSpPr>
          <p:spPr>
            <a:xfrm flipH="1">
              <a:off x="4736880" y="5706000"/>
              <a:ext cx="1019160" cy="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Line 12"/>
            <p:cNvSpPr/>
            <p:nvPr/>
          </p:nvSpPr>
          <p:spPr>
            <a:xfrm flipH="1" flipV="1">
              <a:off x="5144400" y="4633200"/>
              <a:ext cx="455040" cy="60876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68360" y="718920"/>
            <a:ext cx="8229600" cy="415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4f6228"/>
                </a:solidFill>
                <a:latin typeface="Calibri"/>
              </a:rPr>
              <a:t>Повтори 10 [Направо 36 Вперед 20 Направо 36]</a:t>
            </a:r>
            <a:endParaRPr b="0" lang="en-US" sz="2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60" name="AutoShape 2"/>
          <p:cNvSpPr/>
          <p:nvPr/>
        </p:nvSpPr>
        <p:spPr>
          <a:xfrm>
            <a:off x="2571840" y="1643040"/>
            <a:ext cx="3857400" cy="3714840"/>
          </a:xfrm>
          <a:prstGeom prst="pentagon">
            <a:avLst/>
          </a:prstGeom>
          <a:noFill/>
          <a:ln w="2556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Line 3"/>
          <p:cNvSpPr/>
          <p:nvPr/>
        </p:nvSpPr>
        <p:spPr>
          <a:xfrm flipV="1">
            <a:off x="2643120" y="2070000"/>
            <a:ext cx="1800" cy="9223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Rectangle 4"/>
          <p:cNvSpPr/>
          <p:nvPr/>
        </p:nvSpPr>
        <p:spPr>
          <a:xfrm>
            <a:off x="2571840" y="2428920"/>
            <a:ext cx="41220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Line 5"/>
          <p:cNvSpPr/>
          <p:nvPr/>
        </p:nvSpPr>
        <p:spPr>
          <a:xfrm flipV="1">
            <a:off x="4500720" y="926640"/>
            <a:ext cx="928440" cy="7174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Rectangle 6"/>
          <p:cNvSpPr/>
          <p:nvPr/>
        </p:nvSpPr>
        <p:spPr>
          <a:xfrm>
            <a:off x="4714920" y="1285920"/>
            <a:ext cx="42876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7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Line 7"/>
          <p:cNvSpPr/>
          <p:nvPr/>
        </p:nvSpPr>
        <p:spPr>
          <a:xfrm>
            <a:off x="6429240" y="3062160"/>
            <a:ext cx="1214640" cy="7956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Rectangle 8"/>
          <p:cNvSpPr/>
          <p:nvPr/>
        </p:nvSpPr>
        <p:spPr>
          <a:xfrm>
            <a:off x="6357960" y="3357720"/>
            <a:ext cx="50004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7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Line 9"/>
          <p:cNvSpPr/>
          <p:nvPr/>
        </p:nvSpPr>
        <p:spPr>
          <a:xfrm flipH="1">
            <a:off x="5356080" y="5357880"/>
            <a:ext cx="338400" cy="11430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Rectangle 10"/>
          <p:cNvSpPr/>
          <p:nvPr/>
        </p:nvSpPr>
        <p:spPr>
          <a:xfrm>
            <a:off x="5000760" y="5572080"/>
            <a:ext cx="42840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7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Line 11"/>
          <p:cNvSpPr/>
          <p:nvPr/>
        </p:nvSpPr>
        <p:spPr>
          <a:xfrm flipH="1">
            <a:off x="1855440" y="5357880"/>
            <a:ext cx="145404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Rectangle 12"/>
          <p:cNvSpPr/>
          <p:nvPr/>
        </p:nvSpPr>
        <p:spPr>
          <a:xfrm>
            <a:off x="2571840" y="4786200"/>
            <a:ext cx="50004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7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AutoShape 13"/>
          <p:cNvSpPr/>
          <p:nvPr/>
        </p:nvSpPr>
        <p:spPr>
          <a:xfrm>
            <a:off x="2500200" y="2857680"/>
            <a:ext cx="142920" cy="285480"/>
          </a:xfrm>
          <a:prstGeom prst="smileyFace">
            <a:avLst>
              <a:gd name="adj" fmla="val 9282"/>
            </a:avLst>
          </a:prstGeom>
          <a:solidFill>
            <a:srgbClr val="4f81bd"/>
          </a:solidFill>
          <a:ln w="25560">
            <a:solidFill>
              <a:srgbClr val="3a5f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Line 14"/>
          <p:cNvSpPr/>
          <p:nvPr/>
        </p:nvSpPr>
        <p:spPr>
          <a:xfrm flipH="1" flipV="1">
            <a:off x="2069640" y="1498320"/>
            <a:ext cx="574920" cy="17175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68360" y="7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4617b"/>
                </a:solidFill>
                <a:latin typeface="Calibri"/>
              </a:rPr>
              <a:t>Решение: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4" name="Object 2"/>
              <p:cNvSpPr txBox="1"/>
              <p:nvPr/>
            </p:nvSpPr>
            <p:spPr>
              <a:xfrm>
                <a:off x="1643040" y="1928880"/>
                <a:ext cx="2560680" cy="9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180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8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75" name="Rectangle 3"/>
          <p:cNvSpPr/>
          <p:nvPr/>
        </p:nvSpPr>
        <p:spPr>
          <a:xfrm>
            <a:off x="1000080" y="1214280"/>
            <a:ext cx="6500880" cy="48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457200" indent="-455760">
              <a:lnSpc>
                <a:spcPct val="100000"/>
              </a:lnSpc>
              <a:buClr>
                <a:srgbClr val="000000"/>
              </a:buClr>
              <a:buFont typeface="Calibri"/>
              <a:buAutoNum type="arabicParenR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80-362=1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576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576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576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576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576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тсюд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576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80n-360=108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576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80n-108n=36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576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72n=36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576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n=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576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лучится правильный 5-тиугольн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576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твет: 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576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33080" y="620280"/>
            <a:ext cx="803124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4617b"/>
                </a:solidFill>
                <a:latin typeface="Calibri"/>
              </a:rPr>
              <a:t>Решение задания №6</a:t>
            </a:r>
            <a:br>
              <a:rPr sz="3600"/>
            </a:br>
            <a:r>
              <a:rPr b="1" lang="ru-RU" sz="2500" spc="-1" strike="noStrike">
                <a:solidFill>
                  <a:srgbClr val="4f6228"/>
                </a:solidFill>
                <a:latin typeface="Calibri"/>
              </a:rPr>
              <a:t>Повтори 10 [Направо 36 Вперед 20 Направо 36]</a:t>
            </a:r>
            <a:br>
              <a:rPr sz="1900"/>
            </a:br>
            <a:endParaRPr b="0" lang="en-US" sz="2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7" name="Text Box 2"/>
          <p:cNvSpPr/>
          <p:nvPr/>
        </p:nvSpPr>
        <p:spPr>
          <a:xfrm>
            <a:off x="333360" y="1197000"/>
            <a:ext cx="822960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1640">
              <a:lnSpc>
                <a:spcPct val="90000"/>
              </a:lnSpc>
              <a:spcBef>
                <a:spcPts val="638"/>
              </a:spcBef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Черепашка поворачивает направо, т.е. по часовой стрелке, всякий раз на 72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0000"/>
              </a:lnSpc>
              <a:spcBef>
                <a:spcPts val="638"/>
              </a:spcBef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Черепашка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очертит на экране 5 отрезков, но шестой отрезок полностью совпадет с первым, так как после пятого выполнения цикла 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Черепашка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лностью обернется вокруг своей оси (72x5 = 360°) и окажется в той же точке, что и изначально. Так что на экране появится правильный пятиугольни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AutoShape 3"/>
          <p:cNvSpPr/>
          <p:nvPr/>
        </p:nvSpPr>
        <p:spPr>
          <a:xfrm>
            <a:off x="4140360" y="4508640"/>
            <a:ext cx="1800000" cy="1873080"/>
          </a:xfrm>
          <a:prstGeom prst="pentagon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Line 4"/>
          <p:cNvSpPr/>
          <p:nvPr/>
        </p:nvSpPr>
        <p:spPr>
          <a:xfrm flipV="1">
            <a:off x="5076720" y="4219200"/>
            <a:ext cx="503280" cy="290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Line 5"/>
          <p:cNvSpPr/>
          <p:nvPr/>
        </p:nvSpPr>
        <p:spPr>
          <a:xfrm>
            <a:off x="5940360" y="5229360"/>
            <a:ext cx="64764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Line 6"/>
          <p:cNvSpPr/>
          <p:nvPr/>
        </p:nvSpPr>
        <p:spPr>
          <a:xfrm flipH="1">
            <a:off x="5290920" y="6381720"/>
            <a:ext cx="29052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Line 7"/>
          <p:cNvSpPr/>
          <p:nvPr/>
        </p:nvSpPr>
        <p:spPr>
          <a:xfrm flipH="1">
            <a:off x="3777840" y="6381720"/>
            <a:ext cx="7952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Line 8"/>
          <p:cNvSpPr/>
          <p:nvPr/>
        </p:nvSpPr>
        <p:spPr>
          <a:xfrm flipH="1" flipV="1">
            <a:off x="3849480" y="4579920"/>
            <a:ext cx="291960" cy="65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78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4617b"/>
                </a:solidFill>
                <a:latin typeface="Calibri"/>
              </a:rPr>
              <a:t>Пример 2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85" name="Text Box 2"/>
          <p:cNvSpPr/>
          <p:nvPr/>
        </p:nvSpPr>
        <p:spPr>
          <a:xfrm>
            <a:off x="457200" y="1214280"/>
            <a:ext cx="8229600" cy="55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638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ерепашке был дан для исполнения следующий алгорит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38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овтори 15 [Вперед 10 Направо 30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38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кая фигура появится на экран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38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)Незамкнутая ломаная ли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38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)Правильный треугольн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38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)Квадра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38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4)Правильный 12-угольн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38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твет: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6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4617b"/>
                </a:solidFill>
                <a:latin typeface="Calibri"/>
              </a:rPr>
              <a:t>Пример 3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87" name="Text Box 2"/>
          <p:cNvSpPr/>
          <p:nvPr/>
        </p:nvSpPr>
        <p:spPr>
          <a:xfrm>
            <a:off x="457200" y="1214280"/>
            <a:ext cx="8229600" cy="55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638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ерепашке был дан для исполнения следующий алгорит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38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овтори 5 [Вперед 10 Направо 30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38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кая фигура появится на экран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38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)Незамкнутая ломаная ли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38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)Правильный треугольн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38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)Квадра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38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4)Правильный 12-угольн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38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Ответ: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00"/>
                                        <p:tgtEl>
                                          <p:spTgt spid="6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500040" y="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4617b"/>
                </a:solidFill>
                <a:latin typeface="Calibri"/>
              </a:rPr>
              <a:t>Пример 4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89" name="Text Box 2"/>
          <p:cNvSpPr/>
          <p:nvPr/>
        </p:nvSpPr>
        <p:spPr>
          <a:xfrm>
            <a:off x="457200" y="642960"/>
            <a:ext cx="8400960" cy="650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1640">
              <a:lnSpc>
                <a:spcPct val="80000"/>
              </a:lnSpc>
              <a:spcBef>
                <a:spcPts val="638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акое число необходимо записать вместо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n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следующем алгоритме: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овтори 6 [Вперед 40 Направо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чтобы на экране появился правильный пятиугольни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638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Решен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638"/>
              </a:spcBef>
              <a:buClr>
                <a:srgbClr val="4f6228"/>
              </a:buClr>
              <a:buFont typeface="Wingdings" charset="2"/>
              <a:buChar char="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умма внутренних углов правильного пятиугольника вычисляется по формуле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(n-2)180/n, где n =5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638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этому величина одного внутреннего угла будет рав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638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(5 - 2) 180/5 = 108°.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 угол поворота Черепашки в вершине пятиугольника будет равен углу, смежному с внутренним углом, т.е. 180-108=72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638"/>
              </a:spcBef>
              <a:buClr>
                <a:srgbClr val="4f6228"/>
              </a:buClr>
              <a:buFont typeface="Wingdings" charset="2"/>
              <a:buChar char="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Черепашка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очертит на экране 6 отрезков, но последний отрезок полностью совпадет с первым, так как после пятого выполнения цикла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Черепашка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лностью обернется вокруг своей оси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(725 = 360°)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 окажется в той же точке, что и изначально. Так что на экране появится правильный пятиугольни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38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Ответ: 7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638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638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6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500"/>
                                        <p:tgtEl>
                                          <p:spTgt spid="6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6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500"/>
                                        <p:tgtEl>
                                          <p:spTgt spid="6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Танечка</dc:creator>
  <dc:description/>
  <dc:language>en-US</dc:language>
  <cp:lastModifiedBy>Татьяна Шибалева</cp:lastModifiedBy>
  <dcterms:modified xsi:type="dcterms:W3CDTF">2017-12-28T20:14:31Z</dcterms:modified>
  <cp:revision>4</cp:revision>
  <dc:subject/>
  <dc:title>Подготовка к ГИА 9 класс задания 8 и 16</dc:title>
</cp:coreProperties>
</file>