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jpeg" ContentType="image/jpeg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C3ED-7675-41C3-B485-5DFC8C49F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6EC0-8CDE-4417-83F0-B2B98D1A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34DD-A32E-4437-B24F-5478D7CFC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7492-6E31-4216-ACAA-EFA28EE65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4BF9-51B0-4FB6-BA09-221AD4251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981D-3E27-4D3F-87A0-A5AF84DD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F1A0-4901-4905-9039-F07A067B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6E56-C5C3-4712-AAD4-1EF1F998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54EF4-8C32-4CC0-B762-085ECFA0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7147C-3FD1-46B4-AC6C-E5FA0F3C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1950C-0539-4F83-B3A5-A15EDFBD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8806-BCFA-4337-A7C2-740FB1E5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3ACD-D210-4920-915F-A91BECA2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478BE-CB57-4B33-8802-908098E6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23BF-8F6A-466D-A474-AC4F9AC8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3B3D-8502-4F65-805C-91D07ACA0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056F0-A976-4B76-BB1C-A6AA19D99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3C1A-77AC-416C-A5BC-56C1F697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C97D-0929-400B-98F7-F360A19E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F165-CFE9-4106-B621-D6F24112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1F97-25E0-4048-B5C2-957B673F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9B1B-9506-4D49-B9BD-F4ED6874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CAB9-09EE-4D06-9B77-024C0841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6AE3-EEE4-49FF-B215-04EC8BD9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5742-53BB-4A6F-9B80-D03BC99A964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974D-3612-4AE9-AB92-63F732D2B4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Исследование уровня 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школьной мотиваци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13"/>
          <p:cNvPicPr/>
          <p:nvPr/>
        </p:nvPicPr>
        <p:blipFill>
          <a:blip r:embed="rId1"/>
          <a:stretch/>
        </p:blipFill>
        <p:spPr>
          <a:xfrm>
            <a:off x="1332000" y="2565360"/>
            <a:ext cx="2000160" cy="282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d6ea83844336c866d76cd6826b37b4bb"/>
          <p:cNvPicPr/>
          <p:nvPr/>
        </p:nvPicPr>
        <p:blipFill>
          <a:blip r:embed="rId2"/>
          <a:stretch/>
        </p:blipFill>
        <p:spPr>
          <a:xfrm>
            <a:off x="7093080" y="4076640"/>
            <a:ext cx="1785960" cy="21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1sen"/>
          <p:cNvPicPr/>
          <p:nvPr/>
        </p:nvPicPr>
        <p:blipFill>
          <a:blip r:embed="rId1"/>
          <a:stretch/>
        </p:blipFill>
        <p:spPr>
          <a:xfrm>
            <a:off x="1619280" y="333360"/>
            <a:ext cx="2143080" cy="10717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05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Verdana"/>
              </a:rPr>
              <a:t>9.    У тебя много друзе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Verdana"/>
              </a:rPr>
              <a:t>          </a:t>
            </a:r>
            <a:r>
              <a:rPr b="1" i="1" lang="ru-RU" sz="3200" spc="-1" strike="noStrike">
                <a:solidFill>
                  <a:srgbClr val="006666"/>
                </a:solidFill>
                <a:latin typeface="Verdana"/>
              </a:rPr>
              <a:t>в твоем классе?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Verdana"/>
              </a:rPr>
              <a:t>А</a:t>
            </a:r>
            <a:r>
              <a:rPr b="0" i="1" lang="ru-RU" sz="25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ал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Verdana"/>
              </a:rPr>
              <a:t>Б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ног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Verdana"/>
              </a:rPr>
              <a:t>В</a:t>
            </a: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т друзе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5" descr="c01eff3bfb733180fd4e039cb7d1fddb"/>
          <p:cNvPicPr/>
          <p:nvPr/>
        </p:nvPicPr>
        <p:blipFill>
          <a:blip r:embed="rId2"/>
          <a:stretch/>
        </p:blipFill>
        <p:spPr>
          <a:xfrm>
            <a:off x="7308720" y="549360"/>
            <a:ext cx="64296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1sen"/>
          <p:cNvPicPr/>
          <p:nvPr/>
        </p:nvPicPr>
        <p:blipFill>
          <a:blip r:embed="rId1"/>
          <a:stretch/>
        </p:blipFill>
        <p:spPr>
          <a:xfrm>
            <a:off x="1619280" y="260280"/>
            <a:ext cx="2143080" cy="10717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05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Verdana"/>
              </a:rPr>
              <a:t>10.    Тебе нравится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Verdana"/>
              </a:rPr>
              <a:t>                     </a:t>
            </a:r>
            <a:r>
              <a:rPr b="1" i="1" lang="ru-RU" sz="3200" spc="-1" strike="noStrike">
                <a:solidFill>
                  <a:srgbClr val="006666"/>
                </a:solidFill>
                <a:latin typeface="Verdana"/>
              </a:rPr>
              <a:t>твой класс?</a:t>
            </a: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Verdana"/>
              </a:rPr>
              <a:t>А</a:t>
            </a:r>
            <a:r>
              <a:rPr b="0" i="1" lang="ru-RU" sz="25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рави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Verdana"/>
              </a:rPr>
              <a:t>Б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очен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Verdana"/>
              </a:rPr>
              <a:t>В</a:t>
            </a: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нрави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5" descr="c01eff3bfb733180fd4e039cb7d1fddb"/>
          <p:cNvPicPr/>
          <p:nvPr/>
        </p:nvPicPr>
        <p:blipFill>
          <a:blip r:embed="rId2"/>
          <a:stretch/>
        </p:blipFill>
        <p:spPr>
          <a:xfrm>
            <a:off x="7093080" y="476280"/>
            <a:ext cx="64296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Анализ анкетирования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Picture 4" descr="fd4c42b529b0"/>
          <p:cNvPicPr/>
          <p:nvPr/>
        </p:nvPicPr>
        <p:blipFill>
          <a:blip r:embed="rId1"/>
          <a:stretch/>
        </p:blipFill>
        <p:spPr>
          <a:xfrm>
            <a:off x="5508720" y="2276640"/>
            <a:ext cx="1828800" cy="2828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c01eff3bfb733180fd4e039cb7d1fddb"/>
          <p:cNvPicPr/>
          <p:nvPr/>
        </p:nvPicPr>
        <p:blipFill>
          <a:blip r:embed="rId2"/>
          <a:stretch/>
        </p:blipFill>
        <p:spPr>
          <a:xfrm>
            <a:off x="3132000" y="3357720"/>
            <a:ext cx="6429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Ключ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187280" y="1916280"/>
          <a:ext cx="7496280" cy="4690800"/>
        </p:xfrm>
        <a:graphic>
          <a:graphicData uri="http://schemas.openxmlformats.org/drawingml/2006/table">
            <a:tbl>
              <a:tblPr/>
              <a:tblGrid>
                <a:gridCol w="1876680"/>
                <a:gridCol w="1874880"/>
                <a:gridCol w="1868400"/>
                <a:gridCol w="187632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вопро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Оцен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за 1 отв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Оцен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за 2 отв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cc"/>
                          </a:solidFill>
                          <a:latin typeface="Times New Roman"/>
                          <a:ea typeface="Times New Roman"/>
                        </a:rPr>
                        <a:t>Оцен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cc"/>
                          </a:solidFill>
                          <a:latin typeface="Times New Roman"/>
                          <a:ea typeface="Times New Roman"/>
                        </a:rPr>
                        <a:t>за 3 отв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0" name="Picture 292" descr="c01eff3bfb733180fd4e039cb7d1fddb"/>
          <p:cNvPicPr/>
          <p:nvPr/>
        </p:nvPicPr>
        <p:blipFill>
          <a:blip r:embed="rId1"/>
          <a:stretch/>
        </p:blipFill>
        <p:spPr>
          <a:xfrm>
            <a:off x="8028000" y="620640"/>
            <a:ext cx="642960" cy="857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95" descr="fd4c42b529b0"/>
          <p:cNvPicPr/>
          <p:nvPr/>
        </p:nvPicPr>
        <p:blipFill>
          <a:blip r:embed="rId2"/>
          <a:stretch/>
        </p:blipFill>
        <p:spPr>
          <a:xfrm>
            <a:off x="1116000" y="0"/>
            <a:ext cx="1219320" cy="18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25 - 30 баллов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5280" y="2133360"/>
            <a:ext cx="806436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ff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ff"/>
                </a:solidFill>
                <a:latin typeface="Verdana"/>
              </a:rPr>
              <a:t>Высокий уровень школьной мотивации, познавательной активности.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Учащиеся отличаются высоким уровнем познавательных мотивов, обладают стрем-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лением успешно выполнять все предъявля-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емые требования. Такие ученики четко сле-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дуют всем указаниям учителя, добросовест-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ы и ответственны, очень переживают, если получают неудовлетворительные отметки или замечания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4" descr="fd4c42b529b0"/>
          <p:cNvPicPr/>
          <p:nvPr/>
        </p:nvPicPr>
        <p:blipFill>
          <a:blip r:embed="rId1"/>
          <a:stretch/>
        </p:blipFill>
        <p:spPr>
          <a:xfrm>
            <a:off x="7667640" y="260280"/>
            <a:ext cx="1219320" cy="18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20 </a:t>
            </a: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24 балл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31640" y="2276640"/>
            <a:ext cx="7305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ff"/>
                </a:solidFill>
                <a:latin typeface="Verdana"/>
              </a:rPr>
              <a:t>Хорошая школьная мотивация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Такой мотивацией обладает большинство учащихся начальных классов, успешно справляющихся с учебной деятельностью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4" descr="fd4c42b529b0"/>
          <p:cNvPicPr/>
          <p:nvPr/>
        </p:nvPicPr>
        <p:blipFill>
          <a:blip r:embed="rId1"/>
          <a:stretch/>
        </p:blipFill>
        <p:spPr>
          <a:xfrm>
            <a:off x="7380360" y="260280"/>
            <a:ext cx="121896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fd4c42b529b0"/>
          <p:cNvPicPr/>
          <p:nvPr/>
        </p:nvPicPr>
        <p:blipFill>
          <a:blip r:embed="rId1"/>
          <a:stretch/>
        </p:blipFill>
        <p:spPr>
          <a:xfrm>
            <a:off x="7524720" y="404640"/>
            <a:ext cx="1219320" cy="18860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19-11 баллов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31640" y="1989000"/>
            <a:ext cx="72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ff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ff"/>
                </a:solidFill>
                <a:latin typeface="Verdana"/>
              </a:rPr>
              <a:t>Положительное отношение к школе, которая интересна учащимся внеучебной деятельностью.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Это учащиеся, которым в школе интересно общаться со сверстниками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 педагогом. Познавательные интересы у них развиты мало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10 - 14 баллов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58560" y="2133720"/>
            <a:ext cx="72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ff"/>
                </a:solidFill>
                <a:latin typeface="Verdana"/>
              </a:rPr>
              <a:t>Низкая школьная мотивация.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Учащиеся ходят в школу без желания, иногда пропускают занятия. Такие учащиеся испытывают серьезные затруднения в учебной деятельности, им трудно адаптироваться к школьному обучению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8" descr="fd4c42b529b0"/>
          <p:cNvPicPr/>
          <p:nvPr/>
        </p:nvPicPr>
        <p:blipFill>
          <a:blip r:embed="rId1"/>
          <a:stretch/>
        </p:blipFill>
        <p:spPr>
          <a:xfrm>
            <a:off x="7596360" y="260280"/>
            <a:ext cx="121896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fd4c42b529b0"/>
          <p:cNvPicPr/>
          <p:nvPr/>
        </p:nvPicPr>
        <p:blipFill>
          <a:blip r:embed="rId1"/>
          <a:stretch/>
        </p:blipFill>
        <p:spPr>
          <a:xfrm>
            <a:off x="7524720" y="189000"/>
            <a:ext cx="1219320" cy="18860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Ниже </a:t>
            </a: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10 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баллов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71280" y="1827360"/>
            <a:ext cx="784836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Verdana"/>
              </a:rPr>
              <a:t>Негативное отношение к школе, школьная дезадаптац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акие учащиеся испытывают серьезные трудности в школе: они не справляются с учебной деятельностью, испытывают проблемы в общении с одноклассниками, во взаимоотношениях с учителем. Школа воспринимается ими как враждебная среда. Ино­гда дети проявляют агрессивные реакции, отказываются идти на контакт, выполнять задания учител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Такое исследование необходимо проводить именно в четвертом классе, когда учащиеся готовятся к переходу на среднюю ступень обучения. Исследования мотивации дает возможность подготовить психолого-педагогический консилиум в классе и выработать рекомендации по изменению мо­тивации учащихся на среднем этапе обучения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05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Verdana"/>
              </a:rPr>
              <a:t>1.       Тебе нравится в школе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Verdana"/>
              </a:rPr>
              <a:t>                    </a:t>
            </a:r>
            <a:r>
              <a:rPr b="1" i="1" lang="ru-RU" sz="3200" spc="-1" strike="noStrike">
                <a:solidFill>
                  <a:srgbClr val="006666"/>
                </a:solidFill>
                <a:latin typeface="Verdana"/>
              </a:rPr>
              <a:t>или не очень?</a:t>
            </a:r>
            <a:r>
              <a:rPr b="0" lang="ru-RU" sz="3200" spc="-1" strike="noStrike">
                <a:solidFill>
                  <a:srgbClr val="0066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Verdana"/>
              </a:rPr>
              <a:t>А</a:t>
            </a: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очен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Verdana"/>
              </a:rPr>
              <a:t>Б</a:t>
            </a: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- нрави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Verdana"/>
              </a:rPr>
              <a:t>В</a:t>
            </a: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- не нрави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4" descr="1sen"/>
          <p:cNvPicPr/>
          <p:nvPr/>
        </p:nvPicPr>
        <p:blipFill>
          <a:blip r:embed="rId1"/>
          <a:stretch/>
        </p:blipFill>
        <p:spPr>
          <a:xfrm>
            <a:off x="1619280" y="333360"/>
            <a:ext cx="2143080" cy="1071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c01eff3bfb733180fd4e039cb7d1fddb"/>
          <p:cNvPicPr/>
          <p:nvPr/>
        </p:nvPicPr>
        <p:blipFill>
          <a:blip r:embed="rId2"/>
          <a:stretch/>
        </p:blipFill>
        <p:spPr>
          <a:xfrm>
            <a:off x="7596360" y="476280"/>
            <a:ext cx="64260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52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Verdana"/>
              </a:rPr>
              <a:t>2.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006666"/>
                </a:solidFill>
                <a:latin typeface="Verdana"/>
              </a:rPr>
              <a:t>Утром, когда ты просыпаешься, ты всегда с радостью идешь в школу или тебе часто хочется остаться дома?</a:t>
            </a: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Verdana"/>
              </a:rPr>
              <a:t>А</a:t>
            </a: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5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аще хочется остаться дом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Verdana"/>
              </a:rPr>
              <a:t>Б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ывает по-разном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Verdana"/>
              </a:rPr>
              <a:t>В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ду с радость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4" descr="1sen"/>
          <p:cNvPicPr/>
          <p:nvPr/>
        </p:nvPicPr>
        <p:blipFill>
          <a:blip r:embed="rId1"/>
          <a:stretch/>
        </p:blipFill>
        <p:spPr>
          <a:xfrm>
            <a:off x="1692360" y="333360"/>
            <a:ext cx="2143080" cy="1071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c01eff3bfb733180fd4e039cb7d1fddb"/>
          <p:cNvPicPr/>
          <p:nvPr/>
        </p:nvPicPr>
        <p:blipFill>
          <a:blip r:embed="rId2"/>
          <a:stretch/>
        </p:blipFill>
        <p:spPr>
          <a:xfrm>
            <a:off x="7451640" y="549360"/>
            <a:ext cx="64296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8" descr="1sen"/>
          <p:cNvPicPr/>
          <p:nvPr/>
        </p:nvPicPr>
        <p:blipFill>
          <a:blip r:embed="rId1"/>
          <a:stretch/>
        </p:blipFill>
        <p:spPr>
          <a:xfrm>
            <a:off x="1619280" y="189000"/>
            <a:ext cx="2143080" cy="12049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971280" y="1700280"/>
            <a:ext cx="773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100" spc="-1" strike="noStrike">
                <a:solidFill>
                  <a:srgbClr val="006666"/>
                </a:solidFill>
                <a:latin typeface="Verdana"/>
              </a:rPr>
              <a:t>3.   </a:t>
            </a:r>
            <a:r>
              <a:rPr b="1" i="1" lang="ru-RU" sz="2400" spc="-1" strike="noStrike">
                <a:solidFill>
                  <a:srgbClr val="006666"/>
                </a:solidFill>
                <a:latin typeface="Verdana"/>
              </a:rPr>
              <a:t>Если бы учитель сказал, что завтра в школу не обязательно приходить всем ученикам, желающим можно остаться дома, ты по­шел бы в школу или остался бы дома?</a:t>
            </a: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Verdana"/>
              </a:rPr>
              <a:t>А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зна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Verdana"/>
              </a:rPr>
              <a:t>Б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стался бы дом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Verdana"/>
              </a:rPr>
              <a:t>В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шел бы в школ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12" descr="c01eff3bfb733180fd4e039cb7d1fddb"/>
          <p:cNvPicPr/>
          <p:nvPr/>
        </p:nvPicPr>
        <p:blipFill>
          <a:blip r:embed="rId2"/>
          <a:stretch/>
        </p:blipFill>
        <p:spPr>
          <a:xfrm>
            <a:off x="7308720" y="333360"/>
            <a:ext cx="64296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370160" y="1827360"/>
            <a:ext cx="7378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Verdana"/>
              </a:rPr>
              <a:t>4. . Тебе нравится, когда у вас отменяются какие-нибудь уроки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Verdana"/>
              </a:rPr>
              <a:t>А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5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нрави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Verdana"/>
              </a:rPr>
              <a:t>Б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ывает по-разном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Verdana"/>
              </a:rPr>
              <a:t>В</a:t>
            </a: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рави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10" descr="1sen"/>
          <p:cNvPicPr/>
          <p:nvPr/>
        </p:nvPicPr>
        <p:blipFill>
          <a:blip r:embed="rId1"/>
          <a:stretch/>
        </p:blipFill>
        <p:spPr>
          <a:xfrm>
            <a:off x="1547640" y="260280"/>
            <a:ext cx="2143440" cy="1204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c01eff3bfb733180fd4e039cb7d1fddb"/>
          <p:cNvPicPr/>
          <p:nvPr/>
        </p:nvPicPr>
        <p:blipFill>
          <a:blip r:embed="rId2"/>
          <a:stretch/>
        </p:blipFill>
        <p:spPr>
          <a:xfrm>
            <a:off x="7308720" y="476280"/>
            <a:ext cx="64296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1sen"/>
          <p:cNvPicPr/>
          <p:nvPr/>
        </p:nvPicPr>
        <p:blipFill>
          <a:blip r:embed="rId1"/>
          <a:stretch/>
        </p:blipFill>
        <p:spPr>
          <a:xfrm>
            <a:off x="1547640" y="333360"/>
            <a:ext cx="2143440" cy="10717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05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Verdana"/>
              </a:rPr>
              <a:t>5. Ты хотел бы, чтобы тебе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Verdana"/>
              </a:rPr>
              <a:t>не задавали домашних заданий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Verdana"/>
              </a:rPr>
              <a:t>А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хотел б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Verdana"/>
              </a:rPr>
              <a:t>Б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хотел б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Verdana"/>
              </a:rPr>
              <a:t>В</a:t>
            </a: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зна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6" descr="c01eff3bfb733180fd4e039cb7d1fddb"/>
          <p:cNvPicPr/>
          <p:nvPr/>
        </p:nvPicPr>
        <p:blipFill>
          <a:blip r:embed="rId2"/>
          <a:stretch/>
        </p:blipFill>
        <p:spPr>
          <a:xfrm>
            <a:off x="7524720" y="549360"/>
            <a:ext cx="64296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1sen"/>
          <p:cNvPicPr/>
          <p:nvPr/>
        </p:nvPicPr>
        <p:blipFill>
          <a:blip r:embed="rId1"/>
          <a:stretch/>
        </p:blipFill>
        <p:spPr>
          <a:xfrm>
            <a:off x="1476360" y="333360"/>
            <a:ext cx="2143080" cy="10717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2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71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Verdana"/>
              </a:rPr>
              <a:t>6.     Ты хотел бы, чтобы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71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Verdana"/>
              </a:rPr>
              <a:t>      </a:t>
            </a:r>
            <a:r>
              <a:rPr b="1" i="1" lang="ru-RU" sz="3200" spc="-1" strike="noStrike">
                <a:solidFill>
                  <a:srgbClr val="006666"/>
                </a:solidFill>
                <a:latin typeface="Verdana"/>
              </a:rPr>
              <a:t>в школе   осталис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71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Verdana"/>
              </a:rPr>
              <a:t>        </a:t>
            </a:r>
            <a:r>
              <a:rPr b="1" i="1" lang="ru-RU" sz="3200" spc="-1" strike="noStrike">
                <a:solidFill>
                  <a:srgbClr val="006666"/>
                </a:solidFill>
                <a:latin typeface="Verdana"/>
              </a:rPr>
              <a:t>одни перемены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71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71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Verdana"/>
              </a:rPr>
              <a:t>А</a:t>
            </a:r>
            <a:r>
              <a:rPr b="0" i="1" lang="ru-RU" sz="25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зна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71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Verdana"/>
              </a:rPr>
              <a:t>Б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хотел б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71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Verdana"/>
              </a:rPr>
              <a:t>В</a:t>
            </a: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хотел б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5" descr="c01eff3bfb733180fd4e039cb7d1fddb"/>
          <p:cNvPicPr/>
          <p:nvPr/>
        </p:nvPicPr>
        <p:blipFill>
          <a:blip r:embed="rId2"/>
          <a:stretch/>
        </p:blipFill>
        <p:spPr>
          <a:xfrm>
            <a:off x="7524720" y="476280"/>
            <a:ext cx="64296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1sen"/>
          <p:cNvPicPr/>
          <p:nvPr/>
        </p:nvPicPr>
        <p:blipFill>
          <a:blip r:embed="rId1"/>
          <a:stretch/>
        </p:blipFill>
        <p:spPr>
          <a:xfrm>
            <a:off x="1547640" y="333360"/>
            <a:ext cx="2143440" cy="10717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05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Verdana"/>
              </a:rPr>
              <a:t>7.   Ты часто рассказываеш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Verdana"/>
              </a:rPr>
              <a:t>           </a:t>
            </a:r>
            <a:r>
              <a:rPr b="1" i="1" lang="ru-RU" sz="3200" spc="-1" strike="noStrike">
                <a:solidFill>
                  <a:srgbClr val="006666"/>
                </a:solidFill>
                <a:latin typeface="Verdana"/>
              </a:rPr>
              <a:t>о школьной жизн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Verdana"/>
              </a:rPr>
              <a:t>            </a:t>
            </a:r>
            <a:r>
              <a:rPr b="1" i="1" lang="ru-RU" sz="3200" spc="-1" strike="noStrike">
                <a:solidFill>
                  <a:srgbClr val="006666"/>
                </a:solidFill>
                <a:latin typeface="Verdana"/>
              </a:rPr>
              <a:t>своим родителям?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Verdana"/>
              </a:rPr>
              <a:t>А</a:t>
            </a:r>
            <a:r>
              <a:rPr b="0" i="1" lang="ru-RU" sz="25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аст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Verdana"/>
              </a:rPr>
              <a:t>Б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дк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Verdana"/>
              </a:rPr>
              <a:t>В</a:t>
            </a: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рассказыва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5" descr="c01eff3bfb733180fd4e039cb7d1fddb"/>
          <p:cNvPicPr/>
          <p:nvPr/>
        </p:nvPicPr>
        <p:blipFill>
          <a:blip r:embed="rId2"/>
          <a:stretch/>
        </p:blipFill>
        <p:spPr>
          <a:xfrm>
            <a:off x="7236000" y="404640"/>
            <a:ext cx="642600" cy="8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1sen"/>
          <p:cNvPicPr/>
          <p:nvPr/>
        </p:nvPicPr>
        <p:blipFill>
          <a:blip r:embed="rId1"/>
          <a:stretch/>
        </p:blipFill>
        <p:spPr>
          <a:xfrm>
            <a:off x="1476360" y="333360"/>
            <a:ext cx="2143080" cy="1071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2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Verdana"/>
              </a:rPr>
              <a:t>8.    Ты хотел бы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Verdana"/>
              </a:rPr>
              <a:t>             </a:t>
            </a:r>
            <a:r>
              <a:rPr b="1" i="1" lang="ru-RU" sz="3200" spc="-1" strike="noStrike">
                <a:solidFill>
                  <a:srgbClr val="006666"/>
                </a:solidFill>
                <a:latin typeface="Verdana"/>
              </a:rPr>
              <a:t>чтобы у тебя бы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Verdana"/>
              </a:rPr>
              <a:t>                   </a:t>
            </a:r>
            <a:r>
              <a:rPr b="1" i="1" lang="ru-RU" sz="3200" spc="-1" strike="noStrike">
                <a:solidFill>
                  <a:srgbClr val="006666"/>
                </a:solidFill>
                <a:latin typeface="Verdana"/>
              </a:rPr>
              <a:t>другой учитель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Verdana"/>
              </a:rPr>
              <a:t>А</a:t>
            </a:r>
            <a:r>
              <a:rPr b="1" i="1" lang="ru-RU" sz="25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чно не зна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Verdana"/>
              </a:rPr>
              <a:t>Б</a:t>
            </a:r>
            <a:r>
              <a:rPr b="1" i="1" lang="ru-RU" sz="25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хотел бы</a:t>
            </a:r>
            <a:r>
              <a:rPr b="1" i="1" lang="ru-RU" sz="25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Verdana"/>
              </a:rPr>
              <a:t>В</a:t>
            </a: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5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хотел б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5" descr="c01eff3bfb733180fd4e039cb7d1fddb"/>
          <p:cNvPicPr/>
          <p:nvPr/>
        </p:nvPicPr>
        <p:blipFill>
          <a:blip r:embed="rId2"/>
          <a:stretch/>
        </p:blipFill>
        <p:spPr>
          <a:xfrm>
            <a:off x="7020000" y="476280"/>
            <a:ext cx="642960" cy="857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9T15:31:13Z</dcterms:created>
  <dc:creator>мама</dc:creator>
  <dc:description/>
  <dc:language>en-US</dc:language>
  <cp:lastModifiedBy>Елена</cp:lastModifiedBy>
  <dcterms:modified xsi:type="dcterms:W3CDTF">2017-12-28T02:11:14Z</dcterms:modified>
  <cp:revision>6</cp:revision>
  <dc:subject/>
  <dc:title>Слайд 1</dc:title>
</cp:coreProperties>
</file>