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3A5-E54F-4645-B3D8-A712FC28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E9E-C9C4-4283-BEDD-F0F6CF6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E6A-CAD7-429D-80D4-EE6CE019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830-C6FB-4B29-9E80-56724937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3564-B8F1-4A65-A03C-B4C76349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CA69-7209-4A86-81EB-76C3DD7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1D83-0A80-4933-AC49-76BAF3B0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7840-D806-4C15-B2A8-E5798FBA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19E-87B4-4D95-B914-8E46230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8137-90B4-4A85-903C-C444DB5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77FE-E6E4-424A-8877-7AFBEED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4EF-579E-40CA-960E-8ADF81A4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72AB-C96D-48ED-8A8E-D4A82464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A46C-C48B-47A2-B832-3DD2BFED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808E-4DD4-4206-AD13-71670CA3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C836-BDCE-4973-9448-3331E127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34E-1491-4EAB-B4B8-CAEEDB79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904-9285-4215-9E4A-7F7B00F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24F-9239-4958-B893-0AFD9136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525-B871-4ABA-8D38-E5D02F34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F71-BE49-4C49-AF1B-53815348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C2F-D85E-4246-8646-706F86A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DD5-7C65-448E-B17C-113E9D8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185-7AE2-4672-A07C-02FC761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148-FBFF-49CC-AE1A-ADA9FB643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D2B0-7B6B-4F5F-935D-F43E7103A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нкурс знатоков русского язы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ысяча и одна Задача по семанти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Какое слово может означать и предмет мебели и учрежд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Какое слово может означать и гриб и сладко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Какое слово может означать и часть одежды и природное я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Какой глагол может означать и неприятное воздействие на человека, и способ приготовления пищ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Какой глагол может означать и издание звука, и сообщение негативной информац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ва, слова, слова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Все древнерусские имена, как известно, что-то обозначали. Смысл приведенных здесь личных имен славянского происхождения очень прост. Угадайте ег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севолод, Владимир, Злата, Драгомир, Владислав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990720"/>
            <a:ext cx="8385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380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Выпишите однокоренные слова- братья. Выделите чередующиеся сочетания звук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Огород, страна, платье, согласный (звук), полотно, молоко, Середина, голос, младенец, шлем, облако, молодежь, среда, оболочка, сторона, ограда, ошеломить, млекопитающе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914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Какие слова называются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ароним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равьте ошибки в употреблении парони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Это был умный, красивый, горделивый человек. 2.Ты совершил поступок и должен ответить за это. 3.Почва в этом районе тяжелая, глиня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.Находиться здесь опасно: встречаются скопления болотистого г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от загадочный фразеологизм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3616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Найдит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ы фразеологизмов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тоним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олубая кровь, сердце кровью обливается, черная кость, сердце обросло мохом, вставлять палки в колеса, хоть пруд пруди, кот наплакал, дать зеленый свет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-990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йте переводы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иноязычны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зеологизмов. Каким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усски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зеологическим оборотам они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оответству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ним камнем дважды удари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) жить как петух на откорм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) король не куз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)принять пузыри за фонар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-106668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читайте отрывок из стихотворений поэта 20 в, найдите фразеологизмы. Назовите имя поэ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Хотя я с барством был зна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И с публикою деликатно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Я дармоедству был враг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И другом голи перекатн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6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) Море им по коле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в безумье сво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м дороже всел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иг короткий вдво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) Ты завтра очнешься от спя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, выйдя на зимнюю глад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пять за углом водока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ак вкопанный будешь сто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13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00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4) Грустно в нашем са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Он день ото дня краш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 нем и в этом г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Жить бы полною чаш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5) И вот теперь ее отъез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асильственный, быть может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Разлука их обоих съе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Тоска с костями сгложе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Ответьте на поставленные вопросы фразеологизм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 говоря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О том, кто часто меняет свои решени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2) о человеке, который пришел не воврем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) о кротком, безобидном человек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5) об очень дальних родственниках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а будет же честь и слава нашему языку, который в самородном богатстве своем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а будет же честь и слава нашему языку, который в самородном богатстве своем, почти без всякого чуждого примеса течет как гордая, величественная река- шумит и гремит- и вдруг, если надобно, смягчается, журчит нежным ручейком и сладостно вливается в душу, образуя все меры, какие заключаются только в падении и возвышении человеческого голос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10666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-360"/>
            <a:ext cx="800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5. Расставьте ударе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во фразеологизмах. Какова их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тилистическая принадлежност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Земля обетованна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 с гуся вод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Гол как соко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трезанный ломот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ас проби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лова… слова… слова…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д вами отрывок из поэмы А, С, Пушкина «Евгений Онегин» Прочитайте внимательно и определите, чем здесь является слов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Ди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Как часто летнею порою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Когда прозрачно и свет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очное небо над Нево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И под веселое стек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 отражает лик Дианы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ворю правильн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Какие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шибки возмож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если говорить следующие сл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) по..скользну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) на..смех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3) инци..д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4) компроме..тиро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5) преце..д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6) Флюорогр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7) брать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9) шарф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 словаре И. Л. Резниченко предлагается следующий порядок, облегчающий запоминание правильного варианта произношения слов. Прочитайте вниматель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говор- до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усоропровод- водопро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евень-щавель-кис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талог- некр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вартал- от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ронировать- резервиро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безуметь- помеш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лаговест- коло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анты- ленты- шарф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ключит- облегчит звуч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219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пробуйте восстановить цепочк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гово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соропр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вень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талог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ч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ерв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меш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к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уч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5803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Определите, в каких словах сочетани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н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носится как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ш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р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и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льини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кус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груше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-83808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Образуйте множественное число сл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фессор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Лектор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ктор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хгалтер-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ктор-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ифтер-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дитер-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дуктор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8880" y="-106668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007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Как вы произносите следующие сл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ТЭрия или арТЕр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кТЭрия или бакТЕр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юНЭт или брюН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Эрвы или конСЕр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Экан или ДЭк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ТЭрброд или буТЕрброд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Эртный или иНЕртны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НЭль или шиНЕ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арь…какое привычное слов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Подумайте и ответьте, как назывались словари на Руси в средние ве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533520"/>
            <a:ext cx="944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28600"/>
            <a:ext cx="8385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ши помощники- словар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-1219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В каком известном словаре  представлены слова  с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отивоположны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лексическим значение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2000" y="171000"/>
            <a:ext cx="8829720" cy="6515640"/>
            <a:chOff x="162000" y="171000"/>
            <a:chExt cx="8829720" cy="6515640"/>
          </a:xfrm>
        </p:grpSpPr>
        <p:sp>
          <p:nvSpPr>
            <p:cNvPr id="103" name="_s15394"/>
            <p:cNvSpPr/>
            <p:nvPr/>
          </p:nvSpPr>
          <p:spPr>
            <a:xfrm flipV="1">
              <a:off x="4573080" y="1796760"/>
              <a:ext cx="0" cy="8182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5393"/>
            <p:cNvSpPr/>
            <p:nvPr/>
          </p:nvSpPr>
          <p:spPr>
            <a:xfrm>
              <a:off x="3471480" y="171000"/>
              <a:ext cx="2207520" cy="16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б истории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наше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письменност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5392"/>
            <p:cNvSpPr/>
            <p:nvPr/>
          </p:nvSpPr>
          <p:spPr>
            <a:xfrm flipV="1">
              <a:off x="5351760" y="2272320"/>
              <a:ext cx="784800" cy="579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5391"/>
            <p:cNvSpPr/>
            <p:nvPr/>
          </p:nvSpPr>
          <p:spPr>
            <a:xfrm>
              <a:off x="5812200" y="884880"/>
              <a:ext cx="2207520" cy="16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2. Тысяча и одна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Задача по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семантик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5390"/>
            <p:cNvSpPr/>
            <p:nvPr/>
          </p:nvSpPr>
          <p:spPr>
            <a:xfrm>
              <a:off x="5675040" y="3426120"/>
              <a:ext cx="110880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5389"/>
            <p:cNvSpPr/>
            <p:nvPr/>
          </p:nvSpPr>
          <p:spPr>
            <a:xfrm>
              <a:off x="6784200" y="2612880"/>
              <a:ext cx="2207520" cy="16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3. Слова…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Слова… Слова…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5388"/>
            <p:cNvSpPr/>
            <p:nvPr/>
          </p:nvSpPr>
          <p:spPr>
            <a:xfrm>
              <a:off x="5355000" y="4000320"/>
              <a:ext cx="781560" cy="5788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5387"/>
            <p:cNvSpPr/>
            <p:nvPr/>
          </p:nvSpPr>
          <p:spPr>
            <a:xfrm>
              <a:off x="5816520" y="4340520"/>
              <a:ext cx="2207520" cy="16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4. Говорю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правильно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5386"/>
            <p:cNvSpPr/>
            <p:nvPr/>
          </p:nvSpPr>
          <p:spPr>
            <a:xfrm>
              <a:off x="4573080" y="4239000"/>
              <a:ext cx="2880" cy="8182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5385"/>
            <p:cNvSpPr/>
            <p:nvPr/>
          </p:nvSpPr>
          <p:spPr>
            <a:xfrm>
              <a:off x="3474720" y="5057640"/>
              <a:ext cx="2207520" cy="1629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5. Наши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помощники –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словар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5384"/>
            <p:cNvSpPr/>
            <p:nvPr/>
          </p:nvSpPr>
          <p:spPr>
            <a:xfrm flipH="1">
              <a:off x="3009600" y="4002840"/>
              <a:ext cx="788760" cy="576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5383"/>
            <p:cNvSpPr/>
            <p:nvPr/>
          </p:nvSpPr>
          <p:spPr>
            <a:xfrm>
              <a:off x="1133640" y="4343400"/>
              <a:ext cx="2207520" cy="1629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6. Этот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загадочны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фразеологизм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5382"/>
            <p:cNvSpPr/>
            <p:nvPr/>
          </p:nvSpPr>
          <p:spPr>
            <a:xfrm flipH="1">
              <a:off x="2361960" y="3426120"/>
              <a:ext cx="1112040" cy="28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5381"/>
            <p:cNvSpPr/>
            <p:nvPr/>
          </p:nvSpPr>
          <p:spPr>
            <a:xfrm>
              <a:off x="162000" y="2615400"/>
              <a:ext cx="2207520" cy="1629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7. Язык и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ультура реч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5380"/>
            <p:cNvSpPr/>
            <p:nvPr/>
          </p:nvSpPr>
          <p:spPr>
            <a:xfrm flipH="1" flipV="1">
              <a:off x="3009960" y="2272320"/>
              <a:ext cx="785520" cy="5817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5379"/>
            <p:cNvSpPr/>
            <p:nvPr/>
          </p:nvSpPr>
          <p:spPr>
            <a:xfrm>
              <a:off x="1129680" y="887760"/>
              <a:ext cx="2207520" cy="1629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8. Орфографический марафон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5378"/>
            <p:cNvSpPr/>
            <p:nvPr/>
          </p:nvSpPr>
          <p:spPr>
            <a:xfrm>
              <a:off x="3471480" y="2615400"/>
              <a:ext cx="2207520" cy="1629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Monotype Corsiva"/>
                </a:rPr>
                <a:t>номинации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Monotype Corsiva"/>
                </a:rPr>
                <a:t>конкурс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38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аши помощники- словар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83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.Этот великий ученый стоит у истоков отечественного языкознания. его работы в области лексикологии, научные труды по истории стилей литературного языка легли в основу первого академического толкового словаря. Назовите имя этого учен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Какой тип словаря в лексикографии называется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глоссарие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219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6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Орфоэпический словарь помогает нам правильно произносить слова и ставить ударение. Поэтому словарь очень строг и имеет целую систему запретительных пом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зовите эти помет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ультура ре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Кто автор следующих строчек? Какое значение у слов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мысл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этом отрыв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Руслан томился молчалив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смыс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и память потерял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1432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456840"/>
            <a:ext cx="800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Найдите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шибки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скажите 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акому тип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относится каждая из ни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обаки бежат быс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Инженера собрались на совещ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 сказал обидчивое сл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Во время интервалами между уроками  в аудиторию вошел преподава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Хоккейная команда потерпел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ас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1219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Для них характерна большая детализация в обозначении специальных понятий. Орудий труда, производственных процессов, материалов. Они обладают экспрессией, что сближает их с жаргонизмами.В большинстве случаев они не относятся к официальным. Узаконенным наименования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вы думаете, о какой группе слов идет речь?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230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1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Закончи пословиц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Когда говоришь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) Не бросай слов на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) Много наговорено, да мало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) Во многословии не без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) Из пустого в порожнее-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их из пословиц присутствуют черты архаич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3883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Культура речи- это умение, во- первых, правильно говорить и писать и, во- вторых, употреблять языковые средства в соответствии с целями и условиями общ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авильной признается речь, которая согласуется с нормами литературного языка- произносительными, грамматическими, лексически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-1432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406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ередайте своими словами содержание статьи В.В. Виноградова(в сокращении), помещенной в «Энциклопедическом словаре» юного филолога. Используйте при пересказе содержащиеся в статье лингвистические терми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 истории нашей письмен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5320" y="1904760"/>
            <a:ext cx="434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b7"/>
                </a:solidFill>
                <a:latin typeface="Arial"/>
              </a:rPr>
              <a:t>Во многих случаях наше правописание установилось давно уже, хотя и не всегда правильно: изменять его в подобных случаях не представлялось удобным, потому что такого рода изменения могли бы только поколебать существующее соглашение и вызвать новое разноречие в нашем письме </a:t>
            </a: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(предисловие к кн. «Русское правописание» Я.К. Грота, 1885 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I</a:t>
            </a:r>
            <a:r>
              <a:rPr b="0" lang="ru-RU" sz="2800" spc="-1" strike="noStrike">
                <a:solidFill>
                  <a:srgbClr val="00ff00"/>
                </a:solidFill>
                <a:latin typeface="Arial Black"/>
              </a:rPr>
              <a:t>. Прочитайте термины. Какие определения соответствуют языку:</a:t>
            </a:r>
            <a:r>
              <a:rPr b="0" lang="ru-RU" sz="4000" spc="-1" strike="noStrike">
                <a:solidFill>
                  <a:srgbClr val="00ff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92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 славянский язык (общеславянск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Восточнославян-ский (древнерусский) язы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Старославянский язы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600200"/>
            <a:ext cx="392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Литературный язык славян, созданный Кириллом и Мефод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бщий язык славян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до н.э.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Язык восточных славян Киевской Рус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-X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. Прочитайте и сопоставьте тексты. Найдите черты сходства и различия. Какие из языков являются родственными и почему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атарский язы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ин Пугачев янынан урамга чыктым. Тон тыны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әм салкын иде. Ай белән йолдызлар яп-якты булып янып, мәйданн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әм дар агачаларын яктыртылар. Крепстьта тыны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әм каранг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лгарский язы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Аз оставих Пугачов и из лязох на улицата. Нощта бели тиха и мразовита. Месецът извездите светаха силно и осветяваха площада и бесияката. Навсекъеде в крепостта беше спокойно и тъмн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III</a:t>
            </a: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. Попробуйте разобраться в словах, пришедших из старославянского языка; для этого установите значение составляющих их частей, соотнеся с русскими словами современного языка: благо-денствие – благо+день, т.е. хорошие счастливые дни (благо в старославянском языке означало «добро, счастье»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838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аго-дарить –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аго-делеть –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аго-ухание –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аго-получие –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аго-родный –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 Black"/>
              </a:rPr>
              <a:t>IV</a:t>
            </a:r>
            <a:r>
              <a:rPr b="1" lang="ru-RU" sz="2800" spc="-1" strike="noStrike">
                <a:solidFill>
                  <a:srgbClr val="00ff00"/>
                </a:solidFill>
                <a:latin typeface="Arial Black"/>
              </a:rPr>
              <a:t>. Кто являются авторами первой славянской письменности – азбуки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 Black"/>
              </a:rPr>
              <a:t>V</a:t>
            </a:r>
            <a:r>
              <a:rPr b="1" lang="ru-RU" sz="2800" spc="-1" strike="noStrike">
                <a:solidFill>
                  <a:srgbClr val="00ff00"/>
                </a:solidFill>
                <a:latin typeface="Arial Black"/>
              </a:rPr>
              <a:t>. Раскройте понятие «литературный язык»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00-01-17T18:35:3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