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0A8-1DB8-4C46-902E-3BF84920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3C7-9D3D-4A1E-9402-C0C1DA88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AAF-C7DB-46A3-85D2-460897E8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C46-C131-4431-8215-AF2C81F1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50C3-84D1-4616-845F-B1CAD0B0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21E4-EB43-4972-995C-01C372AC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F0B7-4D23-4601-AA79-B7393D5C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AF3C-BA2D-44DE-BC04-B71ED6E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3000-3AD2-4EA3-9D56-6D7EF366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5EF4-84A5-4FE2-8980-C9B32EAA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1D69-7440-4C1E-843A-A65CCD6D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E99-0C62-4013-A339-2A1AA17C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E372-B13E-461A-9192-B06FDBB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0EB0-0B11-494D-8AC8-FBDE5288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81E9-6A19-4BE8-A734-B44C4E20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968B-0BE6-4C23-B01B-2FA8C4EA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CDD9-207E-47E9-8504-D2C636E0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4EF-C912-4173-A37C-DBAA05C3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774-BD66-4082-8935-13D5839D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B4E-BD3B-4C28-A786-FD0DC04C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367-279D-4901-9D9B-545C868D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1C7-93F9-4F59-AA9D-61B20FBF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BE5-EE37-476B-9036-8363CA25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D1C-5C86-40CF-8B37-84B84FF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0D64-89C8-492E-9A19-3E55D2F509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369E-954D-4452-94A6-D451849AC0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М. Зощенко – сатирик (1894-1985 гг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862360" y="1828800"/>
            <a:ext cx="3419280" cy="4309920"/>
            <a:chOff x="2862360" y="1828800"/>
            <a:chExt cx="3419280" cy="430992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862360" y="1828800"/>
              <a:ext cx="3419280" cy="43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 txBox="1"/>
            <p:nvPr/>
          </p:nvSpPr>
          <p:spPr>
            <a:xfrm>
              <a:off x="2862360" y="1828800"/>
              <a:ext cx="3419280" cy="43099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ощенко – драматург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1944 — 1946 много работал для театров. Две его комедии были поставлены в Ленинградском драматическом театре, одна из которых — "Парусиновый портфель"— выдержала 200 представлений за г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значение Зощенко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30-годы меняется характер произведений Зощенко: люди равнодушны друг ко другу, их поступками управляет зависть. Избавиться от старого люди сами не могут, им следует помочь. И Зощенко видел в этом свое назначение. После войны по стране покатилась волна репрессий, на Зощенко открыто налагался запрет печатать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«Я пишу очень кратко. Фраза у меня короткая…Может быть поэтому у меня много читателей»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828800" y="1817640"/>
            <a:ext cx="5334120" cy="4384800"/>
            <a:chOff x="1828800" y="1817640"/>
            <a:chExt cx="5334120" cy="438480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1828800" y="1817640"/>
              <a:ext cx="5334120" cy="43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 txBox="1"/>
            <p:nvPr/>
          </p:nvSpPr>
          <p:spPr>
            <a:xfrm>
              <a:off x="1828800" y="1817640"/>
              <a:ext cx="5334120" cy="4384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ворчество в последние годы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июле 1953 Зощенко был вновь принят в Союз писателей, что принесло временное облегчение его состояния здоровья. В последние годы жизни печатался в журналах "Крокодил" и "Огонек"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худшение здоровье писателя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период 1946 — 1953 писатель главным образом занимался переводческой деятельность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острение душевной болезни не позволяло писателю полноценно работ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мер Зощенко в Ленинграде 22 июля 1958 го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священие Зощенко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Словно дальнему голосу внемл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А вокруг ничего, никог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В эту черную добрую землю Вы положите тело ег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Ни ранит, ни плакучая и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рах легчайший не осенят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Только ветры морские с залив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Чтоб оплакать его, прилетят…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А.Ахматова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емья писател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одился 29 июля (10 августа н.с.) в Полтаве в семье художника- передвижника Михаила Ивановича Зощенко и писательницы Елены Иосифовны Суриной. Большая семья: восемь детей. Когда мальчику было 12 лет, умирает оте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енные заслуги писател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1915, закончив ускоренные военные курсы, Зощенко ушел на фронт. Участвовал во многих боях, был ранен и отравлен газами. Имел четыре боевых орде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енные должност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1915 — 1917 занимал разные военные должности, а после Февральской революции был комендантом Главного почтамта и телеграфа Петрограда. После Октябрьской революции вступил в Красную Армию и служил в пограничных войсках в Кронштадте, затем перевелся в действующую армию и до весны 1919 был на фронт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ощенко в годы войн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81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ачало литературной деятельност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апреле 1919 был демобилизован по болезни сердца и начал службу следователем в Уголовном надзоре. В 1920 поступил в Петроградский военный порт делопроизводителем, с этого времени стал заниматься литературной деятельность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ощенко в юные год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267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ворческая активност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1922 вышла первая книга рассказов М. Зощенко "Рассказы Назара Ильича, господина Синебрюхова", затем следует целый ряд сборников рассказов: "Сентиментальные повести" (1923 — 1936), "Голубая книга" (1935), "Исторические повести" и др. Всего с 1922 до 1946 насчитывается 91 издание и переиздание его кни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пулярность Зощенко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 1922 по 1946 его книги выдержали около 100 изданий, включая собрание сочинений в шести томах. К середине 1920-х годов Зощенко стал одним из самых популярных писателей. Его рассказы были известны и любимы во всех слоях обще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</cp:lastModifiedBy>
  <dcterms:modified xsi:type="dcterms:W3CDTF">2012-06-09T06:51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