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6CFE1-99AD-4B9A-814E-C6438082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7ED37-B4FE-4F3A-AAFF-ECD792AA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DC68B-9D4C-4D08-BFCA-C389AEA8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68234-E71E-442F-BAE2-ADB8D85D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B8AB-A5B9-483E-94FF-76C50ADA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5DC1-7D29-46E4-A7AC-1D9DA47D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3C70-3CBA-4236-9F07-230ECEEE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9884-137B-4D46-B1AB-0B805B1F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03BE-2E92-47BA-B14A-442E1CCB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9E7C-49F1-46ED-8185-003A5411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1E69-6FBB-4485-B1AE-CC8E32B8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B4AC5-EDC2-4ED3-A0DC-DDC7A5B9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EF80-DEA8-4668-A994-286958F9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9E03-4A75-4FA9-B02F-7634670A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936F-C446-44ED-9020-47C5641C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DC24-41C9-4C6A-AF03-73437103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2E8C-0328-4B8C-AE2A-86A1C5CF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D89F6-2ACF-4867-BBF9-1908250D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84908-E652-4456-9B30-C0C15A6A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1A2CF-DE8D-4DB2-89F2-C2ED59C5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6CD64-D618-401A-B76B-6659033E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BEE44-601E-4371-A41E-B52EB108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4EE76-77B8-4839-AEFF-FAD72159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465B5-0293-4B73-A0A1-445332FF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355E-8FC4-45AD-A381-7ABCFBAE53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CAC5-1C34-4DC1-9F17-532737B84B5F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ультура Руси в 10 – 13 века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ила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посова Ан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рковь Успения Богородицы (Десятинная) в Киеве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4321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менная церковь Успения Богородицы в Киеве была заложена в 989 году, сразу после Корсуньского похода и крещения Великого князя Владимира Святославича Святого.  Строительство было завершено в 996 году. Церковь  была отделана с величайшей для того времени роскошью: мрамором, яшмой, мозаикой. Князь Владимир Святославич постановил жертвовать в ее пользу десятую часть своих доходов с городов и имений на вечные времена, вследствие чего церковь получила известность под названием "Десятинная". Киевская церковь Успения Богородицы,  была разрушена в 1240 году, при нашествии на Киев хана Батыя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6160" y="1980720"/>
            <a:ext cx="404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4537080" cy="4680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иево - Печерский монастырь в Киеве (11в) – 1-й монастыр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207280" cy="468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рамы   Софии    в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Киеве          и          Новгород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4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6160" y="1980720"/>
            <a:ext cx="404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105080" cy="4680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Золотые ворота» во Владими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4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6160" y="1980720"/>
            <a:ext cx="404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Золотые ворота" во Владими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ли возведены в 1164 году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адной части владимир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епости, на главной дорог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дущей в город. Они служи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овременно и оборонительн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оружением, и торжественн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ъездом. Белокаменную арку вор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чала надвратная церковь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олоченым куполом. В те време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ротивоположной сторо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димирской креп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ышались, вероятно, столь ж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щные и парадные "Серебря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рота". В 1469 году рус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одчий Василий Дмитриеви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рмолин подновил надвратну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рковь "Золотых ворот". Поздне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рам был перестрое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рхитектура периода     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раздробленност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распадом Руси поток национального искусства не иссяк, а разбился на множество рукавов. Со 2-й пол.12в.большинство храмов однокупольные, строились из плинф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инф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от греч. «плинтос» -  кирпи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40323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ерковь Спаса Преображения на Нередице близ Новгород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198 году близ Новгорода, на берегу реки Спасовка, была построена каменная одноглавая церковь Спаса Преображения на Нередице. Храм, сильно разрушенный в 1941-1943 годах, во время Великой Отечественной войны, ныне восстановлен, но фрески 1199 года на его стенах почти полностью утраче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032360" cy="46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Церковь Покрова Богородицы на Нерли близ Боголюбов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165 году близ Боголюбова, на берегу реки Нерли, возвели каменную одноглавую церковь Покрова Богородицы. Великий князь Андрей Юрьевич Боголюбский построил этот храм после кончины сына в память о нем и в умиротворение своей печа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032360" cy="4752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митриевский собор во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ладимир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 в 1194-1197 годах при Великом князе Всеволоде III Юрьевиче Большое Гнездо каменный одноглавый Дмитриевский собор во Владимире хорошо сохранился до настоящего времени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417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спенский собор во Владимире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2920" y="1557000"/>
            <a:ext cx="4038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роен в 1158-1160 годах по велению Великого князя Андрея Юрьевича Боголюбского Успенский собор во Владимире не сохранился в первоначальном виде.  В настоящее время собор пятиглавый.  Внутреннее убранство храма сверкало золотом, серебром и драгоценными камнями. Его сравнивали с легендарным храмом библейского царя Соломона. В 1408 году собор украсили фрески прославленных русских мастеров Андрея Рублева и Даниила Черно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249800" cy="566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Живопись. Фреск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рес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техника живописи красками по свежей, сырой штукатурке, которая при высыхании образует тончайшую пленку, делающую фреску долговеч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321440" cy="504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 такое культур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с латинского – возделывание, обрабатыв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все, что создано человеческим обществом благодаря физическому и умственному труду людей, выражаемое в его быте, идеологии, образовании и воспитании, в достижениях науки, искусства, литературы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это не только произведения искусства, но и определенные идеи, представления, идеалы, стереотипы, бытовые привычки, духовная и религиозная жизнь, язы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Живопис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38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кон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от греч. «эйкон» - изображение, образ. В православии и католицизме изображение Иисуса Богоматери и святых, которому приписывается священное зна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кона "Владимирская Богоматерь"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писанная, по преданию, евангелистом Лукой, была принесена на Русь из Греции и до 1155 года находилась в Киев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4643280" y="765000"/>
            <a:ext cx="4105440" cy="5904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Фолькло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4316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льклор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совокупность обычаев, обрядов, песен и других явлений народного бы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сни, сказания, былины, пословицы, сказки были составной частью древнерусской культ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4643280" y="1916280"/>
            <a:ext cx="43214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ыт и повседневност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ными видами деятельности восточных славян были земледелие, торговля, охота и бортничество (сбор дикого меда). Наиболее ценным товаром считались мед, воск, пушнина. Селения восточных славян обычно располагались по берегам рек или озер. Начиная с IX века, был известен торговый путь "из варяг в греки": по рекам от Балтийского моря к Черно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и славяне в полуземлянках или бревенчатых домах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321440" cy="40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Ювелирное искусств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рнь-черные или темно-серые изображения, нанесенные на металл (золото, серебро) путем гравировки и заполнения штрихов т. н. черневым сплавом (из серебра, меди и др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рнь - разновидность скани; мелкие золотые, серебряные или медные шарики (диаметром от 0,4 мм), которые напаиваются на ювелирные изделия, часто на орнамент из свитой проволоки. Зернь создает эффектную фактуру, игру светот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960" y="1989000"/>
            <a:ext cx="4244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248360" cy="360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Ювелирное искусств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игран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(итал. filigrana, от лат. filum — нитка и granum — зерно),вид ювелирной тех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городчатая эмал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заполняют ячейки, образованные тонкими металлическими перегородками, припаянными на металлическую поверхность ребром по линиям узора, передают четкие линии конту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4176720" cy="5543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иевская Русь в домонгольское время превратилась в страну высокоразвитой культ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инает складываться общность древнерусского народа, которая выражалась в развитии литературного языка, в национальном самоощущении единства народа, в формировании общей культ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эпоху Киевской Руси был задан тип культурно-исторического развития русского народа, в котором тесно переплетались христианство и языче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общения на следующие тем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«Монахи Киево-Печерского монастыря» (Нестор, Антоний, Феодосий) – рассказать об известных фактах жизни этих монахов, об их вкладе в религиозную и культурную жизнь Рус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«Русский героический эпос. Его особенности». (рассказать об истории русских былин, выделить основные отличия былин от сказок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«Наставление государя. Представления о грехах и добродетелях русского князя» (рассказать о главных, с точки зрения автора, событиях его жизни и о его заветах своим детя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«Архитектура Древней Руси в 12-13вв» (рассказать о наиболее значительных памятниках зодчества в различных княжествах, описать их особенност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0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3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тапы в культуре Древней Рус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Культура восточного славянства – традиции язы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Культура Киевской Руси – синтез достижений восточных славян и христианской культуры Визант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Культура периода раздробленности – на базе культуры Киевской Руси создавались культурно-художественные школы как местные варианты культуры древнерусской народ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Особенности древнерусской культур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зычест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родолжало оказывать глубокое влияние на сознание народа, крестьянский быт, литературу, живопись, архитектур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ь складывалась как равнинное государство,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крытое воздейств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тех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род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оторые проживали на русских землях в процессе их осво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зантийск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церковная и религиозна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ыла сначала предметом освоения, затем – образцом для подраж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Образование и грамотнос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4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е школы открыты при церквях, монастыр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учение ограничивалось чтением, реже – письмом и сче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1в. в богатых семьях обучение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6160" y="1980720"/>
            <a:ext cx="404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3924360" y="1628640"/>
            <a:ext cx="505764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716360" y="1125360"/>
            <a:ext cx="410364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Необходимость письменности и ее появлени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витие частной собственности и торговл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сударственные акты и договоры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требность в письменной истори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явилась из Болгарии (2пол.9в.Кирил и Мефодий) с принятием христианства в 10 ве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ественно-политическая литератур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топис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историческое произведение, в котором повествование велось по годам: «Повесть временных лет» монаха Нестора (12в),(события 860-1110гг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Слово о законе и Благодати» Киевского митрополита Иллариона (11в) (проповедь – речь религиозно-назидательного содержания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тия Бориса и Глеба (11в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адимир Мономах «Поучение 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ям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удожественная и светская литератур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Хождение игумена Даниила в святые места» (описал свое паломничество в Иерусалим, 12в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оление» Даниила Заточника (12в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лово о полку Игореве» (1185г.)(о походе Новгород-Северского князя Игоря против половцев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ркви сооружались по образцу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крестово – купольного храма гре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4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6160" y="1980720"/>
            <a:ext cx="404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рамы такого типа представляли собой прямоугольник, разделенный 4 столбами на 9 ячее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крытием служили крестообразно расположенные цилиндрические своды, а над центром храма возвышался куп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17:25:05Z</dcterms:created>
  <dc:creator>ИЯ</dc:creator>
  <dc:description/>
  <dc:language>en-US</dc:language>
  <cp:lastModifiedBy>39</cp:lastModifiedBy>
  <dcterms:modified xsi:type="dcterms:W3CDTF">2017-12-28T04:23:25Z</dcterms:modified>
  <cp:revision>9</cp:revision>
  <dc:subject/>
  <dc:title>Слайд 1</dc:title>
</cp:coreProperties>
</file>