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7D6-00EC-49F1-947F-19B2801D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004-2EB5-4173-99FC-966B582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BEE-7727-49EA-9E5C-5B0F1C6D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168-F626-40F8-BACF-B673B741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98C-CD7B-47E9-867B-24A0895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DBD-2F59-43A2-9C1D-5E97CEC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FCF-F46D-4F5D-B940-B94F2D0B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995-7825-4C91-8E70-66C1DB0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E07-607C-4290-8E8E-98368F9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B51-FDB2-46AD-8D3B-3FB8DC2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1ED-C549-4D89-A3FD-0E1AE65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A84-A49A-4E13-B558-683972BA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4E0-CA56-4A6E-97D2-EC8FE451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47800" y="2860560"/>
            <a:ext cx="5648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в стран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нутренний Мир Человека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1658400">
            <a:off x="1979640" y="2421000"/>
            <a:ext cx="2457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200" y="455616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69228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 другим люд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4880" y="692280"/>
            <a:ext cx="218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 д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6520" y="220500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ношение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360" y="46274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760" y="5132520"/>
            <a:ext cx="21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ссерд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149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люб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8560" y="515772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78560" y="41241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8200" y="462744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ув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360" y="4581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8920" y="412416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кура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513252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сов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51325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3840" y="563580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ренность в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3222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E">
                                      <p:cBhvr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29 -0.02523 L 0.60607 -0.37176 E">
                                      <p:cBhvr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4.81481E-006 L 0.02362 -0.23102 E">
                                      <p:cBhvr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-0.37014 -0.34653 E">
                                      <p:cBhvr>
                                        <p:cTn id="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95 -0.04629 L -0.02552 -0.31921 E">
                                      <p:cBhvr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-0.03588 L -0.05885 -0.36135 E">
                                      <p:cBhvr>
                                        <p:cTn id="3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5 -0.03958 L -0.25243 -0.2706 E">
                                      <p:cBhvr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15 0.00625 L -0.19861 -0.22476 E">
                                      <p:cBhvr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2 -0.03564 L -0.65764 -0.18264 E">
                                      <p:cBhvr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7 0.06922 L -0.0757 -0.1199 E">
                                      <p:cBhvr>
                                        <p:cTn id="5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-0.04629 L 0.32084 -0.36134 E"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-0.03958 L 0.08732 -0.25996 E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 -0.03587 L -0.76128 -0.03587 E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82 -0.03588 L -0.14444 -0.28773 E">
                                      <p:cBhvr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627280" y="981000"/>
            <a:ext cx="396252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пасибо за урок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2240" y="148428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ложен всякий человек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 глубок как море»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Ф.М.Досто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492360" y="69228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00360" y="1628640"/>
            <a:ext cx="314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лекопитающе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59280" y="2852640"/>
            <a:ext cx="2562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doni MT Condensed"/>
              </a:rPr>
              <a:t>личность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doni MT Condensed"/>
              <a:ea typeface="Bodoni MT Condensed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068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4400" y="37162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нтересы, знания,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276640"/>
            <a:ext cx="2089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 р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908000" y="206064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95640" y="41497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149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40200" y="46735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42720" y="46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2997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92360" y="321300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314172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00920" y="2774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17733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04920" y="215280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тя природы,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541760" cy="5818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9" name=""/>
          <p:cNvSpPr txBox="1"/>
          <p:nvPr/>
        </p:nvSpPr>
        <p:spPr>
          <a:xfrm>
            <a:off x="4932360" y="62064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моции и чувств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5280" y="1267200"/>
            <a:ext cx="2710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ы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ла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н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ч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ра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2708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264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431600">
            <a:off x="2410920" y="2133720"/>
            <a:ext cx="27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1242000">
            <a:off x="1835280" y="2133720"/>
            <a:ext cx="343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1401600">
            <a:off x="1979640" y="2204640"/>
            <a:ext cx="295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0:14:15Z</dcterms:created>
  <dc:creator>User</dc:creator>
  <dc:description/>
  <dc:language>en-US</dc:language>
  <cp:lastModifiedBy>USER</cp:lastModifiedBy>
  <dcterms:modified xsi:type="dcterms:W3CDTF">2009-05-04T17:12:21Z</dcterms:modified>
  <cp:revision>10</cp:revision>
  <dc:subject/>
  <dc:title>Кроссворд</dc:title>
</cp:coreProperties>
</file>