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C1E-CA91-4179-BB76-903DD9E1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3D1-44C3-413A-8F9A-D45E2932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2F8-38BE-491D-B51C-D51B5602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28D-374F-4472-9CB2-93B514F7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D2886-3BF7-4ABE-A5C4-7853B631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1AE50-71D6-46B9-A634-8B38DAD0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52865-0DF8-49EC-BB03-A90E253F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B6564-F61E-4608-AD07-40C62C2C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D94E9-E8EE-47ED-AB90-28872EFA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646BB-8FC8-4F8D-AF43-D47FF4A7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06EEB-7718-45BE-A91A-1EA577D4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898-2598-461E-9314-C33336F1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9C0D1-94C7-42D6-908A-1716FA6D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27FCC-6D39-4DE9-92A7-E94D2C4E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5B4D4-4787-437F-AF09-AE5CC822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0E088-6410-4016-90B1-48987BE3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CAECE-4DC7-4516-8A75-8C1A54B3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7C4-0F4F-4906-9299-567BD815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C27-5AF0-42BD-8DA7-29FED89E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6DB-AD30-48C0-BA00-127FB7FD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1D5-6F22-4817-BE25-8A3B5694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5F3-5F6A-412A-B562-4FCD9B91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43F-83CC-4BE2-A677-968D1E5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293-CF2B-4101-867C-DCC3914C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15E8-216D-480A-97BE-F4BF2196F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3A4F-D775-43C6-9D87-4A6DE5C16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source.org/wiki/&#1057;&#1090;&#1088;&#1072;&#1085;&#1072;_&#1085;&#1077;&#1075;&#1086;&#1076;&#1103;&#1077;&#1074;_(&#1045;&#1089;&#1077;&#1085;&#1080;&#1085;)" TargetMode="External"/><Relationship Id="rId3" Type="http://schemas.openxmlformats.org/officeDocument/2006/relationships/hyperlink" Target="http://ru.wikipedia.org/wiki/&#1054;&#1043;&#1055;&#1059;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28_&#1076;&#1077;&#1082;&#1072;&#1073;&#1088;&#1103;" TargetMode="External"/><Relationship Id="rId3" Type="http://schemas.openxmlformats.org/officeDocument/2006/relationships/hyperlink" Target="http://ru.wikipedia.org/wiki/1925_&#1075;&#1086;&#1076;" TargetMode="External"/><Relationship Id="rId4" Type="http://schemas.openxmlformats.org/officeDocument/2006/relationships/hyperlink" Target="http://ru.wikipedia.org/wiki/&#1040;&#1085;&#1075;&#1083;&#1077;&#1090;&#1077;&#1088;_(&#1075;&#1086;&#1089;&#1090;&#1080;&#1085;&#1080;&#1094;&#1072;)" TargetMode="External"/><Relationship Id="rId5" Type="http://schemas.openxmlformats.org/officeDocument/2006/relationships/hyperlink" Target="http://ru.wikipedia.org/wiki/&#1055;&#1072;&#1088;&#1086;&#1074;&#1086;&#1077;_&#1086;&#1090;&#1086;&#1087;&#1083;&#1077;&#1085;&#1080;&#1077;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7;&#1087;&#1088;&#1077;&#1089;&#1089;&#1080;&#1103;" TargetMode="External"/><Relationship Id="rId3" Type="http://schemas.openxmlformats.org/officeDocument/2006/relationships/hyperlink" Target="http://ru.wikipedia.org/wiki/&#1057;&#1072;&#1084;&#1086;&#1091;&#1073;&#1080;&#1081;&#1089;&#1090;&#1074;&#1086;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5;&#1089;&#1077;&#1085;&#1080;&#1085;_(&#1090;&#1077;&#1083;&#1077;&#1089;&#1077;&#1088;&#1080;&#1072;&#1083;)" TargetMode="External"/><Relationship Id="rId3" Type="http://schemas.openxmlformats.org/officeDocument/2006/relationships/hyperlink" Target="http://ru.wikipedia.org/wiki/&#1060;&#1072;&#1081;&#1083;:Yesenin_in_coffin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ru.wikipedia.org/wiki/&#1060;&#1072;&#1081;&#1083;:Esenin1925ondeathbed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ki.yandex.ru/users/v3834400/view/180457/?page=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uild-er.ru/?do=photo&amp;photobig=222702200911032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6;&#1103;&#1079;&#1072;&#1085;&#1089;&#1082;&#1072;&#1103;_&#1075;&#1091;&#1073;&#1077;&#1088;&#1085;&#1080;&#1103;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904_&#1075;&#1086;&#1076;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913_&#1075;&#1086;&#1076;" TargetMode="External"/><Relationship Id="rId3" Type="http://schemas.openxmlformats.org/officeDocument/2006/relationships/hyperlink" Target="http://ru.wikipedia.org/wiki/&#1052;&#1086;&#1089;&#1082;&#1086;&#1074;&#1089;&#1082;&#1080;&#1081;_&#1075;&#1086;&#1088;&#1086;&#1076;&#1089;&#1082;&#1086;&#1081;_&#1085;&#1072;&#1088;&#1086;&#1076;&#1085;&#1099;&#1081;_&#1091;&#1085;&#1080;&#1074;&#1077;&#1088;&#1089;&#1080;&#1090;&#1077;&#1090;_&#1080;&#1084;&#1077;&#1085;&#1080;_&#1040;._&#1051;._&#1064;&#1072;&#1085;&#1103;&#1074;&#1089;&#1082;&#1086;&#1075;&#1086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914_&#1075;&#1086;&#1076;" TargetMode="External"/><Relationship Id="rId3" Type="http://schemas.openxmlformats.org/officeDocument/2006/relationships/hyperlink" Target="http://ru.wikipedia.org/w/index.php?title=&#1052;&#1080;&#1088;&#1086;&#1082;&amp;action=edit&amp;redlink=1" TargetMode="External"/><Relationship Id="rId4" Type="http://schemas.openxmlformats.org/officeDocument/2006/relationships/hyperlink" Target="http://ru.wikipedia.org/wiki/1915_&#1075;&#1086;&#1076;" TargetMode="External"/><Relationship Id="rId5" Type="http://schemas.openxmlformats.org/officeDocument/2006/relationships/hyperlink" Target="http://ru.wikipedia.org/wiki/&#1055;&#1077;&#1090;&#1088;&#1086;&#1075;&#1088;&#1072;&#1076;" TargetMode="External"/><Relationship Id="rId6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7" Type="http://schemas.openxmlformats.org/officeDocument/2006/relationships/hyperlink" Target="http://ru.wikipedia.org/wiki/&#1043;&#1086;&#1088;&#1086;&#1076;&#1077;&#1094;&#1082;&#1080;&#1081;,_&#1057;&#1077;&#1088;&#1075;&#1077;&#1081;_&#1052;&#1080;&#1090;&#1088;&#1086;&#1092;&#1072;&#1085;&#1086;&#1074;&#1080;&#1095;" TargetMode="Externa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2;&#1072;&#1088;&#1080;&#1077;&#1085;&#1075;&#1086;&#1092;,_&#1040;&#1085;&#1072;&#1090;&#1086;&#1083;&#1080;&#1081;_&#1041;&#1086;&#1088;&#1080;&#1089;&#1086;&#1074;&#1080;&#1095;" TargetMode="External"/><Relationship Id="rId3" Type="http://schemas.openxmlformats.org/officeDocument/2006/relationships/hyperlink" Target="http://ru.wikipedia.org/wiki/&#1048;&#1084;&#1072;&#1078;&#1080;&#1085;&#1080;&#1089;&#1090;&#1099;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921_&#1075;&#1086;&#1076;" TargetMode="External"/><Relationship Id="rId3" Type="http://schemas.openxmlformats.org/officeDocument/2006/relationships/hyperlink" Target="http://ru.wikipedia.org/wiki/&#1071;&#1082;&#1091;&#1083;&#1086;&#1074;,_&#1043;&#1077;&#1086;&#1088;&#1075;&#1080;&#1081;_&#1041;&#1086;&#1075;&#1076;&#1072;&#1085;&#1086;&#1074;&#1080;&#1095;" TargetMode="External"/><Relationship Id="rId4" Type="http://schemas.openxmlformats.org/officeDocument/2006/relationships/hyperlink" Target="http://ru.wikipedia.org/wiki/&#1071;&#1082;&#1091;&#1083;&#1086;&#1074;,_&#1043;&#1077;&#1086;&#1088;&#1075;&#1080;&#1081;_&#1041;&#1086;&#1075;&#1076;&#1072;&#1085;&#1086;&#1074;&#1080;&#1095;" TargetMode="External"/><Relationship Id="rId5" Type="http://schemas.openxmlformats.org/officeDocument/2006/relationships/hyperlink" Target="http://ru.wikipedia.org/wiki/&#1044;&#1091;&#1085;&#1082;&#1072;&#1085;,_&#1040;&#1081;&#1089;&#1077;&#1076;&#1086;&#1088;&#1072;" TargetMode="External"/><Relationship Id="rId6" Type="http://schemas.openxmlformats.org/officeDocument/2006/relationships/hyperlink" Target="http://ru.wikipedia.org/wiki/&#1044;&#1091;&#1085;&#1082;&#1072;&#1085;,_&#1040;&#1081;&#1089;&#1077;&#1076;&#1086;&#1088;&#1072;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«Открыватель крестьянской Руси» (о творчестве Сергея Есенина 1895-1925 гг.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Картинка 1 из 1994"/>
          <p:cNvPicPr/>
          <p:nvPr/>
        </p:nvPicPr>
        <p:blipFill>
          <a:blip r:embed="rId2"/>
          <a:stretch/>
        </p:blipFill>
        <p:spPr>
          <a:xfrm>
            <a:off x="2743200" y="1981080"/>
            <a:ext cx="3429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сенин и Айсейдора Дунка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С.Есенин и А.Дункан"/>
          <p:cNvPicPr/>
          <p:nvPr/>
        </p:nvPicPr>
        <p:blipFill>
          <a:blip r:embed="rId2"/>
          <a:stretch/>
        </p:blipFill>
        <p:spPr>
          <a:xfrm>
            <a:off x="1981080" y="1828800"/>
            <a:ext cx="449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ямота Есени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ной из последних поэм — «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Страна негодяев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» — поэт очень резко пишет о лидерах современной ему России, что некоторыми могло восприниматься как обличение советской власти. Это привлекло повышенное внимание к нему со стороны правоохранительных органов, в том числе и работников милиции и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ОГПУ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недоброжел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винения писател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газетах стали появляться резко критические статьи о нём, обвиняющие его в пьянстве, драках и прочих антисоциальных поступках, хотя поэт своим поведением иногда сам давал основание для подобного рода критики со стороны своих недоброжел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незапная смерть поэ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28 декабр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25 год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Есенина нашли в ленинградской гостинице «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Англете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 повешенным на трубе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парового отопл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Последнее его стихотворение было написано в этой гостинице, кровью: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До свиданья, друг мой, до свиданья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…..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рсии гибели Есени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официальной версии, Есенин в состоянии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депресси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(через месяц после лечения в психоневрологической больнице) покончил жизнь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самоубийством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70—1980-е годы возникли также версии об убийстве поэта с последующей инсценировкой его самоубий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щание с Есенины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рсия убийства Есенина троцкистами представлена в сериале «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Есенин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хоронен поэт в Москве на Ваганьковском кладбищ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038480"/>
            <a:ext cx="2286000" cy="2210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38680" y="403848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амятники Есенин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63960" y="1905120"/>
            <a:ext cx="301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Картинка 6 из 6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1676520"/>
            <a:ext cx="336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Картинка 14 из 624"/>
          <p:cNvPicPr/>
          <p:nvPr/>
        </p:nvPicPr>
        <p:blipFill>
          <a:blip r:embed="rId2"/>
          <a:stretch/>
        </p:blipFill>
        <p:spPr>
          <a:xfrm>
            <a:off x="2819520" y="1523880"/>
            <a:ext cx="3124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еремух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Черемуха душистая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 весною расцвела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 ветки золотистые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Что кудри, завила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ругом роса медвяная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ползает по коре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д нею зелень пряная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яет в серебре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ождение писател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одился в селе Константиново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Рязанской губернии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в крестьянской семье, отец — Александр Никитич Есенин (1875-1925), мать Татьяна Фёдоровна (1875—1955). С двух лет был отдан на воспитание зажиточному деду по материнской лин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8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А рядом, у проталинки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 траве, между корней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ежит, струится маленький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еребряный ручей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Черемуха душистая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весившись, стоит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А зелень золотистая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 солнышке гор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8380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учей волной гремучею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се ветки обдает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 вкрадчиво под кручею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Ей песенки поет.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5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Картинка 4 из 1994"/>
          <p:cNvPicPr/>
          <p:nvPr/>
        </p:nvPicPr>
        <p:blipFill>
          <a:blip r:embed="rId2"/>
          <a:stretch/>
        </p:blipFill>
        <p:spPr>
          <a:xfrm>
            <a:off x="5638680" y="2286000"/>
            <a:ext cx="2743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тихотворение «Пушкину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Картинка 6 из 141839"/>
          <p:cNvPicPr/>
          <p:nvPr/>
        </p:nvPicPr>
        <p:blipFill>
          <a:blip r:embed="rId2"/>
          <a:stretch/>
        </p:blipFill>
        <p:spPr>
          <a:xfrm>
            <a:off x="4800600" y="1905120"/>
            <a:ext cx="388620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1523880"/>
            <a:ext cx="3809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шкину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чтая о могучем дар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го, кто русской стал судьбой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ою я на Тверском бульвар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ою и говорю с собой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лондинистый, почти белесый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легендах ставший как туман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 Александр! Ты был повеса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я сегодня хулиган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 эти милые забав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затемнили образ твой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в бронзе выкованной слав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ясешь ты гордой головой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емья писател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Василий Наседкин, Александра и Екатерина Есенины, А.Сахаров, Сергей Есенин, С.Толстая"/>
          <p:cNvPicPr/>
          <p:nvPr/>
        </p:nvPicPr>
        <p:blipFill>
          <a:blip r:embed="rId2"/>
          <a:stretch/>
        </p:blipFill>
        <p:spPr>
          <a:xfrm>
            <a:off x="1981080" y="1905120"/>
            <a:ext cx="47246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чеба Есени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04 году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Есенин пошел в Константиновское земское училищ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сле окончания Константиновского училища в 1909 году был определен в закрытую Спас-Клепиковскую церковно-учительскую шко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одители Писател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Александр Никитич и Татьяна Федоровна Есенины 1926 год"/>
          <p:cNvPicPr/>
          <p:nvPr/>
        </p:nvPicPr>
        <p:blipFill>
          <a:blip r:embed="rId2"/>
          <a:stretch/>
        </p:blipFill>
        <p:spPr>
          <a:xfrm>
            <a:off x="2666880" y="1752480"/>
            <a:ext cx="3581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альнейшее образова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12 г. Есенин переезжает в Моск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13 году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поступил на историко-философский факультет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Московского городского народного университета им. Шанявског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рвые публикац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14 году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в детском журнале «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Миро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» впервые были опубликованы стихотворения Есенина. В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915 году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Есенин приехал из Москвы в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Петроград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читал свои стихотворения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А. А. Блоку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С. М. Городецкому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и другим поэта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16 г. издан первый поэтический сборник «Радуниц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сенин и имажиниз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1918 — началу 1920-х относится знакомство Есенина с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Анатолием Мариенгофом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и его активное участие в московской группе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имажинистов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Имажинизм был формальной школой, которую мы хотели утвердить. Но эта школа не имела под собой почвы и умерла сама собой….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С. А. Есенин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енитьба Есени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енью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21 год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 мастерской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Г. Б. 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Якулов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Есенин познакомился с танцовщицей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Айседорой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 Дунка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на которой он через полгода женился. Со своей женой совершает длительное путешествие по Италии, Франции, Бельгии, США.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До чего прекрасна и богата Россия. Кажется нет еще такой страны и быть не может»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С. Есенин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</cp:lastModifiedBy>
  <dcterms:modified xsi:type="dcterms:W3CDTF">2012-06-09T07:05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