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CAF-13B3-4EAA-8725-714F7D3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B95-F660-425E-877D-C080A2F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0ED-93B8-4BBA-AD0A-EFB04F78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020-8A19-4DA3-B652-79162D83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F96-3B93-4774-8259-EAA5C5BC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DFC1-BDD2-432F-80D5-DB5204B4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CC1-2BED-495B-B01F-797D3994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6008-3D76-4612-A941-F52B739C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17B3-D6E3-47A7-B833-54D9A19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AC3E-7400-4E56-81CC-67645EC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5AB8-188D-4154-B48E-C8128B6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1B7-ED66-4B64-8E2F-13EE2DD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F03-A21F-4FB0-A527-B9381B2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033-9FA1-45BC-817D-A95C0F8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6771-4640-4256-B04A-7859946F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8479-C7C0-45EC-8148-422BC9E6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E837-9277-4D99-A94A-38AEA048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2E3-306C-4261-A257-3ADD249C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529-61FC-4EC1-9CB8-BC972ED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7D2-D458-4A9F-984A-4C3DDBC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9D7-F5C4-4696-8E5C-C1A0F32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2C9-CE02-42EA-A968-AE4F39C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4A7-6907-4198-AEEB-ABC73A0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052-0F94-4828-959F-581AA45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50E6-2969-413C-B5AC-D148B48B4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857-3E4C-4D96-B750-0F7B10805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рюсов Валерий Яковлевич (1873 – 1924 гг.) – основоположник символизма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2521" descr="Брюсов Валерий Яковлевич - его биография и жизнеописание"/>
          <p:cNvPicPr/>
          <p:nvPr/>
        </p:nvPicPr>
        <p:blipFill>
          <a:blip r:embed="rId2"/>
          <a:stretch/>
        </p:blipFill>
        <p:spPr>
          <a:xfrm>
            <a:off x="2819520" y="1981080"/>
            <a:ext cx="3276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невники. Письм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ожка книги: Валерий Брюсов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Дневники. Письма. Автобиографическая проза"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2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Обложка книги: Валерий Брюсов \"/>
          <p:cNvPicPr/>
          <p:nvPr/>
        </p:nvPicPr>
        <p:blipFill>
          <a:blip r:embed="rId2"/>
          <a:stretch/>
        </p:blipFill>
        <p:spPr>
          <a:xfrm>
            <a:off x="5867280" y="3581280"/>
            <a:ext cx="20574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алерий Брюсов и Нина Петровска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ожка книги: "Валерий Брюсов - Нина Петровская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иска: 1904 - 1913", Издательство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вое литературное обозрение, 2004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10" descr="Обложка книги: \"/>
          <p:cNvPicPr/>
          <p:nvPr/>
        </p:nvPicPr>
        <p:blipFill>
          <a:blip r:embed="rId2"/>
          <a:stretch/>
        </p:blipFill>
        <p:spPr>
          <a:xfrm>
            <a:off x="4724280" y="3962520"/>
            <a:ext cx="2210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Творчество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нь несозданных созд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ыхается во сн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но лопасти лат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эмалевой ст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олетовые р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эмалевой сте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усонно чертят зв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вонко-звучной тиш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тихотворение Брюсов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розрачные кио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вонко-звучной тишин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стают, словно блест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лазоревой лу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ходит месяц обнаж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лазоревой луне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уки реют полусон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уки ластятся ко м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Твор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йны созданных созд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лаской ластятся ко мн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трепещет тень лат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эмалевой ст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 марта 1895 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ождение писа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дился 1 декабря 1873 в Москве в купеческой семье. Свое творческое становление Брюсов подробно описал в автобиографии («Из моей жизни»). В 1885 в возрасте 11 лет он поступил во 2-й класс гимназии. Тогда же Брюсов начал читать русскую литературу «от Пушкина и Лермонтова, через Тургенева, Толстого, Достоевского, до Лескова...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чеба Брюсов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енью 1890 поступает в 6-й класс другой гимназии, где увлеченно занимается математикой, изучает философию (Канта, Шопенгауэра, особенно Спинозы). Его литературные интересы становятся более разнообразн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овое искусств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93 Брюсов поступил на историко-филологический факультет Московского университета. Брюсов посвящает себя служению «новому искусству» и записывает в дневнике: «Что ни говорить... будущее будет принадлежать ему, особенно когда оно найдет достойного вождя. А этим вождем буду Я! Да, Я!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ртрет Брюсов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Валерий Брюсов."/>
          <p:cNvPicPr/>
          <p:nvPr/>
        </p:nvPicPr>
        <p:blipFill>
          <a:blip r:embed="rId2"/>
          <a:stretch/>
        </p:blipFill>
        <p:spPr>
          <a:xfrm>
            <a:off x="2590920" y="16002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усские символист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94–1895 Брюсов вместе с другом А. Л. Миропольским выпустил три сборника «Русские символисты». Сборники должны были создать иллюзию существования целого направления символистской поэзии в Росс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ниги Брюсов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ожка книги: Валерий Брюсов "В такие дни. Стихи 1919 - 1920"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дательство: Государственное издательство, 19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Обложка книги: Валерий Брюсов \"/>
          <p:cNvPicPr/>
          <p:nvPr/>
        </p:nvPicPr>
        <p:blipFill>
          <a:blip r:embed="rId2"/>
          <a:stretch/>
        </p:blipFill>
        <p:spPr>
          <a:xfrm>
            <a:off x="5943600" y="388620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 такие дн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ожка книги: Валерия Брюсова из сери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Литературное наследство", Издательство: Наука, 1976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Обложка книги: Валерия Брюсова из серии \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збранные сочин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ожка книги: Валерий Брюсов "Избранные сочинения"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дательство: Художественная литература (М), 1980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Обложка книги: Валерий Брюсов \"/>
          <p:cNvPicPr/>
          <p:nvPr/>
        </p:nvPicPr>
        <p:blipFill>
          <a:blip r:embed="rId2"/>
          <a:stretch/>
        </p:blipFill>
        <p:spPr>
          <a:xfrm>
            <a:off x="6019920" y="3657600"/>
            <a:ext cx="2133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</cp:lastModifiedBy>
  <dcterms:modified xsi:type="dcterms:W3CDTF">2012-06-09T06:28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