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AC34-28DA-4C5B-AF54-821AF0ED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6C55-428F-4966-AA99-2E5C3D05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0615-89D1-4544-A687-08C09CAB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F358-E07C-4B77-A4D7-39A7F8F3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1D40-001E-4916-B60D-3DD0F05F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4C4E-755F-4F73-AE0F-B61E9549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E772-B462-477C-A16B-1FD7A3C4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DE41-73D8-4066-96AE-286D2FFD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F96F-FA83-4D81-913E-AF60F5AB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F107-C579-4778-BAB5-8C1ACE20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C353-BC05-441F-89D8-2102A452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0AAB-3B39-4552-B507-64C4A9F5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D9D4-ED88-46B2-959A-5671DFB4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082D-D108-4E9A-9FBE-7F77BE95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9854-C28A-4DB7-9C40-80221ABA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1019-F2F1-4D27-A23B-930BD7D2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2030-288D-4629-959E-61424784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E068-EF67-47EF-8F59-B295F11C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4E1C-54E0-47A2-B1F0-AC4DB54A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C900-827D-4599-933E-A5C0DA8E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8932-FEDD-409E-8F0E-9DAA99DF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9A08-63DC-46F5-B953-71772F6A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45B2-DECE-4F52-BA2D-C165EC8A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853D-5EF5-4E77-A8E6-B461115A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E235-5BB4-42D4-B041-62DF073C058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6255-9235-4520-BD09-99A2F62A290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стоки писателя. В. Шукшин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(1929 – 1974 гг.)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2743200" y="2257560"/>
            <a:ext cx="35053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В Москву! В институт кинематографии!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1955 году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асилий отправился покорять Москву. О том, как Шукшин поступил в институт кинематографии, существует немало легенд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Шукшинские роли в кино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Уже студентом получил первую большую роль в кино – солдат Федор в фильме «Два солдата» (1959г.) Последняя его роль – Лопахин в фильме «Они сражались за родину» (1974г.) Первая большая работа в кино – фильм «Живет такой парень» (1964г.) Последняя – «Калина красная» (1973г.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Роль Шукшина в фильме «Калина красная»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6" name="Picture 4" descr="1"/>
          <p:cNvPicPr/>
          <p:nvPr/>
        </p:nvPicPr>
        <p:blipFill>
          <a:blip r:embed="rId1"/>
          <a:stretch/>
        </p:blipFill>
        <p:spPr>
          <a:xfrm>
            <a:off x="1523880" y="1752480"/>
            <a:ext cx="5943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ервые произведения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ервый появившийся в печати рассказ – «Двое на телеге» (1958г.). Первая книга – сборник рассказов «Сельские жители» (1964г.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Picture 7" descr="D:\документы\ТАТЬЯНА\литература\лит-ра 11 кл\Шукшин\шукшин.jpg"/>
          <p:cNvPicPr/>
          <p:nvPr/>
        </p:nvPicPr>
        <p:blipFill>
          <a:blip r:embed="rId2"/>
          <a:stretch/>
        </p:blipFill>
        <p:spPr>
          <a:xfrm>
            <a:off x="3124080" y="3886200"/>
            <a:ext cx="35053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убликации Шукшина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963 — в издательстве «Молодая гвардия» вышла первая книга «Сельские жители»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968 —сборник «Там, вдали»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973 —сборник рассказов «Характеры»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974, январь —в издательстве «Советская Россия» вышла книга «Беседы при ясной луне»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юнь —роман «Я пришел дать вам волю»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незапная смерть писателя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асилий Макарович Шукшин скончался в ночь на 2 октября 1974 г. от сердечного приступа в каюте теплохода во время съемок фильма «Они сражались за Родину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 память о Шукшине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2002 г. почитатели творчества писателя спасли старый теплоход от списания в металлолом, отремонтировали и дали ему имя  - «Василий Шукшин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Любовь к родине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2f1311"/>
                </a:solidFill>
                <a:latin typeface="Arial"/>
              </a:rPr>
              <a:t>...</a:t>
            </a: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Я живу с чувством, что когда-нибудь я вернусь на родину навсегда,... и не зря верится, что родной воздух, родная речь, песня, знакомая с детства, ласковое слово матери врачуют душу. 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В.М. Шукшин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3241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Сростки – родное село Шукшина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6858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Детство писателя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асилий Шукшин родился 25 июля 1929 года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селе Сростки Бийского района Алтайского края в крестьянской семье. В 1933 отца арестовали. В 22 года мать, Мария Сергеевна, осталась без кормильца с двумя малолетними детьми на руках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Главный мужчина в доме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тчима своего Павла Куксина Василий Шукшин позже вспоминал как человека редкой доброты. "Второй отец" Шукшина ушел на фронт, а через год принесли похоронк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Так и стал в 13 лет Василий Макарович главным мужчиной и кормильцем в дом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Любовь к матери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ежнейшую любовь к матери Шукшин пронес через всю свою жизнь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5" descr="11"/>
          <p:cNvPicPr/>
          <p:nvPr/>
        </p:nvPicPr>
        <p:blipFill>
          <a:blip r:embed="rId2"/>
          <a:stretch/>
        </p:blipFill>
        <p:spPr>
          <a:xfrm>
            <a:off x="1066680" y="3124080"/>
            <a:ext cx="31244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Учеба Шукшина и начало трудового пути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1943 году он закончил сельскую семилетку и поступил в Бийский авиатехникум, но там ему не понравилось, и он вернулся в Сростки, стал рядовым колхозником. Однако в 1946 г. Марии Сергеевне пришлось проводить сына в самостоятельную жизнь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Трудовые будни писателя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ервым местом работы Шукшина стал трест "Союзпроммеханизация", Устроился туда в 1947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году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качестве слесаря-такелажника. В 1950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году в попал на Черноморский флот и в 1953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был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омиссован обратно на родину из-за найденной язвы желудк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Старший матрос, по специальности  - радист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8" name="Picture 4" descr="9"/>
          <p:cNvPicPr/>
          <p:nvPr/>
        </p:nvPicPr>
        <p:blipFill>
          <a:blip r:embed="rId1"/>
          <a:stretch/>
        </p:blipFill>
        <p:spPr>
          <a:xfrm>
            <a:off x="2514600" y="1600200"/>
            <a:ext cx="3809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 родное село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сле демобилизации Василий вернулся в Сростки. Сдал экстерном экзамены на аттестат зрелости, изрядно помаявшись  с математикой, считая это своим маленьким подвигом. «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Такого напряжения сил я больше никогда не испытывал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T</cp:lastModifiedBy>
  <dcterms:modified xsi:type="dcterms:W3CDTF">2012-06-09T06:33:2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