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B5033-BC1A-425B-9732-49ECFAD2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89DE5-31AB-47EB-8F0D-AA65B339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C158A-D8D6-4CE8-B328-C0BF2BD9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A3BD2-FE2C-4D5D-807F-BE606AB3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8D01-2AFA-4C5E-A17F-D93E1B90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0A48-F52C-4914-8670-F817F60A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002F-44C3-47E4-B229-7CCB8786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6079-7B77-4A8E-9E52-E9A07B7D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33C4-72AF-42E0-8404-40B729BE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82B3-63F4-4BDA-AF5A-A192E63E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63CD-AA60-4359-95F7-EA7509A8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85778-3D6F-4284-990D-057D550B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C0B4-5A04-4E83-A6AC-1958D1D8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2308-F264-48DB-B916-937ED190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4EBA-0F15-460E-9256-C8E7A73B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2D3E-193A-4DB8-8CF2-97701662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EAE6-1DA8-4E66-B401-03E31DB0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4FF52-44AF-4DAE-AA6D-775C44D6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20186-F8D3-4165-9831-01698D67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79817-828D-4227-B32B-A0CE254D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99B02-D271-4CC0-B6CD-34DE79EC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0AC26-B4FC-4E64-9836-1CD9953D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BE612-CD24-4E93-982F-89D14FD3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034FB-1F55-4593-BDC9-392B7471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9490-0C94-4123-9204-80A39790B86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FBDE-5603-4B88-B147-6B3E5F925EE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9_&#1103;&#1085;&#1074;&#1072;&#1088;&#1103;" TargetMode="External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143000" y="304560"/>
            <a:ext cx="6400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нтон Павлович Чехов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(1860 – 1904 гг.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35812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Жизнь писателя на Сахалин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хов общался с людьми, узнавал истории их жизней, причины ссылки и набирал богатый материал для своих заметок. История этой переписи запечатлена в его книге «Остров Сахалин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хов открывает медицинский пункт, строит несколько школ, пиш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ассказы о каторге и ссылк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ездка явилась материалом для книги, с нею духом исканий и преодолений связаны и такие крупные вещи писателя как «Дуэль», «Палата №6», рассказы «Гусев», «Бабы», «В ссылке» и 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аслуги писателя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900 году Чехов был избран почетным академиком Пушкинского отделения Российской Академии нау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о после аннулирования избрания Горького в почетные академики, Чехов отказался от этого з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Чехов – драматург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тановка Московского Художественного театра (1898г.) пьес Чехова открыла публике искусство Чехова-драматург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901году женился на О. Книппер, актрисе Художественного теат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раматические произведения Чехова 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96 – «Чайка», «Дом с мезонином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98 – «маленькая трилогия» («Человек в футляре», «Крыжовник», «О любви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99 – «Дядя Ван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00 – «В овраг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01 – «Три сестр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02 – «Архиерей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03 – «Невеста», «вишневый сад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мерть писателя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 июля 1904 года во втором часу ночи Антон Павлович  почувствовал себя особенно плохо. Приехавшему на вызов доктору сказал: «Я умираю». Так умер писатель на немецком курорте , куда выехал на лечение. Похоронен в Москве на Новодевичьем кладбищ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амятники  Чехову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" descr="Картинка 7 из 929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2" name="" descr="Картинка 11 из 929"/>
          <p:cNvPicPr/>
          <p:nvPr/>
        </p:nvPicPr>
        <p:blipFill>
          <a:blip r:embed="rId1"/>
          <a:stretch/>
        </p:blipFill>
        <p:spPr>
          <a:xfrm>
            <a:off x="2209680" y="1447920"/>
            <a:ext cx="4496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" name="" descr="Картинка 1 из 929"/>
          <p:cNvPicPr/>
          <p:nvPr/>
        </p:nvPicPr>
        <p:blipFill>
          <a:blip r:embed="rId1"/>
          <a:stretch/>
        </p:blipFill>
        <p:spPr>
          <a:xfrm>
            <a:off x="2286000" y="1447920"/>
            <a:ext cx="4114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" descr="Картинка 6 из 929"/>
          <p:cNvPicPr/>
          <p:nvPr/>
        </p:nvPicPr>
        <p:blipFill>
          <a:blip r:embed="rId1"/>
          <a:stretch/>
        </p:blipFill>
        <p:spPr>
          <a:xfrm>
            <a:off x="2133720" y="1447920"/>
            <a:ext cx="4343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оисхождение писателя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Антон Павлович Чехо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родился </a:t>
            </a: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(</a:t>
            </a: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17 (29) января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1860</a:t>
            </a: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, 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Таганрог</a:t>
            </a: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катеринославской губернии, в многодетной семье купца третьей гильдии, владельца бакалейной лавки; учился в классической гимназии, одновременно помогая отцу в торговле. Семья Чехова бежала из Таганрога в Москву от банкрот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Афоризмы А. П. Чехов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Доброму человеку бывает стыдно даже перед собакой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Грязная муха может обпачкать    всю стену. А маленький грязненький поступочек может испортить все дело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Афоризмы А. П. Чехов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Льстят тем, кого боятся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У каждого человека что-нибудь спрятано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Тля ест растения, ржа металлы, а ложь душу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ворческое кредо писателя.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вое жизненное и творческое кредо он сформулировал так: «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Литератор не кондитер, не косметик, не увеселитель; он человек, законтрактованный сознанием своего долга и совест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Мировой писатель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хов – признанный писатель не только в России, но и в Европе. Таким образом Чехов – мировой писатель, новаторские черты драматургии Чехова определили к ней воздействие на литературу мира, которые подчеркивали мастера мирового театра 20 века. По словам японского режиссера Уно Дзюкити, «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в пьесах Чехова в совершенном виде уже заложен весь театр…. Чехов – вершин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одители Чехов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Павел Егорович Чехов"/>
          <p:cNvPicPr/>
          <p:nvPr/>
        </p:nvPicPr>
        <p:blipFill>
          <a:blip r:embed="rId1"/>
          <a:stretch/>
        </p:blipFill>
        <p:spPr>
          <a:xfrm>
            <a:off x="762120" y="1828800"/>
            <a:ext cx="2895480" cy="2975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5800" y="5334120"/>
            <a:ext cx="375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тец - Павел Егорович Чехо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Евгения Яковлевна Морозова"/>
          <p:cNvPicPr/>
          <p:nvPr/>
        </p:nvPicPr>
        <p:blipFill>
          <a:blip r:embed="rId2"/>
          <a:stretch/>
        </p:blipFill>
        <p:spPr>
          <a:xfrm>
            <a:off x="5638680" y="1752480"/>
            <a:ext cx="2971800" cy="3048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943600" y="4952880"/>
            <a:ext cx="259092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                                           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Мать - Евгения                                  Яковл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ервые литературные опыт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 гимназическим годам относятся первые литературные опыты Чехова: водевили, сцены, очерки, анекдоты и т.п. Гимназистом он выпускает рукописный журнал с карикатурами, пишет комедии «Нашла коса на камень», «Недаром курица пела», драму «Безотцовщин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Учеба будущего писателя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879 году Чехов поступил на медицинский факультет Московского университета. После его окончания он работает уездным врачом в Воскресенске, Звенигороде (лечит больных, выступает экспертом в суде и т.д.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чало литературного труд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годы обучения в университете литературный труд становится для Чехова источником заработка: его «юмористические мелочи» публикуются на страницах журналов под различными псевдонимами (Антоша Чехонте, Человек без селезенки, Брат моего брата, Балдастов, Антонсон и др.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ервые известные произведения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конца 1882 Чехов начинает сотрудничать в петербургском журнале «Осколки», в 1884 «Отечественных записках», с 1885 печатается в «Петербургской газете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83 – «Толстый и тонки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85 – «Лошадиная фамилия», «Тоска», «Ваньк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овый этап в творчеств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1886 – 1889 сотрудничество в газете «Новое время», где произведения Чехова впервые появились под его настоящим  имен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86 – сборник «Пестрые рассказ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88 – повесть «степ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89 – повесть «Скучная истори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утешествие на остров Сахалин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890 Чехов прерывает успешно начатую литературную работу и отправляется в длительное путешествие через Сибирь на остров Сахалин для изучения быта каторжников и ссыльных», а также участвует в помощи голодающим крестьянам Воронежской губер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борант</cp:lastModifiedBy>
  <dcterms:modified xsi:type="dcterms:W3CDTF">1999-12-31T19:18:3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