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D7C-AA9D-49BF-84A5-BD65B899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F6AD-2746-4C61-BFA8-B4993A74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A85-49B1-4C22-B0C3-F9F487DA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3F9-C063-4E31-98F4-4668D23F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ECC1-B49F-4B7E-814E-14F24869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E620-EA5B-407C-ACDF-9489CDDC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9D74-2E7A-4B3A-8FD4-07449288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FD31-55D6-4E7F-AA3F-69AEEC57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ADE3-D783-4476-A698-132249F2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D459-09C0-4165-97D8-0BB55DE8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2E67-E618-46BC-96FD-176F76D2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CFF-7A81-42FC-BDF0-BF6BF4C5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D97A-7C1B-489E-AB9D-F2B5275F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EFCA-4D40-41BB-BA04-623D469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6B74-1100-4A1B-BE55-6418AB86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9500-54F1-4399-B5A4-03995033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F678-9B00-4F56-8D27-5E133E87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78446-A91E-47A3-9C33-A17F7D4B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2B3A-6D45-4515-ADDF-6616A56D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B290-A9BC-47C3-AC74-A6499F9A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3C91-E73A-4F84-809F-4A482D9A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4AAF-7AE9-4EDC-88A8-7080FA79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9B7-42E0-4F53-A020-370CAF6C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E431B-F899-4EA8-924D-AF47D294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00B7-A17C-461A-BB0F-8A42256B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0EFF-BFA2-4106-971C-0027CB75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90CF-CCE9-4612-AA1E-16CAFB75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1CD0-17D6-4080-B877-27A63BBF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B78D-7DF4-442B-832C-C495DCDE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646F3-220F-404C-B014-9630A4A7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6179-A8AA-4C46-8C26-5BBCEA47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CE5D2-4068-41B7-98B7-549D4122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D8365-4D8F-4E69-A220-20317AA6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CE9-4C25-4AE3-BEBA-75CE4540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CBCA9-72E2-4D63-BAA4-3CBE251C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25BF5-8CB3-42AE-894A-98E72A48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CA67D-AC60-4820-9CB2-A3711CDA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7FFA-CD96-49A3-AABA-BB47540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179C-474A-4571-BA15-F48C7BFC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54EAA-C38E-4C92-A900-0E533054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8025A-3374-4507-85FE-892EC084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D6793-346A-43C2-AC70-3653F5FB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9DA98-FB99-4053-BA07-1E69699C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1C3-3FBD-48B1-A289-1479A94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A6B-46CC-47B2-BC7C-D09A70D5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829-75C7-45B3-B2F0-8F75CA8F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BBA-B25B-4281-8B25-3E0E16D2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1E9-9D02-48C4-A0BF-6DB6EA91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9669-08B0-4C9A-8820-87FBDEBB44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1C09-8B19-43E2-99B6-5811FD8B6CE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9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667E-39A7-41ED-95E8-B9F6C7E28F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4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085F-54E4-4D1D-B04A-31029BAEE4A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6769080" cy="2229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Алка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4915800" y="5072040"/>
            <a:ext cx="292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Учитель химии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Горбунова Н.П.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Далее метил реагирует со следующей молекулой хлора, таким образом образуя свободные атомы хлора, которые замещают следующий атом водорода уже в хлорметане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о цепная реакция – реакция, в которой происходит цепь последовательных превра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Химические свойства алкан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42600" y="1285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кция нитрования – реакция  Коновалов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,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-H + HO-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R-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гидрир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350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i, P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нием алкенов или циклоалка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→ 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=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3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4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Химические свойства алкан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42600" y="1285920"/>
            <a:ext cx="7924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форминг – изменение формы (характерна для гексана и его гомологов при 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40 ат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+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иролиз мета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12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:   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→ С + 2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1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:   2С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→ Н-С≡С-Н + 3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Химические свойства алкан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139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кции, протекающие с разрывом связи С-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Изомеризация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C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утан → Изобу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Крекинг (высокотемпературная переработка нефти и ее фракций с целью получения продуктов с меньшей молярной массой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+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Химические свойства алкан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кции окисления (гор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СН</a:t>
            </a:r>
            <a:r>
              <a:rPr b="0" lang="ru-RU" sz="2000" spc="-1" strike="noStrike">
                <a:solidFill>
                  <a:srgbClr val="09090d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 + 2О</a:t>
            </a:r>
            <a:r>
              <a:rPr b="0" lang="ru-RU" sz="2000" spc="-1" strike="noStrike">
                <a:solidFill>
                  <a:srgbClr val="09090d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  <a:ea typeface="Arial"/>
              </a:rPr>
              <a:t>→ СО</a:t>
            </a:r>
            <a:r>
              <a:rPr b="0" lang="ru-RU" sz="2000" spc="-1" strike="noStrike">
                <a:solidFill>
                  <a:srgbClr val="09090d"/>
                </a:solidFill>
                <a:latin typeface="Arial"/>
                <a:ea typeface="Arial"/>
              </a:rPr>
              <a:t>2 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  <a:ea typeface="Arial"/>
              </a:rPr>
              <a:t>+ 2Н</a:t>
            </a:r>
            <a:r>
              <a:rPr b="0" lang="ru-RU" sz="2000" spc="-1" strike="noStrike">
                <a:solidFill>
                  <a:srgbClr val="09090d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  <a:ea typeface="Arial"/>
              </a:rPr>
              <a:t>О + </a:t>
            </a:r>
            <a:r>
              <a:rPr b="0" lang="en-US" sz="3200" spc="-1" strike="noStrike">
                <a:solidFill>
                  <a:srgbClr val="09090d"/>
                </a:solidFill>
                <a:latin typeface="Arial"/>
                <a:ea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+ О</a:t>
            </a:r>
            <a:r>
              <a:rPr b="0" lang="ru-RU" sz="2000" spc="-1" strike="noStrike">
                <a:solidFill>
                  <a:srgbClr val="09090d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  <a:ea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+ О</a:t>
            </a:r>
            <a:r>
              <a:rPr b="0" lang="ru-RU" sz="2000" spc="-1" strike="noStrike">
                <a:solidFill>
                  <a:srgbClr val="09090d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5"/>
          <p:cNvSpPr/>
          <p:nvPr/>
        </p:nvSpPr>
        <p:spPr>
          <a:xfrm>
            <a:off x="395280" y="2276640"/>
            <a:ext cx="24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Широко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спользуются в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ачестве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оплива, в том 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исле дл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двигателей 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нутреннего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горания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6193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рименение алкан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3" name="Picture 10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6120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менение алкан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3672000" y="1876320"/>
            <a:ext cx="5472000" cy="49816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324000" y="2349360"/>
            <a:ext cx="3289320" cy="375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1-3 – производство саж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 – картридж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и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ографическая краска)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4-7 – получение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органических веществ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(4 – растворителей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 –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ладогентов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используемых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в холодильных установках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 –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етанол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 -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ацетилен)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Заполните таблиц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42960" y="2357280"/>
          <a:ext cx="7772400" cy="34290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процесса</a:t>
                      </a:r>
                      <a:endParaRPr b="0" lang="en-US" sz="20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равнение процесса</a:t>
                      </a:r>
                      <a:endParaRPr b="0" lang="en-US" sz="20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арактер использования  продуктов</a:t>
                      </a:r>
                      <a:endParaRPr b="0" lang="en-US" sz="20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Горение</a:t>
                      </a:r>
                      <a:endParaRPr b="0" lang="en-US" sz="20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Крекинг, пиролиз</a:t>
                      </a:r>
                      <a:endParaRPr b="0" lang="en-US" sz="20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Изомеризация</a:t>
                      </a:r>
                      <a:endParaRPr b="0" lang="en-US" sz="20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Галогенирования</a:t>
                      </a:r>
                      <a:endParaRPr b="0" lang="en-US" sz="20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чить заполнение 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е 20, стр.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 Рудзитис, Г.Е. Химия. Органическая химия. 10 класс [Текст]: учеб. для общеобразоват. учреждений с прил. на электрон. носителе / Г.Е. Рудзитис, Ф.Г. Фельдман. – 15-е изд. – М.: Просвещение, 2012. – 192 с.: ил. –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978-5-09-026516-4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Дерябина, Н.Е. Органическая химия. Книга 1. Углеводороды и многофункциональные производные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екст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: учебник - тетрадь/ Н.Е. Дерябина. – М.: ИПО «У Никитских ворот», 2012. – 200с. –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BN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978-5-91366-375-7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ы получ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е свой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390840" y="44956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31308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изические свойст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560" y="4365360"/>
            <a:ext cx="7667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090d"/>
                </a:solidFill>
                <a:latin typeface="Arial"/>
              </a:rPr>
              <a:t>С увеличением относительных молекулярных масс предельных углеводородов закономерно повышаются их температуры кипения и пл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50920" y="1484280"/>
            <a:ext cx="3132000" cy="2653560"/>
          </a:xfrm>
          <a:prstGeom prst="rect">
            <a:avLst/>
          </a:prstGeom>
          <a:solidFill>
            <a:srgbClr val="efe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газы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61,6…-0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82,5…-138,3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183360" y="1484280"/>
            <a:ext cx="2960640" cy="2653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далее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ёрдые вещест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8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492360" y="1484280"/>
            <a:ext cx="2664000" cy="2653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жидкости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908000" y="1484280"/>
            <a:ext cx="50403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9090d"/>
                </a:solidFill>
                <a:uFillTx/>
                <a:latin typeface="Times New Roman"/>
              </a:rPr>
              <a:t>В лаборатории</a:t>
            </a:r>
            <a:r>
              <a:rPr b="0" lang="ru-RU" sz="5400" spc="-1" strike="noStrike">
                <a:solidFill>
                  <a:srgbClr val="09090d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11280" y="393372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0805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110805"/>
                </a:solidFill>
                <a:latin typeface="Arial"/>
              </a:rPr>
              <a:t>2) </a:t>
            </a:r>
            <a:r>
              <a:rPr b="1" lang="ru-RU" sz="3200" spc="-1" strike="noStrike">
                <a:solidFill>
                  <a:srgbClr val="110805"/>
                </a:solidFill>
                <a:latin typeface="Arial"/>
                <a:ea typeface="Times New Roman"/>
              </a:rPr>
              <a:t>Сплавление ацетата натрия с твердым гидроксидом натрия (реакция Дюма)</a:t>
            </a:r>
            <a:r>
              <a:rPr b="1" lang="en-US" sz="3200" spc="-1" strike="noStrike">
                <a:solidFill>
                  <a:srgbClr val="110805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СН</a:t>
            </a:r>
            <a:r>
              <a:rPr b="1" lang="ru-RU" sz="2000" spc="-1" strike="noStrike">
                <a:solidFill>
                  <a:srgbClr val="110805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СОО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Na + Na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ОН 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→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 СН</a:t>
            </a:r>
            <a:r>
              <a:rPr b="1" lang="ru-RU" sz="2000" spc="-1" strike="noStrike">
                <a:solidFill>
                  <a:srgbClr val="110805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↑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110805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СО</a:t>
            </a:r>
            <a:r>
              <a:rPr b="1" lang="ru-RU" sz="2000" spc="-1" strike="noStrike">
                <a:solidFill>
                  <a:srgbClr val="110805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80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70400" y="263700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Реакция Вюрц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66280" y="3213000"/>
            <a:ext cx="61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080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110805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11080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110805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110805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110805"/>
                </a:solidFill>
                <a:latin typeface="Arial"/>
              </a:rPr>
              <a:t>Cl + 2Na </a:t>
            </a:r>
            <a:r>
              <a:rPr b="0" lang="en-US" sz="3200" spc="-1" strike="noStrike">
                <a:solidFill>
                  <a:srgbClr val="110805"/>
                </a:solidFill>
                <a:latin typeface="Arial"/>
                <a:ea typeface="Times New Roman"/>
              </a:rPr>
              <a:t>→ C</a:t>
            </a:r>
            <a:r>
              <a:rPr b="0" lang="en-US" sz="2000" spc="-1" strike="noStrike">
                <a:solidFill>
                  <a:srgbClr val="110805"/>
                </a:solidFill>
                <a:latin typeface="Arial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110805"/>
                </a:solidFill>
                <a:latin typeface="Arial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110805"/>
                </a:solidFill>
                <a:latin typeface="Arial"/>
                <a:ea typeface="Times New Roman"/>
              </a:rPr>
              <a:t>10</a:t>
            </a:r>
            <a:r>
              <a:rPr b="0" lang="en-US" sz="3200" spc="-1" strike="noStrike">
                <a:solidFill>
                  <a:srgbClr val="110805"/>
                </a:solidFill>
                <a:latin typeface="Arial"/>
                <a:ea typeface="Times New Roman"/>
              </a:rPr>
              <a:t> + 2NaC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луч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лучение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2600" y="128556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Каталитическое гидрирование непредельных углеводородов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, t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-CH=CH-R +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R-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+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лиз карбида алюминия (получение С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→3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↑+4Al(O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ез метана из прост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+ 2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1071720" y="1484280"/>
            <a:ext cx="65005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9090d"/>
                </a:solidFill>
                <a:uFillTx/>
                <a:latin typeface="Times New Roman"/>
              </a:rPr>
              <a:t>В промышленности</a:t>
            </a:r>
            <a:endParaRPr b="0" lang="en-US" sz="5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11280" y="393372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0805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110805"/>
                </a:solidFill>
                <a:latin typeface="Times New Roman"/>
              </a:rPr>
              <a:t>2) </a:t>
            </a:r>
            <a:r>
              <a:rPr b="0" lang="ru-RU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Реакция Фишера – Тропша</a:t>
            </a:r>
            <a:r>
              <a:rPr b="0" lang="en-US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kat, 300ºC)</a:t>
            </a:r>
            <a:r>
              <a:rPr b="0" lang="ru-RU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0805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СО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 + (2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+1) 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Н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→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 С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Н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</a:rPr>
              <a:t>2n+2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+ 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110805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110805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80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72200" y="263700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Times New Roman"/>
              </a:rPr>
              <a:t>1)</a:t>
            </a:r>
            <a:r>
              <a:rPr b="1" lang="ru-RU" sz="32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Times New Roman"/>
              </a:rPr>
              <a:t>Из природного сырья – нефти, газа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луч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Химические свойства алкан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кции заме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алогенирование. Реакция происходит на св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→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+ 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хлорме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→ 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+ 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ихлорме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→ С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+ 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рихлорме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→ 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+ 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трахлорме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ханизм реакции замещ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д действием света молекул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спадается на ато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"/>
          <p:cNvSpPr/>
          <p:nvPr/>
        </p:nvSpPr>
        <p:spPr>
          <a:xfrm flipH="1">
            <a:off x="4140360" y="328464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4284720" y="328464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3924360" y="3429000"/>
            <a:ext cx="7128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3924360" y="3573360"/>
            <a:ext cx="712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4140360" y="371628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4284720" y="371628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4427640" y="3500280"/>
            <a:ext cx="730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4643280" y="3500280"/>
            <a:ext cx="7164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4788000" y="328464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4932360" y="328464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27" name="Oval 14"/>
          <p:cNvSpPr/>
          <p:nvPr/>
        </p:nvSpPr>
        <p:spPr>
          <a:xfrm>
            <a:off x="5148360" y="3429000"/>
            <a:ext cx="7128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5148360" y="3573360"/>
            <a:ext cx="712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29" name="Oval 16"/>
          <p:cNvSpPr/>
          <p:nvPr/>
        </p:nvSpPr>
        <p:spPr>
          <a:xfrm>
            <a:off x="4788000" y="371628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30" name="Oval 17"/>
          <p:cNvSpPr/>
          <p:nvPr/>
        </p:nvSpPr>
        <p:spPr>
          <a:xfrm>
            <a:off x="4932360" y="371628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31" name="Line 23"/>
          <p:cNvSpPr/>
          <p:nvPr/>
        </p:nvSpPr>
        <p:spPr>
          <a:xfrm>
            <a:off x="457200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столкновении активного атома хлора с метаном происходит образование радикала метил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                        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  С  Н  + 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→  Н  С    +   Н 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                          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1547640" y="3933720"/>
            <a:ext cx="7164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35" name="Oval 5"/>
          <p:cNvSpPr/>
          <p:nvPr/>
        </p:nvSpPr>
        <p:spPr>
          <a:xfrm>
            <a:off x="1547640" y="4076640"/>
            <a:ext cx="7164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36" name="Oval 6"/>
          <p:cNvSpPr/>
          <p:nvPr/>
        </p:nvSpPr>
        <p:spPr>
          <a:xfrm>
            <a:off x="1763640" y="3716280"/>
            <a:ext cx="7164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1908000" y="3716280"/>
            <a:ext cx="7164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1692360" y="4365720"/>
            <a:ext cx="7128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1835280" y="4365720"/>
            <a:ext cx="7272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2050920" y="3933720"/>
            <a:ext cx="730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2050920" y="4076640"/>
            <a:ext cx="730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3059280" y="4005360"/>
            <a:ext cx="7272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3" name="Oval 14"/>
          <p:cNvSpPr/>
          <p:nvPr/>
        </p:nvSpPr>
        <p:spPr>
          <a:xfrm>
            <a:off x="3203640" y="3789360"/>
            <a:ext cx="7308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3348000" y="3789360"/>
            <a:ext cx="7164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5" name="Oval 16"/>
          <p:cNvSpPr/>
          <p:nvPr/>
        </p:nvSpPr>
        <p:spPr>
          <a:xfrm>
            <a:off x="3564000" y="3933720"/>
            <a:ext cx="712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6" name="Oval 17"/>
          <p:cNvSpPr/>
          <p:nvPr/>
        </p:nvSpPr>
        <p:spPr>
          <a:xfrm>
            <a:off x="3564000" y="407664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7" name="Oval 18"/>
          <p:cNvSpPr/>
          <p:nvPr/>
        </p:nvSpPr>
        <p:spPr>
          <a:xfrm>
            <a:off x="3276720" y="4221000"/>
            <a:ext cx="712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8" name="Oval 19"/>
          <p:cNvSpPr/>
          <p:nvPr/>
        </p:nvSpPr>
        <p:spPr>
          <a:xfrm>
            <a:off x="3419640" y="4221000"/>
            <a:ext cx="7272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9" name="Line 21"/>
          <p:cNvSpPr/>
          <p:nvPr/>
        </p:nvSpPr>
        <p:spPr>
          <a:xfrm flipH="1">
            <a:off x="2195280" y="37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219564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1" name="Line 23"/>
          <p:cNvSpPr/>
          <p:nvPr/>
        </p:nvSpPr>
        <p:spPr>
          <a:xfrm flipH="1">
            <a:off x="197928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1979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3" name="Line 25"/>
          <p:cNvSpPr/>
          <p:nvPr/>
        </p:nvSpPr>
        <p:spPr>
          <a:xfrm>
            <a:off x="1979640" y="4437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4" name="Line 26"/>
          <p:cNvSpPr/>
          <p:nvPr/>
        </p:nvSpPr>
        <p:spPr>
          <a:xfrm flipV="1">
            <a:off x="378000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5" name="Line 27"/>
          <p:cNvSpPr/>
          <p:nvPr/>
        </p:nvSpPr>
        <p:spPr>
          <a:xfrm flipH="1">
            <a:off x="3635280" y="371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6" name="Oval 28"/>
          <p:cNvSpPr/>
          <p:nvPr/>
        </p:nvSpPr>
        <p:spPr>
          <a:xfrm>
            <a:off x="4788000" y="3933720"/>
            <a:ext cx="712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7" name="Oval 29"/>
          <p:cNvSpPr/>
          <p:nvPr/>
        </p:nvSpPr>
        <p:spPr>
          <a:xfrm>
            <a:off x="4788000" y="407664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8" name="Oval 30"/>
          <p:cNvSpPr/>
          <p:nvPr/>
        </p:nvSpPr>
        <p:spPr>
          <a:xfrm>
            <a:off x="4932360" y="371628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9" name="Oval 31"/>
          <p:cNvSpPr/>
          <p:nvPr/>
        </p:nvSpPr>
        <p:spPr>
          <a:xfrm>
            <a:off x="5076720" y="3716280"/>
            <a:ext cx="7164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60" name="Oval 32"/>
          <p:cNvSpPr/>
          <p:nvPr/>
        </p:nvSpPr>
        <p:spPr>
          <a:xfrm>
            <a:off x="5292720" y="4005360"/>
            <a:ext cx="7128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61" name="Oval 33"/>
          <p:cNvSpPr/>
          <p:nvPr/>
        </p:nvSpPr>
        <p:spPr>
          <a:xfrm>
            <a:off x="5003640" y="4292640"/>
            <a:ext cx="730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62" name="Oval 34"/>
          <p:cNvSpPr/>
          <p:nvPr/>
        </p:nvSpPr>
        <p:spPr>
          <a:xfrm>
            <a:off x="5148360" y="429264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63" name="Oval 35"/>
          <p:cNvSpPr/>
          <p:nvPr/>
        </p:nvSpPr>
        <p:spPr>
          <a:xfrm>
            <a:off x="6659640" y="3933720"/>
            <a:ext cx="730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659640" y="4076640"/>
            <a:ext cx="730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65" name="Oval 37"/>
          <p:cNvSpPr/>
          <p:nvPr/>
        </p:nvSpPr>
        <p:spPr>
          <a:xfrm>
            <a:off x="6877080" y="3716280"/>
            <a:ext cx="712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66" name="Oval 38"/>
          <p:cNvSpPr/>
          <p:nvPr/>
        </p:nvSpPr>
        <p:spPr>
          <a:xfrm>
            <a:off x="7020000" y="3716280"/>
            <a:ext cx="7308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67" name="Oval 39"/>
          <p:cNvSpPr/>
          <p:nvPr/>
        </p:nvSpPr>
        <p:spPr>
          <a:xfrm>
            <a:off x="7236000" y="3933720"/>
            <a:ext cx="7272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68" name="Oval 40"/>
          <p:cNvSpPr/>
          <p:nvPr/>
        </p:nvSpPr>
        <p:spPr>
          <a:xfrm>
            <a:off x="7236000" y="4076640"/>
            <a:ext cx="72720" cy="73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69" name="Oval 41"/>
          <p:cNvSpPr/>
          <p:nvPr/>
        </p:nvSpPr>
        <p:spPr>
          <a:xfrm>
            <a:off x="6877080" y="4221000"/>
            <a:ext cx="712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70" name="Oval 42"/>
          <p:cNvSpPr/>
          <p:nvPr/>
        </p:nvSpPr>
        <p:spPr>
          <a:xfrm>
            <a:off x="7020000" y="4221000"/>
            <a:ext cx="730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53:39Z</dcterms:created>
  <dc:creator>Айгуль</dc:creator>
  <dc:description/>
  <dc:language>en-US</dc:language>
  <cp:lastModifiedBy>Наталья</cp:lastModifiedBy>
  <dcterms:modified xsi:type="dcterms:W3CDTF">2015-12-09T18:33:42Z</dcterms:modified>
  <cp:revision>130</cp:revision>
  <dc:subject/>
  <dc:title>Презентация PowerPoint</dc:title>
</cp:coreProperties>
</file>