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CBB-1DE6-4F9A-B116-802F483D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545-31BD-492E-908E-494FD7C3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C01-AAB9-4B3D-9A07-38565E3B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37C-CE4F-4D79-B2AF-465F36D6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652-CD74-4142-81DA-DC48F6E1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3BDC-C204-4480-89EB-AF33A28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F13F-B4FD-49F8-98DB-4B39FF0C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D3E8-454E-4D9F-A63C-D4D4E94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86E8-5DDA-4568-A254-39CFF08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8AE-8751-444E-AF8E-713F591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0C9D-D70E-4EC0-88F6-944C2AA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3CD-5D49-47E2-BDA5-103A0CBA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41B-27E6-4196-BDB1-A3DD3B7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757-1DEE-4E8F-B0AA-8519B75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B1DB-79F7-44C0-8BC6-CF6196C4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95B4-73D6-4A8F-B1AC-63D1EDBA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609-AAFC-468C-8C2C-92A9DC1B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7C3-C22B-43DD-9E02-CAE69196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4E7-5770-46A8-A459-94FF401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A68-2D64-49E6-B28D-95DEE44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9A0-5249-48BC-A906-8440CE40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6F7-A072-47BF-8E49-9AC3BD8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014-787B-4729-B091-6451948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3C2-B24E-43A7-969F-4932F160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4128-D423-42C8-855C-0E7C78BAFDB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62C-105A-4C87-A910-7AA48A100961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uh, muh, muh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–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o ruft im Stahl die …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Wir geben ihr das Futter,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ie gibt uns Milch und Butter.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ie sprechen diese Tiere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r Papagei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r Hund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e Katze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r Frosch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e Gans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e Kuh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s Pferd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e Ziege kan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ll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iau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prech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h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quak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chnatter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cker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her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as passt zusammen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hla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olz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a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uti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lu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um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lei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c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 eine Katz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 ein Vog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 ein Es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 ein H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ie ein B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ä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 ein Elef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 eine Ma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етающ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Katz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Ku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H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Vog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s Pfe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лавающ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s Scha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Vog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Ga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e Zieg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меющие 4 ног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H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s Scha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s Pfe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Hah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r Fis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3:34:30Z</dcterms:created>
  <dc:creator>My</dc:creator>
  <dc:description/>
  <dc:language>en-US</dc:language>
  <cp:lastModifiedBy>My</cp:lastModifiedBy>
  <dcterms:modified xsi:type="dcterms:W3CDTF">2008-02-11T04:07:45Z</dcterms:modified>
  <cp:revision>6</cp:revision>
  <dc:subject/>
  <dc:title>Muh, muh, muh – So ruft im Stahl die … Wir geben ihr das Futter, Sie gibt uns Milch und Butter. </dc:title>
</cp:coreProperties>
</file>