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EBE-4644-4A38-9736-13BD76AD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AD9-C04F-45F5-B353-5C7B63B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7F6F-89EA-4091-A078-03DDB39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24E04-6330-431B-82BB-76FF7CFE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7159-2AB9-49B4-8DA1-AACEA908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38D78-57D0-4C5D-873F-033E56A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39742-A9DE-468F-A8F3-AE56BD5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A15A-49AA-4E35-A2D3-21FC5A7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24F6A-9B9F-4E0C-8FF7-699469C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E8458-7285-473D-8FCD-C48A910B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63EEC-7E7D-44DC-9D97-8B06188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C031C-D82A-4AF5-A5CD-3263EEAA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582-2793-498D-9731-1494036E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5C55B-3EA7-4A42-AD33-36A0E49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DCB82-354F-457A-8502-1D96912E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9E721-5641-48CA-BF05-EF4998B2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1CB4-57B9-4576-9801-76A7210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64E3-58B0-4457-A21E-9E932A5A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62E4-D684-47E6-B822-1897B6D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9DDDA-F16B-42E8-B883-C3F501C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A80D2-0DCF-40A2-A1AC-5F369E7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58375-C60E-4DCA-AC44-4F15140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A33A6-737B-4036-B275-5EAD2413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9A2-B8BC-4877-BCBE-E2DEB05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FC3D-AB10-488F-9D7D-E6F768C1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9305E-B3B3-44EC-A0F1-AFA05361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3591-3677-44D7-B379-5A172D2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11DDE-F973-4FD4-83A1-1F8DEB1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4FD1D-2C50-48DB-A7A7-79FA1D3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A676F-3822-4A1A-8850-343A53E3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BCF9-5D75-4006-A000-E856706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39E93-0AE0-4D2B-8273-2F8AC22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6CFEB-FD16-4DBF-B1C7-184C5B7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2DBE2-AEDD-49CF-A860-6F0FE4C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65C-45F8-46A4-A271-7A60D2AE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860AB-7461-4629-88B4-F37C7D2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CB1CC-DD15-418E-975F-3203FEC2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EF70-3E63-490E-B277-95AE7821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D297-444D-4F7C-97DF-6E4DBA78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9BB3D-5A05-475A-86AA-CDE9DC72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82E60-FD61-408A-9854-A13D7F6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B3C4-B9F7-40AC-A41C-00141C8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2CAA-B01D-4D59-A21A-CC3C6BB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6F7CE-EB29-4360-8387-6A6C9D9A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41413-EC91-4619-8815-0D527D3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C06-89C9-49D8-923D-CC29CD8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35846-792F-4BDB-BDDD-D66BC5D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126F-9731-4ED1-AE53-DE2A51D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2972D-61A9-42FF-8BE4-84FFC384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30B9-1B5E-499C-AE9F-C29E322F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5162E-1D38-48CC-9C16-6938D89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271-1814-4E37-9200-593DD357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7FC4-752A-42B5-B3D2-0B7B00C7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33ED-F0A2-47A8-A7D3-5BA26B7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0C9-8D34-4380-B82C-7981BAA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2D7-145F-4BE2-839D-D2EDFAF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CDF-224C-40DB-A7BE-0E57DD2C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1B41-E3A2-410E-A7D5-F2D4D47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44AB-03FA-44EF-8B14-B82103B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E818-07EB-447F-A7BF-271B733B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0D6D-BDF5-4C17-9E4C-7427ADE7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3004-A46C-436E-92A2-9821EE1C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8677-FFA9-4314-88B8-A5F08E44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FBCB-C88F-40CA-8AB0-BFFADE6B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C964-C730-4AEA-AE74-7052A0EB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F415-FE1D-4C70-B80B-BD5D904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52B9-029A-47AF-920D-5FBB8EC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366-5FC4-41AA-9E2C-8CED135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16A1-9C3B-4DD5-A824-54588607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C8EE-A525-4260-AEC3-01CDB81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71CB-20C8-4D80-8A3B-206A14E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3B1D-46DD-405B-B058-DA52A2D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955A-6351-4339-B8D1-B62503A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065C-5324-4AA0-A61A-6B07C945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B882-F9D2-4C64-831A-24EBEB0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9761-3C12-488C-A943-077D823E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6E14-818A-4993-BAB9-1E33132E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8468-7B0A-447D-AA07-A651AE3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59B-1C50-48DA-A432-3CBB246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417A-83EA-41DC-A7FF-E13E2AA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C662-2265-46FB-9BAF-177AA99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08AE-8923-4F82-B0C2-97FE6AF5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C050-8D3E-46EC-AE10-6A329C7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7A5A-84CE-4808-9C02-D431511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8FD8-0652-44EC-A4DE-C569182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B8EF-E154-4271-AA7D-3A307B3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C8EA-6001-4671-9941-9C0A9B1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1855-039A-492F-97AA-2C0CF32B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F139-0682-4D57-AEC8-F6F82D07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968-C149-4DB4-B250-865B1C11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8772-6A44-451F-A7B5-3A3B732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29255-A35A-4F2D-8379-CFC70BA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F8F7-DBF4-4989-8488-F273A69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6A5E-60CA-43BB-811D-F6FFCD51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019A-514B-48B5-81D1-2ABF7C5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1129-A715-4418-8863-5EADDB7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45FE-BBF1-42B2-BF44-88BC45F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3DBF-7CDD-4873-A762-A36C552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48EC-709D-4529-B715-CB2BE41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5EEC-72B3-417C-B749-1D8F92FE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6F9-3B7E-4F37-A0E8-9512D89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B551-2EB4-4B00-A41F-44D18161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A5143-8C05-4095-8372-89038B5A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78AD-CD20-4D1F-A066-4E1D43A2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75EA-918C-403C-AEC7-9D04B6FC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528E-4AF5-40F3-A66E-271950A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54F6-FD14-4590-BC56-5BC3D444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5FA7-29B6-467C-97DC-FDFC80EF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0142-166C-4FB2-9459-9D0070E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3F21-4156-44A1-AFF9-E92224D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941D-DB93-486E-9A95-243B0DD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841-C888-440B-944A-62328C4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B9E0-DD85-4529-B122-5D930A61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33DD-8D55-4141-BFCA-C9FCE23C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9900-BCAE-4C2A-A5A9-C861680A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9EEB-2E8E-4341-94DB-2DAE4F8A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0B15-307A-422B-ABB9-A828C87C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C823D-FE87-4EB9-B274-6E6DA9B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3A19-CC51-4F07-907E-F008F15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4F30-2997-4326-9F7D-0411D54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2C1F-F0D5-403F-BD21-513F6920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F289-7C71-43C6-B020-C1B842B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F0E-2997-481E-968E-82C3122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8090-C5AF-4B96-BCD9-AEE2689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A1C3-9C63-43EA-BAF7-42F5E73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557A-ECF3-42EA-B271-A0479C6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6A6C-FE18-4A68-A48A-213D0AA5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24D6-1AF1-4292-9017-9CCFE1AB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71DA0-A8BD-4D9A-87FB-DFFB8989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770F5-A2E4-4F34-BD48-FE6B84E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0E27-EA7F-4A2D-AF1D-A45D1A9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ABEA-8089-46A1-8DDA-ECF6DD0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B962-1B3E-4E95-AF68-D9D26843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35F-0CF7-4EA8-A1F8-CCA2466A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1BBF-9D53-428E-A3AE-84B5671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170D-BCA5-4608-BD92-DD19587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5562-EDB6-49B6-84E8-DAEFF06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8FED-77F0-49C5-A95E-FB7AA60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FBF9-7A0A-40D8-98EC-3EC9604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799BC-13F2-47CC-B7DD-671525F6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8BEC-3809-49D9-ACCF-0C29BF7F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A22D3-FE0C-48FF-81D0-91E85A91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066E-0DDE-4696-868B-A87911B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07AED-F2D0-4042-9390-EBD979A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C312-E65A-47A1-A262-79D9702AF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0E56-1662-4A79-95CE-D067515C7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2BF0-AECA-4154-A8E5-7AF1FA9C1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2EDE-457A-4F37-808E-CD945E44B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464-02FA-4709-B5EA-BF104E5BA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2F6-26A2-4CC0-BDEE-0E8157A5B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836A-85BE-4C8B-B8E5-F40AF6DDD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710-68C2-4D81-8B80-39D9BF2D7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033-7F92-4A29-9D39-141DA0FB6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C3E-9766-425B-B155-F470A8CBC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6BA-D43E-4CDC-BFBA-CB218634B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A7A-C81B-4EA6-BEFD-832CA530B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Скругленный прямоугольник 2"/>
          <p:cNvSpPr/>
          <p:nvPr/>
        </p:nvSpPr>
        <p:spPr>
          <a:xfrm>
            <a:off x="1428840" y="2286000"/>
            <a:ext cx="3286080" cy="1071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вн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3"/>
          <p:cNvSpPr/>
          <p:nvPr/>
        </p:nvSpPr>
        <p:spPr>
          <a:xfrm>
            <a:off x="5357880" y="2286000"/>
            <a:ext cx="3286080" cy="1071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кругленный прямоугольник 4"/>
          <p:cNvSpPr/>
          <p:nvPr/>
        </p:nvSpPr>
        <p:spPr>
          <a:xfrm>
            <a:off x="3429000" y="4437000"/>
            <a:ext cx="3303720" cy="11350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холмис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кругленный прямоугольник 5"/>
          <p:cNvSpPr/>
          <p:nvPr/>
        </p:nvSpPr>
        <p:spPr>
          <a:xfrm>
            <a:off x="428760" y="4437000"/>
            <a:ext cx="2630520" cy="11350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ло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Прямоугольник 6" descr=""/>
          <p:cNvPicPr/>
          <p:nvPr/>
        </p:nvPicPr>
        <p:blipFill>
          <a:blip r:embed="rId1"/>
          <a:stretch/>
        </p:blipFill>
        <p:spPr>
          <a:xfrm>
            <a:off x="281160" y="42840"/>
            <a:ext cx="8654760" cy="11095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7"/>
          <p:cNvSpPr/>
          <p:nvPr/>
        </p:nvSpPr>
        <p:spPr>
          <a:xfrm rot="1179000">
            <a:off x="1836720" y="35370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низ 8"/>
          <p:cNvSpPr/>
          <p:nvPr/>
        </p:nvSpPr>
        <p:spPr>
          <a:xfrm>
            <a:off x="6858000" y="13572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трелка вниз 9"/>
          <p:cNvSpPr/>
          <p:nvPr/>
        </p:nvSpPr>
        <p:spPr>
          <a:xfrm>
            <a:off x="2714760" y="13572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трелка вниз 10"/>
          <p:cNvSpPr/>
          <p:nvPr/>
        </p:nvSpPr>
        <p:spPr>
          <a:xfrm rot="20226000">
            <a:off x="3924360" y="353808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234000" y="214200"/>
            <a:ext cx="875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Большие пространства ровной или слегка холм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поверхности суши называются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равнинами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. Есл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равнине нет возвышений и понижений, то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называют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ло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C:\Users\Helen\Desktop\временная\равновесие\равнина.jpg"/>
          <p:cNvPicPr/>
          <p:nvPr/>
        </p:nvPicPr>
        <p:blipFill>
          <a:blip r:embed="rId1"/>
          <a:stretch/>
        </p:blipFill>
        <p:spPr>
          <a:xfrm>
            <a:off x="1042920" y="1268280"/>
            <a:ext cx="7346880" cy="5956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1"/>
          <p:cNvSpPr/>
          <p:nvPr/>
        </p:nvSpPr>
        <p:spPr>
          <a:xfrm>
            <a:off x="237960" y="214200"/>
            <a:ext cx="87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Очень часто на равнинах встречаются холмы. Та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равнину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холмистой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. Каждый холм предста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ляет собой возвышение над поверхностью с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Helen\Desktop\временная\равновесие\0_77ce_777b91c4_L.jpg"/>
          <p:cNvPicPr/>
          <p:nvPr/>
        </p:nvPicPr>
        <p:blipFill>
          <a:blip r:embed="rId1"/>
          <a:stretch/>
        </p:blipFill>
        <p:spPr>
          <a:xfrm>
            <a:off x="974880" y="1316160"/>
            <a:ext cx="7083360" cy="5743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1"/>
          <p:cNvSpPr/>
          <p:nvPr/>
        </p:nvSpPr>
        <p:spPr>
          <a:xfrm>
            <a:off x="1057320" y="357120"/>
            <a:ext cx="722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 холма различают подошву, склон, вер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есяц 2"/>
          <p:cNvSpPr/>
          <p:nvPr/>
        </p:nvSpPr>
        <p:spPr>
          <a:xfrm rot="5400000">
            <a:off x="2249640" y="1464120"/>
            <a:ext cx="4786200" cy="600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75" y="2323"/>
                  <a:pt x="12950" y="5080"/>
                  <a:pt x="12950" y="10800"/>
                </a:cubicBezTo>
                <a:cubicBezTo>
                  <a:pt x="12950" y="16520"/>
                  <a:pt x="17275" y="19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solidFill>
            <a:srgbClr val="948a54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"/>
          <p:cNvSpPr/>
          <p:nvPr/>
        </p:nvSpPr>
        <p:spPr>
          <a:xfrm>
            <a:off x="7362720" y="5072040"/>
            <a:ext cx="1541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до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7"/>
          <p:cNvSpPr/>
          <p:nvPr/>
        </p:nvSpPr>
        <p:spPr>
          <a:xfrm>
            <a:off x="218880" y="5072040"/>
            <a:ext cx="1541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до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8"/>
          <p:cNvSpPr/>
          <p:nvPr/>
        </p:nvSpPr>
        <p:spPr>
          <a:xfrm>
            <a:off x="3864240" y="16430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9"/>
          <p:cNvSpPr/>
          <p:nvPr/>
        </p:nvSpPr>
        <p:spPr>
          <a:xfrm rot="18273000">
            <a:off x="1770120" y="29743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0"/>
          <p:cNvSpPr/>
          <p:nvPr/>
        </p:nvSpPr>
        <p:spPr>
          <a:xfrm rot="3102000">
            <a:off x="6405120" y="290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"/>
          <p:cNvSpPr/>
          <p:nvPr/>
        </p:nvSpPr>
        <p:spPr>
          <a:xfrm>
            <a:off x="214200" y="28584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Низменности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 —  это участки суши значительных размеров  и  высотой не более 200 м над уровнем океана. Низменности на картах обозначают  зелё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"/>
          <p:cNvSpPr/>
          <p:nvPr/>
        </p:nvSpPr>
        <p:spPr>
          <a:xfrm>
            <a:off x="7143840" y="1714680"/>
            <a:ext cx="1785960" cy="1714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C:\Users\Helen\Desktop\временная\равновесие\низм.jpg"/>
          <p:cNvPicPr/>
          <p:nvPr/>
        </p:nvPicPr>
        <p:blipFill>
          <a:blip r:embed="rId1"/>
          <a:stretch/>
        </p:blipFill>
        <p:spPr>
          <a:xfrm>
            <a:off x="487440" y="1620720"/>
            <a:ext cx="6711840" cy="5450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14200" y="3571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озвы́шенность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 — участок земной поверхности, характеризующийся приподнятостью над уровнем моря  на  200 - 500 м. Их обозначают жёлт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"/>
          <p:cNvSpPr/>
          <p:nvPr/>
        </p:nvSpPr>
        <p:spPr>
          <a:xfrm>
            <a:off x="6715080" y="1928880"/>
            <a:ext cx="2000160" cy="2000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C:\Users\Helen\Desktop\временная\равновесие\Волдайская возвышенность.jpg"/>
          <p:cNvPicPr/>
          <p:nvPr/>
        </p:nvPicPr>
        <p:blipFill>
          <a:blip r:embed="rId1"/>
          <a:stretch/>
        </p:blipFill>
        <p:spPr>
          <a:xfrm>
            <a:off x="66600" y="1627200"/>
            <a:ext cx="6394680" cy="51944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4"/>
          <p:cNvSpPr/>
          <p:nvPr/>
        </p:nvSpPr>
        <p:spPr>
          <a:xfrm>
            <a:off x="4371120" y="6143760"/>
            <a:ext cx="46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олдайская  возвыш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1"/>
          <p:cNvSpPr/>
          <p:nvPr/>
        </p:nvSpPr>
        <p:spPr>
          <a:xfrm>
            <a:off x="230400" y="142920"/>
            <a:ext cx="86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Есть такие равнины , высота которых  над уров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океана  более 500 м.Они называются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лоскогорьями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На картах плоскогорья отмечаются разными отте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коричнев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2"/>
          <p:cNvSpPr/>
          <p:nvPr/>
        </p:nvSpPr>
        <p:spPr>
          <a:xfrm>
            <a:off x="7143840" y="3714840"/>
            <a:ext cx="1785960" cy="1714320"/>
          </a:xfrm>
          <a:prstGeom prst="ellipse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4"/>
          <p:cNvSpPr/>
          <p:nvPr/>
        </p:nvSpPr>
        <p:spPr>
          <a:xfrm>
            <a:off x="7143840" y="1857240"/>
            <a:ext cx="1785960" cy="17146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C:\Users\Helen\Desktop\временная\равновесие\плоск.jpg"/>
          <p:cNvPicPr/>
          <p:nvPr/>
        </p:nvPicPr>
        <p:blipFill>
          <a:blip r:embed="rId1"/>
          <a:stretch/>
        </p:blipFill>
        <p:spPr>
          <a:xfrm>
            <a:off x="341280" y="1542960"/>
            <a:ext cx="6754680" cy="5491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"/>
          <p:cNvSpPr/>
          <p:nvPr/>
        </p:nvSpPr>
        <p:spPr>
          <a:xfrm>
            <a:off x="2712960" y="357120"/>
            <a:ext cx="381996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Горы бываю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Схема 2" descr=""/>
          <p:cNvPicPr/>
          <p:nvPr/>
        </p:nvPicPr>
        <p:blipFill>
          <a:blip r:embed="rId1"/>
          <a:stretch/>
        </p:blipFill>
        <p:spPr>
          <a:xfrm>
            <a:off x="1054080" y="1341360"/>
            <a:ext cx="7035840" cy="4821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34280" y="214200"/>
            <a:ext cx="908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В нашей стране горы занимают большие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Каждая гора, как и холм, имеет подошву, скло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вершину. Но в отличии от холмов,  горы поднимаютс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Arial"/>
              </a:rPr>
              <a:t>сотни тысячи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Равнобедренный треугольник 2"/>
          <p:cNvSpPr/>
          <p:nvPr/>
        </p:nvSpPr>
        <p:spPr>
          <a:xfrm>
            <a:off x="1643040" y="2071800"/>
            <a:ext cx="5786640" cy="4786200"/>
          </a:xfrm>
          <a:prstGeom prst="triangle">
            <a:avLst>
              <a:gd name="adj" fmla="val 504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433440" y="57862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до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7005600" y="57862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до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6"/>
          <p:cNvSpPr/>
          <p:nvPr/>
        </p:nvSpPr>
        <p:spPr>
          <a:xfrm rot="18140400">
            <a:off x="2442960" y="39204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7"/>
          <p:cNvSpPr/>
          <p:nvPr/>
        </p:nvSpPr>
        <p:spPr>
          <a:xfrm rot="3400800">
            <a:off x="5314680" y="35618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8"/>
          <p:cNvSpPr/>
          <p:nvPr/>
        </p:nvSpPr>
        <p:spPr>
          <a:xfrm>
            <a:off x="3864240" y="1785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7:30:58Z</dcterms:created>
  <dc:creator>Helen</dc:creator>
  <dc:description/>
  <dc:language>en-US</dc:language>
  <cp:lastModifiedBy>Марина Лепендина</cp:lastModifiedBy>
  <dcterms:modified xsi:type="dcterms:W3CDTF">2017-12-29T11:27:16Z</dcterms:modified>
  <cp:revision>79</cp:revision>
  <dc:subject/>
  <dc:title>Слайд 1</dc:title>
</cp:coreProperties>
</file>