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7.png" ContentType="image/png"/>
  <Override PartName="/ppt/media/image34.jpeg" ContentType="image/jpeg"/>
  <Override PartName="/ppt/media/image2.jpeg" ContentType="image/jpeg"/>
  <Override PartName="/ppt/media/image20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ffffff"/>
                </a:solidFill>
                <a:latin typeface="Dark Couri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Dark Courier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ffffff"/>
                </a:solidFill>
                <a:latin typeface="Dark Couri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1D4E-F6D6-4091-997D-81EF83D5AA4F}" type="slidenum">
              <a:rPr b="1" i="1" lang="ru-RU" sz="1200" spc="-1" strike="noStrike">
                <a:solidFill>
                  <a:srgbClr val="ffffff"/>
                </a:solidFill>
                <a:latin typeface="Dark Courier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A07-55CA-4EF4-A0E5-004CF3CDEB2C}" type="slidenum">
              <a:rPr b="1" i="1" lang="ru-RU" sz="1200" spc="-1" strike="noStrike">
                <a:solidFill>
                  <a:srgbClr val="ffffff"/>
                </a:solidFill>
                <a:latin typeface="Dark Courier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114-BC57-462C-BA4A-B55C17F5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697-F2C6-443F-A348-DCE8DE68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DE2-68AD-4C75-AA77-43B4FC2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901-BF36-40E8-8CBC-7A62DF33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4CF-D343-4924-977D-6C9015B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FB0-1E36-4621-96E7-A8D1D7F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D8B-D340-4924-9B2C-E4F0C833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50E-17AA-41DD-8462-918CBED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A7F-BDFF-4DA4-B37D-B65F5162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928-3BB8-4775-B5E7-447D594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FEA-DEF1-4465-99CD-DC1732F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D06-A113-490D-A8E4-B23C7DC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43E-8ADB-4BA6-B583-C0C60146E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lker.com/search/people" TargetMode="External"/><Relationship Id="rId2" Type="http://schemas.openxmlformats.org/officeDocument/2006/relationships/hyperlink" Target="http://images.yandex.ru/yandsearch" TargetMode="External"/><Relationship Id="rId3" Type="http://schemas.openxmlformats.org/officeDocument/2006/relationships/hyperlink" Target="http://fotki.yandex.ru/users/natali" TargetMode="External"/><Relationship Id="rId4" Type="http://schemas.openxmlformats.org/officeDocument/2006/relationships/hyperlink" Target="http://www.david-grashoff.de/wordpress/old-television-vector" TargetMode="External"/><Relationship Id="rId5" Type="http://schemas.openxmlformats.org/officeDocument/2006/relationships/hyperlink" Target="http://hollywoodbollywood.co.in/hoadmin/clip-art-vase" TargetMode="External"/><Relationship Id="rId6" Type="http://schemas.openxmlformats.org/officeDocument/2006/relationships/hyperlink" Target="http://www.clipartguide.com/_search_terms/bathroom_3" TargetMode="External"/><Relationship Id="rId7" Type="http://schemas.openxmlformats.org/officeDocument/2006/relationships/hyperlink" Target="http://vector.me/search/bed" TargetMode="External"/><Relationship Id="rId8" Type="http://schemas.openxmlformats.org/officeDocument/2006/relationships/hyperlink" Target="http://www.freebievectors.com/ru/vektornaja-grafika/17171/biblioteka-knig-pokupok-kartinki/" TargetMode="External"/><Relationship Id="rId9" Type="http://schemas.openxmlformats.org/officeDocument/2006/relationships/hyperlink" Target="http://en.clipart-fr.com/clipart_pictures.php?id=17987" TargetMode="External"/><Relationship Id="rId10" Type="http://schemas.openxmlformats.org/officeDocument/2006/relationships/hyperlink" Target="http://en.clipart-fr.com/Clipart/Furnitures/Furnitures-cliparts-17.php" TargetMode="External"/><Relationship Id="rId11" Type="http://schemas.openxmlformats.org/officeDocument/2006/relationships/hyperlink" Target="http://vovika.clan.su/blog/skachat_klipart_dlja_fotoshop_vektornyj_klipart_besplatnye_kliparty/2014-02-06-33" TargetMode="External"/><Relationship Id="rId12" Type="http://schemas.openxmlformats.org/officeDocument/2006/relationships/hyperlink" Target="http://900igr.net/kartinki/izo/Dizajn-interera/Dizajn-interera.html" TargetMode="External"/><Relationship Id="rId13" Type="http://schemas.openxmlformats.org/officeDocument/2006/relationships/hyperlink" Target="http://ru.vector.me/search/oven" TargetMode="External"/><Relationship Id="rId14" Type="http://schemas.openxmlformats.org/officeDocument/2006/relationships/hyperlink" Target="http://printablecolouringpages.co.uk/?s=bath+sink" TargetMode="External"/><Relationship Id="rId15" Type="http://schemas.openxmlformats.org/officeDocument/2006/relationships/hyperlink" Target="http://ru.123rf.com/photo_9503772_white-curtain-texture.html" TargetMode="External"/><Relationship Id="rId16" Type="http://schemas.openxmlformats.org/officeDocument/2006/relationships/hyperlink" Target="http://www.clker.com/clipart-25460.html" TargetMode="External"/><Relationship Id="rId17" Type="http://schemas.openxmlformats.org/officeDocument/2006/relationships/hyperlink" Target="http://ru.clipartlogo.com/free/compost-bin-wooden.html" TargetMode="External"/><Relationship Id="rId18" Type="http://schemas.openxmlformats.org/officeDocument/2006/relationships/hyperlink" Target="http://www.clipartsfree.net/clipart/5044-windows-behind-radiator-clipart.html" TargetMode="External"/><Relationship Id="rId19" Type="http://schemas.openxmlformats.org/officeDocument/2006/relationships/hyperlink" Target="http://www.freeclipartnow.com/household/kitchen/kitchen.jpg.html" TargetMode="External"/><Relationship Id="rId20" Type="http://schemas.openxmlformats.org/officeDocument/2006/relationships/hyperlink" Target="http://nn.blizko.ru/products/kukhnya_zolotaya_2774844" TargetMode="External"/><Relationship Id="rId21" Type="http://schemas.openxmlformats.org/officeDocument/2006/relationships/hyperlink" Target="http://www.dekorasirumahminimalis.com/small-dining-room-designs-dining.html" TargetMode="External"/><Relationship Id="rId22" Type="http://schemas.openxmlformats.org/officeDocument/2006/relationships/hyperlink" Target="http://www.homeartblog.com/feng-shui-in-living-room/" TargetMode="External"/><Relationship Id="rId23" Type="http://schemas.openxmlformats.org/officeDocument/2006/relationships/hyperlink" Target="http://www.hypevilla.com/bath-room/gorgeous-bath-room-home-interior-design-ideas" TargetMode="External"/><Relationship Id="rId24" Type="http://schemas.openxmlformats.org/officeDocument/2006/relationships/hyperlink" Target="http://www.gm55.ru/product-fotos-innk-KK00EQ3D-mebel-dlya-detskoy-komnaty-dlya-prihozhey-v-assortimente-izgotov-image-1.html" TargetMode="External"/><Relationship Id="rId25" Type="http://schemas.openxmlformats.org/officeDocument/2006/relationships/hyperlink" Target="http://www.gold-textile.ru/catalog/item66.html" TargetMode="External"/><Relationship Id="rId26" Type="http://schemas.openxmlformats.org/officeDocument/2006/relationships/hyperlink" Target="http://ru.fotolia.com/id/28175564" TargetMode="External"/><Relationship Id="rId27" Type="http://schemas.openxmlformats.org/officeDocument/2006/relationships/hyperlink" Target="http://www.picstopin.com/450/door-4-clip-art/" TargetMode="External"/><Relationship Id="rId28" Type="http://schemas.openxmlformats.org/officeDocument/2006/relationships/hyperlink" Target="http://galleryhip.com/artist-painting-on-canvas.html" TargetMode="External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22400"/>
            <a:ext cx="753264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езентация по теме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me, sweet home!”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чебник В.П. Кузовлева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6 класс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892_0"/>
          <p:cNvPicPr/>
          <p:nvPr/>
        </p:nvPicPr>
        <p:blipFill>
          <a:blip r:embed="rId1"/>
          <a:stretch/>
        </p:blipFill>
        <p:spPr>
          <a:xfrm>
            <a:off x="324000" y="0"/>
            <a:ext cx="8340480" cy="5805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3564000" y="6021360"/>
            <a:ext cx="1419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a hal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91e99cf5b6d452a9a407abb59d5c170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2700360" y="6165720"/>
            <a:ext cx="3029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Georgia"/>
              </a:rPr>
              <a:t>a bathroo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1692360" y="115920"/>
            <a:ext cx="5743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What is there in the room?</a:t>
            </a:r>
            <a:endParaRPr b="1" i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34320" y="10526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living room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45960" y="1052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kitchen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886080" y="105264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bedroom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1908000" y="3573360"/>
            <a:ext cx="5183280" cy="3022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4069800" y="5300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bed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002840" y="37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sofa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222280" y="443700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n armchair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834800" y="40053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TV set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587200" y="44370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fridge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016880" y="44370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cooker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178600" y="530064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wall unit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2058120" y="486900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table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211120" y="5300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bookshelf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3217320" y="486900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running water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2782440" y="40053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cupboard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5525640" y="48690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carpet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621160" y="56610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wardrobe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4686120" y="56610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DVD player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4010400" y="609300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a desk</a:t>
            </a:r>
            <a:endParaRPr b="1" i="1" lang="en-US" sz="20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91" name="Picture 28" descr="748"/>
          <p:cNvPicPr/>
          <p:nvPr/>
        </p:nvPicPr>
        <p:blipFill>
          <a:blip r:embed="rId1"/>
          <a:stretch/>
        </p:blipFill>
        <p:spPr>
          <a:xfrm>
            <a:off x="395280" y="4437000"/>
            <a:ext cx="2585880" cy="199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9" descr="1992"/>
          <p:cNvPicPr/>
          <p:nvPr/>
        </p:nvPicPr>
        <p:blipFill>
          <a:blip r:embed="rId2"/>
          <a:stretch/>
        </p:blipFill>
        <p:spPr>
          <a:xfrm>
            <a:off x="6156360" y="443700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img008"/>
          <p:cNvPicPr/>
          <p:nvPr/>
        </p:nvPicPr>
        <p:blipFill>
          <a:blip r:embed="rId3"/>
          <a:stretch/>
        </p:blipFill>
        <p:spPr>
          <a:xfrm>
            <a:off x="3203640" y="4508640"/>
            <a:ext cx="2663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4997 L -0.31962 -0.3331 E">
                                      <p:cBhvr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22 -0.08143 L 0.11563 -0.3752 E">
                                      <p:cBhvr>
                                        <p:cTn id="8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-0.06038 L -0.42326 -0.32269 E">
                                      <p:cBhvr>
                                        <p:cTn id="8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 -0.09184 L -0.16077 -0.33311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6038 L 0.00695 -0.38561 E">
                                      <p:cBhvr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79 -0.08143 L -0.15903 -0.3227 E">
                                      <p:cBhvr>
                                        <p:cTn id="9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71 -0.0812 L 0.23299 -0.33311 E">
                                      <p:cBhvr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86 -0.04974 L 0.04548 -0.29124 E">
                                      <p:cBhvr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7 -0.02892 L -0.4941 -0.34375 E">
                                      <p:cBhvr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1828 L 0.49844 -0.56396 E">
                                      <p:cBhvr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0764 L 0.33004 -0.51145 E">
                                      <p:cBhvr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01828 L -0.47205 -0.35416 E">
                                      <p:cBhvr>
                                        <p:cTn id="1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1828 L 0.43889 -0.51146 E">
                                      <p:cBhvr>
                                        <p:cTn id="12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82 -0.02892 L -0.43455 -0.34375 E">
                                      <p:cBhvr>
                                        <p:cTn id="12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6 -0.00786 L 0.32187 -0.52209 E">
                                      <p:cBhvr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31840" y="1000080"/>
            <a:ext cx="71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Make up a story. Replace the pictures by the words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1536840"/>
            <a:ext cx="89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have a nice living-room. It is light and comfortable.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96" name="Picture 8" descr="hlnmikrveyh-nrdq"/>
          <p:cNvPicPr/>
          <p:nvPr/>
        </p:nvPicPr>
        <p:blipFill>
          <a:blip r:embed="rId1"/>
          <a:stretch/>
        </p:blipFill>
        <p:spPr>
          <a:xfrm>
            <a:off x="3203640" y="2060640"/>
            <a:ext cx="846000" cy="8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329040" y="2133720"/>
            <a:ext cx="27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is only one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074840" y="21337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beautiful               on it,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063240" y="292428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is a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284720" y="3716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          and a                in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08240" y="4365720"/>
            <a:ext cx="85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room. There is a big               on the floor. But there is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02" name="Picture 20" descr="127144b"/>
          <p:cNvPicPr/>
          <p:nvPr/>
        </p:nvPicPr>
        <p:blipFill>
          <a:blip r:embed="rId2"/>
          <a:stretch/>
        </p:blipFill>
        <p:spPr>
          <a:xfrm>
            <a:off x="4067280" y="4365720"/>
            <a:ext cx="995400" cy="576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1"/>
          <p:cNvSpPr/>
          <p:nvPr/>
        </p:nvSpPr>
        <p:spPr>
          <a:xfrm>
            <a:off x="406080" y="486900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carpet on the walls. There are some                on the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04" name="Picture 22" descr="1209184724"/>
          <p:cNvPicPr/>
          <p:nvPr/>
        </p:nvPicPr>
        <p:blipFill>
          <a:blip r:embed="rId3"/>
          <a:stretch/>
        </p:blipFill>
        <p:spPr>
          <a:xfrm>
            <a:off x="6372360" y="4797360"/>
            <a:ext cx="107604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3"/>
          <p:cNvSpPr/>
          <p:nvPr/>
        </p:nvSpPr>
        <p:spPr>
          <a:xfrm>
            <a:off x="335160" y="5445000"/>
            <a:ext cx="85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lls. I like to watch TV in the living-room and to play or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lk with my parents in the evening there.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06" name="Picture 25" descr="413e1ba8d85d"/>
          <p:cNvPicPr/>
          <p:nvPr/>
        </p:nvPicPr>
        <p:blipFill>
          <a:blip r:embed="rId4"/>
          <a:stretch/>
        </p:blipFill>
        <p:spPr>
          <a:xfrm>
            <a:off x="2627280" y="3645000"/>
            <a:ext cx="1440000" cy="614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6"/>
          <p:cNvSpPr/>
          <p:nvPr/>
        </p:nvSpPr>
        <p:spPr>
          <a:xfrm>
            <a:off x="330120" y="292428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t it’s very large.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08" name="Picture 27" descr="65366905_023240182_yapfiles"/>
          <p:cNvPicPr/>
          <p:nvPr/>
        </p:nvPicPr>
        <p:blipFill>
          <a:blip r:embed="rId5"/>
          <a:stretch/>
        </p:blipFill>
        <p:spPr>
          <a:xfrm>
            <a:off x="6372360" y="1989000"/>
            <a:ext cx="1079280" cy="912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3"/>
          <p:cNvSpPr/>
          <p:nvPr/>
        </p:nvSpPr>
        <p:spPr>
          <a:xfrm>
            <a:off x="8382600" y="2948040"/>
            <a:ext cx="3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1910520" y="37162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a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3995640" y="3716280"/>
            <a:ext cx="4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12" name="Picture 39" descr="yellow-arm-chair-md"/>
          <p:cNvPicPr/>
          <p:nvPr/>
        </p:nvPicPr>
        <p:blipFill>
          <a:blip r:embed="rId6"/>
          <a:stretch/>
        </p:blipFill>
        <p:spPr>
          <a:xfrm>
            <a:off x="5003640" y="3645000"/>
            <a:ext cx="752760" cy="734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1"/>
          <p:cNvSpPr/>
          <p:nvPr/>
        </p:nvSpPr>
        <p:spPr>
          <a:xfrm>
            <a:off x="6088680" y="29242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ar the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14" name="Picture 42" descr="12279751661106160541rg1024_Door"/>
          <p:cNvPicPr/>
          <p:nvPr/>
        </p:nvPicPr>
        <p:blipFill>
          <a:blip r:embed="rId7"/>
          <a:stretch/>
        </p:blipFill>
        <p:spPr>
          <a:xfrm>
            <a:off x="7596360" y="2637000"/>
            <a:ext cx="796680" cy="1079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3"/>
          <p:cNvSpPr/>
          <p:nvPr/>
        </p:nvSpPr>
        <p:spPr>
          <a:xfrm>
            <a:off x="470520" y="3716280"/>
            <a:ext cx="3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16" name="Picture 44" descr="11954323521856010813Machovka_Livingwall"/>
          <p:cNvPicPr/>
          <p:nvPr/>
        </p:nvPicPr>
        <p:blipFill>
          <a:blip r:embed="rId8"/>
          <a:stretch/>
        </p:blipFill>
        <p:spPr>
          <a:xfrm>
            <a:off x="4788000" y="2565360"/>
            <a:ext cx="1117440" cy="9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5" descr="1197092316461606391get8k_LCD_Widescreen_Monitor"/>
          <p:cNvPicPr/>
          <p:nvPr/>
        </p:nvPicPr>
        <p:blipFill>
          <a:blip r:embed="rId9"/>
          <a:stretch/>
        </p:blipFill>
        <p:spPr>
          <a:xfrm>
            <a:off x="785880" y="3357720"/>
            <a:ext cx="1224000" cy="103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6" descr="0fb446c2a796d08596361250544901ff"/>
          <p:cNvPicPr/>
          <p:nvPr/>
        </p:nvPicPr>
        <p:blipFill>
          <a:blip r:embed="rId10"/>
          <a:stretch/>
        </p:blipFill>
        <p:spPr>
          <a:xfrm>
            <a:off x="6715080" y="3714840"/>
            <a:ext cx="1011240" cy="6984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0" descr=""/>
          <p:cNvPicPr/>
          <p:nvPr/>
        </p:nvPicPr>
        <p:blipFill>
          <a:blip r:embed="rId11"/>
          <a:stretch/>
        </p:blipFill>
        <p:spPr>
          <a:xfrm>
            <a:off x="1590840" y="103320"/>
            <a:ext cx="497520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619280" y="115920"/>
            <a:ext cx="5810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Do you know this items?</a:t>
            </a:r>
            <a:endParaRPr b="1" i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121" name="Picture 5" descr="1-1-2"/>
          <p:cNvPicPr/>
          <p:nvPr/>
        </p:nvPicPr>
        <p:blipFill>
          <a:blip r:embed="rId1"/>
          <a:stretch/>
        </p:blipFill>
        <p:spPr>
          <a:xfrm>
            <a:off x="250920" y="765000"/>
            <a:ext cx="1201680" cy="1700280"/>
          </a:xfrm>
          <a:prstGeom prst="rect">
            <a:avLst/>
          </a:prstGeom>
          <a:ln w="0">
            <a:noFill/>
          </a:ln>
        </p:spPr>
      </p:pic>
      <p:sp>
        <p:nvSpPr>
          <p:cNvPr id="122" name="Oval 6"/>
          <p:cNvSpPr/>
          <p:nvPr/>
        </p:nvSpPr>
        <p:spPr>
          <a:xfrm>
            <a:off x="1187280" y="692280"/>
            <a:ext cx="287640" cy="288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419640" y="907920"/>
            <a:ext cx="288720" cy="287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148360" y="836640"/>
            <a:ext cx="287280" cy="287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1835280" y="292428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6804000" y="836640"/>
            <a:ext cx="287280" cy="28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3708360" y="2924280"/>
            <a:ext cx="287280" cy="287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8388360" y="836640"/>
            <a:ext cx="28728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8317080" y="2997360"/>
            <a:ext cx="287280" cy="287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5940360" y="299736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34560" y="4506840"/>
            <a:ext cx="33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1. central heating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96120" y="494172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2. a refrigerator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205920" y="530064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3. curtains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224280" y="57340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4. a cooke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4192560" y="450684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5. a chai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4052520" y="48690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6. a DVD playe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3898800" y="522936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7. running wate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4075560" y="558972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8. a desk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3985200" y="602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Doulos SIL"/>
              </a:rPr>
              <a:t>9. a bookshelf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40" name="Picture 44" descr="9852f5b605bb"/>
          <p:cNvPicPr/>
          <p:nvPr/>
        </p:nvPicPr>
        <p:blipFill>
          <a:blip r:embed="rId2"/>
          <a:stretch/>
        </p:blipFill>
        <p:spPr>
          <a:xfrm>
            <a:off x="2195640" y="2781360"/>
            <a:ext cx="1377720" cy="158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12307222151350242235fridge_with_food_jhelebrant"/>
          <p:cNvPicPr/>
          <p:nvPr/>
        </p:nvPicPr>
        <p:blipFill>
          <a:blip r:embed="rId3"/>
          <a:stretch/>
        </p:blipFill>
        <p:spPr>
          <a:xfrm>
            <a:off x="1547640" y="836640"/>
            <a:ext cx="1892520" cy="160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9" descr="stove-md"/>
          <p:cNvPicPr/>
          <p:nvPr/>
        </p:nvPicPr>
        <p:blipFill>
          <a:blip r:embed="rId4"/>
          <a:stretch/>
        </p:blipFill>
        <p:spPr>
          <a:xfrm>
            <a:off x="5435640" y="907920"/>
            <a:ext cx="1460520" cy="1774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1" descr="e7e5f3a4c542"/>
          <p:cNvPicPr/>
          <p:nvPr/>
        </p:nvPicPr>
        <p:blipFill>
          <a:blip r:embed="rId5"/>
          <a:stretch/>
        </p:blipFill>
        <p:spPr>
          <a:xfrm>
            <a:off x="7164360" y="765000"/>
            <a:ext cx="1231920" cy="192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an-office-desk-md"/>
          <p:cNvPicPr/>
          <p:nvPr/>
        </p:nvPicPr>
        <p:blipFill>
          <a:blip r:embed="rId6"/>
          <a:stretch/>
        </p:blipFill>
        <p:spPr>
          <a:xfrm>
            <a:off x="3924360" y="3068640"/>
            <a:ext cx="201780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3" descr="bookshelf"/>
          <p:cNvPicPr/>
          <p:nvPr/>
        </p:nvPicPr>
        <p:blipFill>
          <a:blip r:embed="rId7"/>
          <a:stretch/>
        </p:blipFill>
        <p:spPr>
          <a:xfrm>
            <a:off x="6372360" y="2997360"/>
            <a:ext cx="1800000" cy="1326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6" descr="0_cdc38_cd0c893d_M"/>
          <p:cNvPicPr/>
          <p:nvPr/>
        </p:nvPicPr>
        <p:blipFill>
          <a:blip r:embed="rId8"/>
          <a:stretch/>
        </p:blipFill>
        <p:spPr>
          <a:xfrm>
            <a:off x="250920" y="2781360"/>
            <a:ext cx="176364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9" descr="gl_okna"/>
          <p:cNvPicPr/>
          <p:nvPr/>
        </p:nvPicPr>
        <p:blipFill>
          <a:blip r:embed="rId9"/>
          <a:stretch/>
        </p:blipFill>
        <p:spPr>
          <a:xfrm>
            <a:off x="3780000" y="83664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2812752925553"/>
          <p:cNvPicPr/>
          <p:nvPr/>
        </p:nvPicPr>
        <p:blipFill>
          <a:blip r:embed="rId1"/>
          <a:stretch/>
        </p:blipFill>
        <p:spPr>
          <a:xfrm>
            <a:off x="0" y="0"/>
            <a:ext cx="6041880" cy="453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5609880" y="0"/>
            <a:ext cx="39938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Doulos SIL"/>
              </a:rPr>
              <a:t>   </a:t>
            </a: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Look at this  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     </a:t>
            </a: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picture and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describe the room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Doulos SIL"/>
              </a:rPr>
              <a:t>Use the prepositions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300720" y="2492280"/>
            <a:ext cx="25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between    </a:t>
            </a: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nea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in the middle of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in front of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    in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above 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opposite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on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 next to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7308720" y="198900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-75600" y="45799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in the corner of the room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25000" y="5037120"/>
            <a:ext cx="247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Doulos SIL"/>
              </a:rPr>
              <a:t>There is ..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Doulos SIL"/>
              </a:rPr>
              <a:t>There are..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227640" y="4869000"/>
            <a:ext cx="2592360" cy="1628640"/>
          </a:xfrm>
          <a:prstGeom prst="irregularSeal2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6659640" y="5300640"/>
            <a:ext cx="1495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well done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609880" y="0"/>
            <a:ext cx="39938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Doulos SIL"/>
              </a:rPr>
              <a:t>   </a:t>
            </a: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Look at this  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     </a:t>
            </a: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picture and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Doulos SIL"/>
              </a:rPr>
              <a:t>describe the room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Doulos SIL"/>
              </a:rPr>
              <a:t>Use the prepositions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300720" y="2492280"/>
            <a:ext cx="25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between    </a:t>
            </a: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near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in the middle of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in front of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    in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above 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opposite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Doulos SIL"/>
              </a:rPr>
              <a:t>on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 next to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7308720" y="198900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75600" y="45799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in the corner of the room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5000" y="5037120"/>
            <a:ext cx="247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Doulos SIL"/>
              </a:rPr>
              <a:t>There is ..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Doulos SIL"/>
              </a:rPr>
              <a:t>There are...</a:t>
            </a:r>
            <a:endParaRPr b="1" i="1" lang="en-US" sz="32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35280" y="5013360"/>
            <a:ext cx="2592360" cy="1628640"/>
          </a:xfrm>
          <a:prstGeom prst="irregularSeal2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62" name="WordArt 12"/>
          <p:cNvSpPr txBox="1"/>
          <p:nvPr/>
        </p:nvSpPr>
        <p:spPr>
          <a:xfrm>
            <a:off x="4140360" y="5445000"/>
            <a:ext cx="1495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well done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163" name="Picture 6" descr="feng_shui-4"/>
          <p:cNvPicPr/>
          <p:nvPr/>
        </p:nvPicPr>
        <p:blipFill>
          <a:blip r:embed="rId1"/>
          <a:stretch/>
        </p:blipFill>
        <p:spPr>
          <a:xfrm>
            <a:off x="324000" y="404640"/>
            <a:ext cx="5729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15640" y="1700280"/>
            <a:ext cx="67770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is clear tick plu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understand anythin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know more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question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03280" y="3429000"/>
          <a:ext cx="6096240" cy="2521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s clear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can’t understand anything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ant to know more 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Dark Courie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857240" y="285840"/>
            <a:ext cx="51642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Typical British house</a:t>
            </a:r>
            <a:endParaRPr b="1" i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68" name="Picture 5" descr="e5dfbaea8ead"/>
          <p:cNvPicPr/>
          <p:nvPr/>
        </p:nvPicPr>
        <p:blipFill>
          <a:blip r:embed="rId1"/>
          <a:stretch/>
        </p:blipFill>
        <p:spPr>
          <a:xfrm>
            <a:off x="539640" y="1197000"/>
            <a:ext cx="3624480" cy="271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britain30_20090904_1750779513"/>
          <p:cNvPicPr/>
          <p:nvPr/>
        </p:nvPicPr>
        <p:blipFill>
          <a:blip r:embed="rId2"/>
          <a:stretch/>
        </p:blipFill>
        <p:spPr>
          <a:xfrm>
            <a:off x="4716360" y="1197000"/>
            <a:ext cx="3595680" cy="2695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0" y="4149720"/>
            <a:ext cx="92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Doulos SIL"/>
              </a:rPr>
              <a:t>British people like their houses. “An Englishman’s home is his castle”. The English are stay-at-home people. “There is no place like home”, they say. The English  like to live in  small houses with a small garden. Everything is in order there.  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2340000" y="47628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Guess a riddl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50920" y="1341360"/>
            <a:ext cx="49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Просил её повесить шеф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Для книг она, зовётся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73" name="Picture 6" descr="0_6d942_a669ff5_L"/>
          <p:cNvPicPr/>
          <p:nvPr/>
        </p:nvPicPr>
        <p:blipFill>
          <a:blip r:embed="rId1"/>
          <a:stretch/>
        </p:blipFill>
        <p:spPr>
          <a:xfrm>
            <a:off x="6372360" y="1125360"/>
            <a:ext cx="2089080" cy="1157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324000" y="292428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Готов обед у миссис Эйбл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Гостям накрыт давно уж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75" name="Picture 8" descr="student-desk-md"/>
          <p:cNvPicPr/>
          <p:nvPr/>
        </p:nvPicPr>
        <p:blipFill>
          <a:blip r:embed="rId2"/>
          <a:stretch/>
        </p:blipFill>
        <p:spPr>
          <a:xfrm>
            <a:off x="6732720" y="2637000"/>
            <a:ext cx="1353960" cy="1177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"/>
          <p:cNvSpPr/>
          <p:nvPr/>
        </p:nvSpPr>
        <p:spPr>
          <a:xfrm>
            <a:off x="46836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Сижу на нем я прямо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Чтоб не болела шея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Он с удобной спинкой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И зовётся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77" name="Picture 12" descr="N8"/>
          <p:cNvPicPr/>
          <p:nvPr/>
        </p:nvPicPr>
        <p:blipFill>
          <a:blip r:embed="rId3"/>
          <a:stretch/>
        </p:blipFill>
        <p:spPr>
          <a:xfrm>
            <a:off x="5940360" y="40766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 is a hous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 is a hal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 are pict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 the w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 are chair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 is a doo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a warm carp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 the fl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2340000" y="40464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Guess a riddl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68360" y="1197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Стоят в нем в ряд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Джек Лондон, Чейз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Вернее, книги их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А он -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80" name="Picture 9" descr="N580"/>
          <p:cNvPicPr/>
          <p:nvPr/>
        </p:nvPicPr>
        <p:blipFill>
          <a:blip r:embed="rId1"/>
          <a:stretch/>
        </p:blipFill>
        <p:spPr>
          <a:xfrm>
            <a:off x="5435640" y="11253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395280" y="321300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После того, как закончен обед,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Всем малышам нужно go to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82" name="Picture 13" descr="f8da54f296f1"/>
          <p:cNvPicPr/>
          <p:nvPr/>
        </p:nvPicPr>
        <p:blipFill>
          <a:blip r:embed="rId2"/>
          <a:stretch/>
        </p:blipFill>
        <p:spPr>
          <a:xfrm>
            <a:off x="6300720" y="3357720"/>
            <a:ext cx="2160720" cy="1046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324000" y="479736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Вырос я, и мал мне таз, -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Моюсь я в огромной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84" name="Picture 18" descr="N311"/>
          <p:cNvPicPr/>
          <p:nvPr/>
        </p:nvPicPr>
        <p:blipFill>
          <a:blip r:embed="rId3"/>
          <a:stretch/>
        </p:blipFill>
        <p:spPr>
          <a:xfrm>
            <a:off x="6156360" y="450864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340000" y="40464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Guess a riddl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1341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Днём и ночью наш сосед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Смотрит, смотрит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87" name="Picture 6" descr="3857bbfe5e8b"/>
          <p:cNvPicPr/>
          <p:nvPr/>
        </p:nvPicPr>
        <p:blipFill>
          <a:blip r:embed="rId1"/>
          <a:stretch/>
        </p:blipFill>
        <p:spPr>
          <a:xfrm>
            <a:off x="5929200" y="57168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0"/>
          <p:cNvSpPr/>
          <p:nvPr/>
        </p:nvSpPr>
        <p:spPr>
          <a:xfrm>
            <a:off x="395280" y="3068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Для цветов стоит у вас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На столе цветная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89" name="Picture 12" descr="N881"/>
          <p:cNvPicPr/>
          <p:nvPr/>
        </p:nvPicPr>
        <p:blipFill>
          <a:blip r:embed="rId2"/>
          <a:stretch/>
        </p:blipFill>
        <p:spPr>
          <a:xfrm>
            <a:off x="4786200" y="264312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"/>
          <p:cNvSpPr/>
          <p:nvPr/>
        </p:nvSpPr>
        <p:spPr>
          <a:xfrm>
            <a:off x="324000" y="4508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Здесь всё время гам и шум: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Dark Courier"/>
              </a:rPr>
              <a:t>Это наша с братом ...</a:t>
            </a:r>
            <a:endParaRPr b="1" i="1" lang="en-US" sz="2400" spc="-1" strike="noStrike">
              <a:solidFill>
                <a:srgbClr val="ffffff"/>
              </a:solidFill>
              <a:latin typeface="Dark Courier"/>
            </a:endParaRPr>
          </a:p>
        </p:txBody>
      </p:sp>
      <p:pic>
        <p:nvPicPr>
          <p:cNvPr id="191" name="Picture 14" descr="bedroom-md"/>
          <p:cNvPicPr/>
          <p:nvPr/>
        </p:nvPicPr>
        <p:blipFill>
          <a:blip r:embed="rId3"/>
          <a:stretch/>
        </p:blipFill>
        <p:spPr>
          <a:xfrm>
            <a:off x="5643720" y="4500720"/>
            <a:ext cx="223200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418120" y="333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Doulos SI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Doulos SIL"/>
              </a:rPr>
              <a:t>Ресурсы:</a:t>
            </a:r>
            <a:endParaRPr b="1" i="1" lang="en-US" sz="2800" spc="-1" strike="noStrike">
              <a:solidFill>
                <a:srgbClr val="ffffff"/>
              </a:solidFill>
              <a:latin typeface="Dark Courier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7120" y="928800"/>
            <a:ext cx="8358120" cy="69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clker.com/search/people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images.yandex.ru/yandsearch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fotki.yandex.ru/users/natali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avid-grashoff.de/wordpress/old-television-vector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hollywoodbollywood.co.in/hoadmin/clip-art-vase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clipartguide.com/_search_terms/bathroom_3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ector.me/search/bed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freebievectors.com/ru/vektornaja-grafika/17171/biblioteka-knig-pokupok-kartinki/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en.clipart-fr.com/clipart_pictures.php?id=17987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en.clipart-fr.com/Clipart/Furnitures/Furnitures-cliparts-17.php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vovika.clan.su/blog/skachat_klipart_dlja_fotoshop_vektornyj_klipart_besplatnye_kliparty/2014-02-06-33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900igr.net/kartinki/izo/Dizajn-interera/Dizajn-interera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ru.vector.me/search/oven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printablecolouringpages.co.uk/?s=bath+sink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ru.123rf.com/photo_9503772_white-curtain-texture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http://www.clker.com/clipart-25460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tp://ru.clipartlogo.com/free/compost-bin-wooden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http://www.clipartsfree.net/clipart/5044-windows-behind-radiator-clipart.html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http://www.freeclipartnow.com/household/kitchen/kitchen.jpg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http://nn.blizko.ru/products/kukhnya_zolotaya_2774844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/>
              </a:rPr>
              <a:t>http://www.dekorasirumahminimalis.com/small-dining-room-designs-dining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2"/>
              </a:rPr>
              <a:t>http://www.homeartblog.com/feng-shui-in-living-room/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3"/>
              </a:rPr>
              <a:t>http://www.hypevilla.com/bath-room/gorgeous-bath-room-home-interior-design-ideas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4"/>
              </a:rPr>
              <a:t>http://www.gm55.ru/product-fotos-innk-KK00EQ3D-mebel-dlya-detskoy-komnaty-dlya-prihozhey-v-assortimente-izgotov-image-1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5"/>
              </a:rPr>
              <a:t>http://www.gold-textile.ru/catalog/item66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6"/>
              </a:rPr>
              <a:t>http://ru.fotolia.com/id/28175564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7"/>
              </a:rPr>
              <a:t>http://www.picstopin.com/450/door-4-clip-art/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8"/>
              </a:rPr>
              <a:t>http://galleryhip.com/artist-painting-on-canvas.html</a:t>
            </a: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alfaday.net/clipart/raster-clipart/45055-klassicheskaya-mebel.html http://www.cartoonclipartfree.com/Cliparts_Free/Buero_Free/Cartoon_Clipart_Free_Page_5.html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photobank.3vx.ru/58835-chto_takoe_plazmennyiy_televizor__tehnologiya_paketov.html http://love.rambler.ru/ru/diary/post.phtml?user_id=675425855&amp;post_id=188 </a:t>
            </a: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ffffff"/>
              </a:solidFill>
              <a:latin typeface="Dark Couri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karkasik1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karkasik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755640" y="189000"/>
            <a:ext cx="788832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Home sweet  home!</a:t>
            </a:r>
            <a:endParaRPr b="1" i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95280" y="476280"/>
            <a:ext cx="85629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at rooms are there in the house?</a:t>
            </a:r>
            <a:endParaRPr b="1" i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5" descr="f_48296baf31fe1"/>
          <p:cNvPicPr/>
          <p:nvPr/>
        </p:nvPicPr>
        <p:blipFill>
          <a:blip r:embed="rId1"/>
          <a:stretch/>
        </p:blipFill>
        <p:spPr>
          <a:xfrm>
            <a:off x="1042920" y="1268280"/>
            <a:ext cx="7128000" cy="5348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39d040b3571022ce80f9110120e85f70"/>
          <p:cNvPicPr/>
          <p:nvPr/>
        </p:nvPicPr>
        <p:blipFill>
          <a:blip r:embed="rId1"/>
          <a:stretch/>
        </p:blipFill>
        <p:spPr>
          <a:xfrm>
            <a:off x="0" y="0"/>
            <a:ext cx="9144000" cy="604692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3419640" y="6165720"/>
            <a:ext cx="24955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Georgia"/>
              </a:rPr>
              <a:t>a kitchen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OORS_stolovay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843280" y="6093000"/>
            <a:ext cx="3448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a dinning roo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feng_shui-4"/>
          <p:cNvPicPr/>
          <p:nvPr/>
        </p:nvPicPr>
        <p:blipFill>
          <a:blip r:embed="rId1"/>
          <a:stretch/>
        </p:blipFill>
        <p:spPr>
          <a:xfrm>
            <a:off x="611280" y="0"/>
            <a:ext cx="7704000" cy="601812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2484360" y="6165720"/>
            <a:ext cx="3448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Georgia"/>
              </a:rPr>
              <a:t>a living-roo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Georgia"/>
              <a:ea typeface="Georgia"/>
            </a:endParaRPr>
          </a:p>
        </p:txBody>
      </p:sp>
      <p:pic>
        <p:nvPicPr>
          <p:cNvPr id="64" name="Picture 6" descr="feng_shui-4"/>
          <p:cNvPicPr/>
          <p:nvPr/>
        </p:nvPicPr>
        <p:blipFill>
          <a:blip r:embed="rId2"/>
          <a:stretch/>
        </p:blipFill>
        <p:spPr>
          <a:xfrm>
            <a:off x="642960" y="0"/>
            <a:ext cx="770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dagio"/>
          <p:cNvPicPr/>
          <p:nvPr/>
        </p:nvPicPr>
        <p:blipFill>
          <a:blip r:embed="rId1"/>
          <a:stretch/>
        </p:blipFill>
        <p:spPr>
          <a:xfrm>
            <a:off x="250920" y="0"/>
            <a:ext cx="8567640" cy="597060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2916360" y="6165720"/>
            <a:ext cx="2409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Georgia"/>
              </a:rPr>
              <a:t>a bedroo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3:41:45Z</dcterms:created>
  <dc:creator>Наталья</dc:creator>
  <dc:description/>
  <dc:language>en-US</dc:language>
  <cp:lastModifiedBy>Чуевы</cp:lastModifiedBy>
  <dcterms:modified xsi:type="dcterms:W3CDTF">2017-12-11T15:51:03Z</dcterms:modified>
  <cp:revision>41</cp:revision>
  <dc:subject/>
  <dc:title>Слайд 1</dc:title>
</cp:coreProperties>
</file>