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8D7-AD2E-4DEB-9DF4-C08028C10B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B2C-89AA-4FC5-BAE5-CD818A169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D4A-0229-4951-A5C3-4ABFE182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A6F-B3C9-48E9-96E3-E6DCDBD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6AC-CA69-4869-9358-63985E19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EF3-8BEC-41BC-ADAC-72FCDA76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065-E1B2-4F4A-83B7-80614EB2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411-7CE6-43FE-8691-96C20D51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058-53DF-4281-A4AD-C3A8DAD4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192-0B2F-4C10-9A23-C794E9AA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819-234A-4955-9347-D003A0C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83D-EE98-41CD-B0F7-E3B6717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2DF-B866-4821-A07F-A305E7D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A81-3C36-4F76-AF67-DD14679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1FA3-CFE6-45FB-9A2D-3DFD736CEA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838080" y="685800"/>
            <a:ext cx="7239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Христианство на Руси и в России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" name="Picture 4" descr="zavit"/>
          <p:cNvPicPr/>
          <p:nvPr/>
        </p:nvPicPr>
        <p:blipFill>
          <a:blip r:embed="rId1"/>
          <a:stretch/>
        </p:blipFill>
        <p:spPr>
          <a:xfrm>
            <a:off x="685800" y="4724280"/>
            <a:ext cx="1714680" cy="1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zavit"/>
          <p:cNvPicPr/>
          <p:nvPr/>
        </p:nvPicPr>
        <p:blipFill>
          <a:blip r:embed="rId2"/>
          <a:stretch/>
        </p:blipFill>
        <p:spPr>
          <a:xfrm>
            <a:off x="1187280" y="501336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zavit"/>
          <p:cNvPicPr/>
          <p:nvPr/>
        </p:nvPicPr>
        <p:blipFill>
          <a:blip r:embed="rId3"/>
          <a:stretch/>
        </p:blipFill>
        <p:spPr>
          <a:xfrm>
            <a:off x="6300720" y="501336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zavit"/>
          <p:cNvPicPr/>
          <p:nvPr/>
        </p:nvPicPr>
        <p:blipFill>
          <a:blip r:embed="rId4"/>
          <a:stretch/>
        </p:blipFill>
        <p:spPr>
          <a:xfrm>
            <a:off x="6972480" y="4724280"/>
            <a:ext cx="1714320" cy="17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6732720" y="3213000"/>
            <a:ext cx="1562040" cy="1209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5" name="Picture 13" descr="летописец1"/>
          <p:cNvPicPr/>
          <p:nvPr/>
        </p:nvPicPr>
        <p:blipFill>
          <a:blip r:embed="rId6"/>
          <a:stretch/>
        </p:blipFill>
        <p:spPr>
          <a:xfrm>
            <a:off x="1332000" y="2997360"/>
            <a:ext cx="1276200" cy="12459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6" name="Picture 14" descr="Крещение Руси. В. М. Васнецов"/>
          <p:cNvPicPr/>
          <p:nvPr/>
        </p:nvPicPr>
        <p:blipFill>
          <a:blip r:embed="rId7"/>
          <a:stretch/>
        </p:blipFill>
        <p:spPr>
          <a:xfrm>
            <a:off x="3059280" y="2349360"/>
            <a:ext cx="2840040" cy="360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5"/>
          <p:cNvSpPr/>
          <p:nvPr/>
        </p:nvSpPr>
        <p:spPr>
          <a:xfrm>
            <a:off x="5832360" y="566100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Comic Sans MS"/>
              </a:rPr>
              <a:t>Составила учитель начальных классов Палагина Н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988 г. православное христианство стало распространяться по Руси, преображая жизнь людей и культур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ера наполня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жизнь смыс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храм шл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с гор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и с радо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Картинка 140 из 19874"/>
          <p:cNvPicPr/>
          <p:nvPr/>
        </p:nvPicPr>
        <p:blipFill>
          <a:blip r:embed="rId1"/>
          <a:stretch/>
        </p:blipFill>
        <p:spPr>
          <a:xfrm>
            <a:off x="4500720" y="2214720"/>
            <a:ext cx="4025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йди лишнее сло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Крещ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ладимир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Днепр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Картинка 289 из 10851"/>
          <p:cNvPicPr/>
          <p:nvPr/>
        </p:nvPicPr>
        <p:blipFill>
          <a:blip r:embed="rId1"/>
          <a:stretch/>
        </p:blipFill>
        <p:spPr>
          <a:xfrm>
            <a:off x="4284720" y="2143080"/>
            <a:ext cx="3930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ови ошиб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инял первым крещ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князь Дмитр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нязь Влади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ови ошиб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С принятием крещения ста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закрывать школ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вать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и разрушать це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ить це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Лови ошиб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сяк входящий в храм снимает головной убо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я в хр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жчина –снима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ной убор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нщина – оде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286000" y="24300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дравствуй, Русь: седые дал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уг и меч, копье и сер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й надежды и печал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он дубов и слезы верб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твои озера свят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ручьи твои чис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кус полыни, запах мят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– кресты, кресты, кресты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лько бед прошло над Русью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считать и не берус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низко поклонюсь 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ромолвлю: «Здравствуй, Русь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. Сан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огда нашу родину называли Русью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произошел раскол христиан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ркви на Католическую и Православную уже существовала Россия . Раньше Россия занимала меньшую территорию , чем сейчас и имела название Русь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то правил Русью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тысячи лет назад Русью правил князь Владими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язя Владимира  в народе прозвали Красным Солнышком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был мудрым правителем и опытным воином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ширил и укрепил Русь , сделал её могущественным государством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князю Владимиру прибыли пос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и ему предложили принять новую вер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имир не прочь был поискать новой веры для своего нар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князь отправил послов к своим соседя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осещение киевскими послами храма Святой Софии в Византии (Константинопол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Картинка 18 из 2328"/>
          <p:cNvPicPr/>
          <p:nvPr/>
        </p:nvPicPr>
        <p:blipFill>
          <a:blip r:embed="rId1"/>
          <a:stretch/>
        </p:blipFill>
        <p:spPr>
          <a:xfrm>
            <a:off x="714240" y="1981080"/>
            <a:ext cx="80010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ладимир сделал выбо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выбрал восточное христианство – правосла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вскоре и сам он крестил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атем началось и крещение русских людей – Крещение Рус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88 г. от Рождества Христ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Князь Владимир призвал жителей Киева креститься в реке Днеп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Картинка 38 из 10851"/>
          <p:cNvPicPr/>
          <p:nvPr/>
        </p:nvPicPr>
        <p:blipFill>
          <a:blip r:embed="rId1"/>
          <a:stretch/>
        </p:blipFill>
        <p:spPr>
          <a:xfrm>
            <a:off x="714240" y="2786040"/>
            <a:ext cx="7643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Пос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рещения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уси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князь Владим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открыл школы для дет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начал строить хра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заботился о том, чтобы никто не голода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тал милосерд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32:37Z</dcterms:created>
  <dc:creator>Тестов</dc:creator>
  <dc:description/>
  <dc:language>en-US</dc:language>
  <cp:lastModifiedBy>Comp</cp:lastModifiedBy>
  <dcterms:modified xsi:type="dcterms:W3CDTF">2016-10-21T15:16:19Z</dcterms:modified>
  <cp:revision>258</cp:revision>
  <dc:subject>Крещение Руси:Легенда и факты</dc:subject>
  <dc:title>Презентация PowerPoint</dc:title>
</cp:coreProperties>
</file>