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13.png" ContentType="image/png"/>
  <Override PartName="/ppt/media/image5.gif" ContentType="image/gif"/>
  <Override PartName="/ppt/media/image28.gif" ContentType="image/gif"/>
  <Override PartName="/ppt/media/image7.gif" ContentType="image/gif"/>
  <Override PartName="/ppt/media/image26.jpeg" ContentType="image/jpeg"/>
  <Override PartName="/ppt/media/image8.gif" ContentType="image/gif"/>
  <Override PartName="/ppt/media/image9.jpeg" ContentType="image/jpeg"/>
  <Override PartName="/ppt/media/image11.png" ContentType="image/png"/>
  <Override PartName="/ppt/media/image30.png" ContentType="image/png"/>
  <Override PartName="/ppt/media/image29.png" ContentType="image/png"/>
  <Override PartName="/ppt/media/image6.gif" ContentType="image/gif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E53-F917-41C9-95C0-C51326A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C40-9DAC-40BA-9A4E-BF2C5F4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6EC-3900-4ABD-8985-A0997F1E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A2A-D288-4EDF-83AB-F2396AC1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C73-7EDC-4BB9-84B0-E1E00D4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F55-4645-426E-B7CE-5591CDB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2F0-72D3-4E2D-B05B-066F5D8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5DE-67F6-4483-BC40-DE286614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207-C270-42D9-8CF3-815725A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C5F-CB7A-49F4-A860-7D02B5F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178-367D-4A58-9AAC-0863DA0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91C-4658-4D44-8915-93DCB5E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D05-69AA-46A7-8B39-C0B9B6149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miles.33b.ru/smile.103881.html" TargetMode="External"/><Relationship Id="rId3" Type="http://schemas.openxmlformats.org/officeDocument/2006/relationships/image" Target="../media/image3.gif"/><Relationship Id="rId4" Type="http://schemas.openxmlformats.org/officeDocument/2006/relationships/hyperlink" Target="http://smiles.33b.ru/smile.60753.html" TargetMode="External"/><Relationship Id="rId5" Type="http://schemas.openxmlformats.org/officeDocument/2006/relationships/image" Target="../media/image4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4.gif"/><Relationship Id="rId26" Type="http://schemas.openxmlformats.org/officeDocument/2006/relationships/image" Target="../media/image5.gif"/><Relationship Id="rId27" Type="http://schemas.openxmlformats.org/officeDocument/2006/relationships/image" Target="../media/image6.gif"/><Relationship Id="rId28" Type="http://schemas.openxmlformats.org/officeDocument/2006/relationships/image" Target="../media/image7.gif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s10.rimg.info/a96eaf2107f0dea9624acc8a37c2bccd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http://s4.rimg.info/06bda9bd896c26e0cc2feaaaa2232d3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s4.rimg.info/06bda9bd896c26e0cc2feaaaa2232d33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s4.rimg.info/06bda9bd896c26e0cc2feaaaa2232d33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s4.rimg.info/06bda9bd896c26e0cc2feaaaa2232d33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4.rimg.info/06bda9bd896c26e0cc2feaaaa2232d33.gif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http://s4.rimg.info/06bda9bd896c26e0cc2feaaaa2232d33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http://s4.rimg.info/06bda9bd896c26e0cc2feaaaa2232d33.gif"/>
          <p:cNvPicPr/>
          <p:nvPr/>
        </p:nvPicPr>
        <p:blipFill>
          <a:blip r:embed="rId16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://s4.rimg.info/06bda9bd896c26e0cc2feaaaa2232d33.gif"/>
          <p:cNvPicPr/>
          <p:nvPr/>
        </p:nvPicPr>
        <p:blipFill>
          <a:blip r:embed="rId17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http://s4.rimg.info/06bda9bd896c26e0cc2feaaaa2232d33.gif"/>
          <p:cNvPicPr/>
          <p:nvPr/>
        </p:nvPicPr>
        <p:blipFill>
          <a:blip r:embed="rId18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d2cb88548b80da1cbb645576ccc50fd8"/>
          <p:cNvPicPr/>
          <p:nvPr/>
        </p:nvPicPr>
        <p:blipFill>
          <a:blip r:embed="rId19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d2cb88548b80da1cbb645576ccc50fd8"/>
          <p:cNvPicPr/>
          <p:nvPr/>
        </p:nvPicPr>
        <p:blipFill>
          <a:blip r:embed="rId20"/>
          <a:stretch/>
        </p:blipFill>
        <p:spPr>
          <a:xfrm>
            <a:off x="4191120" y="6019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d2cb88548b80da1cbb645576ccc50fd8"/>
          <p:cNvPicPr/>
          <p:nvPr/>
        </p:nvPicPr>
        <p:blipFill>
          <a:blip r:embed="rId21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d2cb88548b80da1cbb645576ccc50fd8"/>
          <p:cNvPicPr/>
          <p:nvPr/>
        </p:nvPicPr>
        <p:blipFill>
          <a:blip r:embed="rId22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d2cb88548b80da1cbb645576ccc50fd8"/>
          <p:cNvPicPr/>
          <p:nvPr/>
        </p:nvPicPr>
        <p:blipFill>
          <a:blip r:embed="rId23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2cb88548b80da1cbb645576ccc50fd8"/>
          <p:cNvPicPr/>
          <p:nvPr/>
        </p:nvPicPr>
        <p:blipFill>
          <a:blip r:embed="rId24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s4.rimg.info/06bda9bd896c26e0cc2feaaaa2232d33.gif"/>
          <p:cNvPicPr/>
          <p:nvPr/>
        </p:nvPicPr>
        <p:blipFill>
          <a:blip r:embed="rId25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d2cb88548b80da1cbb645576ccc50fd8"/>
          <p:cNvPicPr/>
          <p:nvPr/>
        </p:nvPicPr>
        <p:blipFill>
          <a:blip r:embed="rId26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9b5ae8e5c6dfbaf1a66dde33fbcf085c"/>
          <p:cNvPicPr/>
          <p:nvPr/>
        </p:nvPicPr>
        <p:blipFill>
          <a:blip r:embed="rId27"/>
          <a:stretch/>
        </p:blipFill>
        <p:spPr>
          <a:xfrm>
            <a:off x="5867280" y="5638680"/>
            <a:ext cx="159084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44b2921d33c77cdaf7e2bb2aba29fdbb"/>
          <p:cNvPicPr/>
          <p:nvPr/>
        </p:nvPicPr>
        <p:blipFill>
          <a:blip r:embed="rId28"/>
          <a:stretch/>
        </p:blipFill>
        <p:spPr>
          <a:xfrm>
            <a:off x="2590920" y="5788080"/>
            <a:ext cx="1447560" cy="1069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3"/>
          <p:cNvSpPr/>
          <p:nvPr/>
        </p:nvSpPr>
        <p:spPr>
          <a:xfrm>
            <a:off x="1600200" y="1757520"/>
            <a:ext cx="624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5"/>
          <p:cNvSpPr/>
          <p:nvPr/>
        </p:nvSpPr>
        <p:spPr>
          <a:xfrm>
            <a:off x="2224440" y="2209680"/>
            <a:ext cx="476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Урок  матема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 3 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с двумя скругленными противолежащими углами 3"/>
          <p:cNvSpPr/>
          <p:nvPr/>
        </p:nvSpPr>
        <p:spPr>
          <a:xfrm>
            <a:off x="571680" y="271476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с двумя скругленными противолежащими углами 4"/>
          <p:cNvSpPr/>
          <p:nvPr/>
        </p:nvSpPr>
        <p:spPr>
          <a:xfrm>
            <a:off x="1428840" y="271476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5"/>
          <p:cNvSpPr/>
          <p:nvPr/>
        </p:nvSpPr>
        <p:spPr>
          <a:xfrm>
            <a:off x="2643120" y="264312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6"/>
          <p:cNvSpPr/>
          <p:nvPr/>
        </p:nvSpPr>
        <p:spPr>
          <a:xfrm>
            <a:off x="2643120" y="314316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с двумя скругленными противолежащими углами 7"/>
          <p:cNvSpPr/>
          <p:nvPr/>
        </p:nvSpPr>
        <p:spPr>
          <a:xfrm>
            <a:off x="3286080" y="271476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Равно 8"/>
          <p:cNvSpPr/>
          <p:nvPr/>
        </p:nvSpPr>
        <p:spPr>
          <a:xfrm>
            <a:off x="4500720" y="278604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Выгнутая вниз стрелка 10"/>
          <p:cNvSpPr/>
          <p:nvPr/>
        </p:nvSpPr>
        <p:spPr>
          <a:xfrm>
            <a:off x="857160" y="3571920"/>
            <a:ext cx="2714760" cy="642960"/>
          </a:xfrm>
          <a:custGeom>
            <a:avLst/>
            <a:gdLst>
              <a:gd name="textAreaLeft" fmla="*/ 618480 w 2714760"/>
              <a:gd name="textAreaRight" fmla="*/ 2016000 w 2714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41" hR="21600" stAng="10800000" swAng="-5400000"/>
                <a:lnTo>
                  <a:pt x="11119" y="21600"/>
                </a:lnTo>
                <a:arcTo wR="9841" hR="21600" stAng="5400000" swAng="-3627533"/>
                <a:lnTo>
                  <a:pt x="21288" y="5400"/>
                </a:lnTo>
                <a:lnTo>
                  <a:pt x="20321" y="0"/>
                </a:lnTo>
                <a:lnTo>
                  <a:pt x="18730" y="5400"/>
                </a:lnTo>
                <a:lnTo>
                  <a:pt x="19370" y="5400"/>
                </a:lnTo>
                <a:arcTo wR="9841" hR="21600" stAng="1772467" swAng="3525648"/>
                <a:lnTo>
                  <a:pt x="10480" y="21554"/>
                </a:lnTo>
                <a:arcTo wR="9841" hR="21600" stAng="5501885" swAng="5298115"/>
                <a:close/>
              </a:path>
              <a:path fill="darkenLess" w="21600" h="21600">
                <a:moveTo>
                  <a:pt x="0" y="0"/>
                </a:moveTo>
                <a:arcTo wR="9841" hR="21600" stAng="10800000" swAng="-5400000"/>
                <a:lnTo>
                  <a:pt x="11119" y="21600"/>
                </a:lnTo>
                <a:arcTo wR="9841" hR="21600" stAng="5400000" swAng="101885"/>
                <a:lnTo>
                  <a:pt x="10480" y="21554"/>
                </a:lnTo>
                <a:arcTo wR="9841" hR="21600" stAng="5501885" swAng="529811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11"/>
          <p:cNvSpPr/>
          <p:nvPr/>
        </p:nvSpPr>
        <p:spPr>
          <a:xfrm>
            <a:off x="2071800" y="4143240"/>
            <a:ext cx="214200" cy="21456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узел 12"/>
          <p:cNvSpPr/>
          <p:nvPr/>
        </p:nvSpPr>
        <p:spPr>
          <a:xfrm>
            <a:off x="2071800" y="4429080"/>
            <a:ext cx="214200" cy="214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инус 15"/>
          <p:cNvSpPr/>
          <p:nvPr/>
        </p:nvSpPr>
        <p:spPr>
          <a:xfrm rot="19749000">
            <a:off x="1580760" y="4187520"/>
            <a:ext cx="1249560" cy="450720"/>
          </a:xfrm>
          <a:custGeom>
            <a:avLst/>
            <a:gdLst>
              <a:gd name="textAreaLeft" fmla="*/ 165600 w 1249560"/>
              <a:gd name="textAreaRight" fmla="*/ 1083960 w 1249560"/>
              <a:gd name="textAreaTop" fmla="*/ 172440 h 450720"/>
              <a:gd name="textAreaBottom" fmla="*/ 278280 h 450720"/>
            </a:gdLst>
            <a:ahLst/>
            <a:rect l="textAreaLeft" t="textAreaTop" r="textAreaRight" b="textAreaBottom"/>
            <a:pathLst>
              <a:path w="1249363" h="450850">
                <a:moveTo>
                  <a:pt x="165603" y="172405"/>
                </a:moveTo>
                <a:lnTo>
                  <a:pt x="1083760" y="172405"/>
                </a:lnTo>
                <a:lnTo>
                  <a:pt x="1083760" y="278445"/>
                </a:lnTo>
                <a:lnTo>
                  <a:pt x="165603" y="27844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 flipH="1" flipV="1">
            <a:off x="1033560" y="2033640"/>
            <a:ext cx="466560" cy="68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2"/>
          <p:cNvSpPr/>
          <p:nvPr/>
        </p:nvSpPr>
        <p:spPr>
          <a:xfrm flipV="1">
            <a:off x="1500120" y="2099880"/>
            <a:ext cx="371520" cy="61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1"/>
          <p:cNvSpPr/>
          <p:nvPr/>
        </p:nvSpPr>
        <p:spPr>
          <a:xfrm>
            <a:off x="428760" y="1357200"/>
            <a:ext cx="914400" cy="914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4"/>
          <p:cNvSpPr/>
          <p:nvPr/>
        </p:nvSpPr>
        <p:spPr>
          <a:xfrm>
            <a:off x="1643040" y="1357200"/>
            <a:ext cx="914400" cy="914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Крест 28"/>
          <p:cNvSpPr/>
          <p:nvPr/>
        </p:nvSpPr>
        <p:spPr>
          <a:xfrm>
            <a:off x="6572160" y="2928960"/>
            <a:ext cx="612720" cy="6127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Organization Chart 5"/>
          <p:cNvGrpSpPr/>
          <p:nvPr/>
        </p:nvGrpSpPr>
        <p:grpSpPr>
          <a:xfrm>
            <a:off x="304920" y="4876920"/>
            <a:ext cx="2447640" cy="1584000"/>
            <a:chOff x="304920" y="4876920"/>
            <a:chExt cx="2447640" cy="1584000"/>
          </a:xfrm>
        </p:grpSpPr>
        <p:cxnSp>
          <p:nvCxnSpPr>
            <p:cNvPr id="162" name="_s20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1699200" y="533880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3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1040400" y="533916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2054"/>
            <p:cNvSpPr/>
            <p:nvPr/>
          </p:nvSpPr>
          <p:spPr>
            <a:xfrm>
              <a:off x="963720" y="487692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055"/>
            <p:cNvSpPr/>
            <p:nvPr/>
          </p:nvSpPr>
          <p:spPr>
            <a:xfrm>
              <a:off x="304920" y="582732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056"/>
            <p:cNvSpPr/>
            <p:nvPr/>
          </p:nvSpPr>
          <p:spPr>
            <a:xfrm>
              <a:off x="1622880" y="582732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14"/>
          <p:cNvSpPr/>
          <p:nvPr/>
        </p:nvSpPr>
        <p:spPr>
          <a:xfrm>
            <a:off x="2209680" y="4876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= 10+3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-0.00648 C 0.09514 -0.06404 0.18091 -0.12136 0.23143 -0.09524 C 0.2823 -0.06912 0.27935 0.14355 0.31372 0.15048 C 0.3481 0.15742 0.3974 -0.06773 0.4382 -0.05386 C 0.479 -0.03999 0.53907 0.18885 0.55799 0.23324 C 0.57691 0.27762 0.55139 0.21636 0.55139 0.21243 E">
                                      <p:cBhvr>
                                        <p:cTn id="164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7051 C 0.06284 -0.11165 0.13125 -0.1528 0.15903 -0.11489 C 0.1868 -0.07698 0.11493 0.15742 0.16128 0.15742 C 0.20764 0.15742 0.35712 -0.12437 0.4368 -0.11489 C 0.51649 -0.10541 0.60538 0.16181 0.63906 0.21359 C 0.67274 0.26537 0.64097 0.19718 0.63906 0.19579 C 0.63715 0.1944 0.62934 0.20296 0.62795 0.2048 E">
                                      <p:cBhvr>
                                        <p:cTn id="168" dur="3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ъяс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Равнобедренный треугольник 5"/>
          <p:cNvSpPr/>
          <p:nvPr/>
        </p:nvSpPr>
        <p:spPr>
          <a:xfrm>
            <a:off x="1000080" y="2286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Равнобедренный треугольник 6"/>
          <p:cNvSpPr/>
          <p:nvPr/>
        </p:nvSpPr>
        <p:spPr>
          <a:xfrm>
            <a:off x="1785960" y="2286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Равнобедренный треугольник 8"/>
          <p:cNvSpPr/>
          <p:nvPr/>
        </p:nvSpPr>
        <p:spPr>
          <a:xfrm>
            <a:off x="3357720" y="2286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9"/>
          <p:cNvSpPr/>
          <p:nvPr/>
        </p:nvSpPr>
        <p:spPr>
          <a:xfrm>
            <a:off x="4357800" y="2286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10"/>
          <p:cNvSpPr/>
          <p:nvPr/>
        </p:nvSpPr>
        <p:spPr>
          <a:xfrm>
            <a:off x="6357960" y="221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 11"/>
          <p:cNvSpPr/>
          <p:nvPr/>
        </p:nvSpPr>
        <p:spPr>
          <a:xfrm>
            <a:off x="5357880" y="235728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узел 14"/>
          <p:cNvSpPr/>
          <p:nvPr/>
        </p:nvSpPr>
        <p:spPr>
          <a:xfrm>
            <a:off x="2786040" y="207180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узел 15"/>
          <p:cNvSpPr/>
          <p:nvPr/>
        </p:nvSpPr>
        <p:spPr>
          <a:xfrm>
            <a:off x="2786040" y="257184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5643720" y="1214280"/>
            <a:ext cx="431640" cy="4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 17"/>
          <p:cNvSpPr/>
          <p:nvPr/>
        </p:nvSpPr>
        <p:spPr>
          <a:xfrm>
            <a:off x="2571840" y="100008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низ 18"/>
          <p:cNvSpPr/>
          <p:nvPr/>
        </p:nvSpPr>
        <p:spPr>
          <a:xfrm>
            <a:off x="1785960" y="1285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1447920" y="46483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4 : 11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C 0.07778 -0.07268 0.15556 -0.1449 0.08889 -0.17152 C 0.02222 -0.19814 -0.3974 -0.15787 -0.4 -0.15972 C -0.4026 -0.16157 0.00938 -0.20949 0.07344 -0.18333 C 0.1375 -0.15717 -0.00035 -0.03194 -0.01545 -0.00277 E">
                                      <p:cBhvr>
                                        <p:cTn id="17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2626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ъяс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Скругленный прямоугольник 3"/>
          <p:cNvGrpSpPr/>
          <p:nvPr/>
        </p:nvGrpSpPr>
        <p:grpSpPr>
          <a:xfrm>
            <a:off x="938160" y="2249640"/>
            <a:ext cx="1030320" cy="1023840"/>
            <a:chOff x="938160" y="2249640"/>
            <a:chExt cx="1030320" cy="1023840"/>
          </a:xfrm>
        </p:grpSpPr>
        <p:pic>
          <p:nvPicPr>
            <p:cNvPr id="18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38160" y="2249640"/>
              <a:ext cx="10303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044720" y="2330280"/>
              <a:ext cx="8254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Скругленный прямоугольник 5"/>
          <p:cNvSpPr/>
          <p:nvPr/>
        </p:nvSpPr>
        <p:spPr>
          <a:xfrm>
            <a:off x="1928880" y="22860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узел 6"/>
          <p:cNvSpPr/>
          <p:nvPr/>
        </p:nvSpPr>
        <p:spPr>
          <a:xfrm>
            <a:off x="2928960" y="228600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узел 7"/>
          <p:cNvSpPr/>
          <p:nvPr/>
        </p:nvSpPr>
        <p:spPr>
          <a:xfrm>
            <a:off x="2928960" y="278604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500280" y="2286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Равно 9"/>
          <p:cNvSpPr/>
          <p:nvPr/>
        </p:nvSpPr>
        <p:spPr>
          <a:xfrm>
            <a:off x="4429080" y="235728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Левая круглая скобка 18"/>
          <p:cNvSpPr/>
          <p:nvPr/>
        </p:nvSpPr>
        <p:spPr>
          <a:xfrm>
            <a:off x="6429240" y="2000160"/>
            <a:ext cx="357480" cy="1643040"/>
          </a:xfrm>
          <a:custGeom>
            <a:avLst/>
            <a:gdLst>
              <a:gd name="textAreaLeft" fmla="*/ 105120 w 357480"/>
              <a:gd name="textAreaRight" fmla="*/ 357840 w 357480"/>
              <a:gd name="textAreaTop" fmla="*/ 14760 h 1643040"/>
              <a:gd name="textAreaBottom" fmla="*/ 16282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6"/>
                  <a:pt x="0" y="391"/>
                </a:cubicBezTo>
                <a:lnTo>
                  <a:pt x="0" y="21209"/>
                </a:lnTo>
                <a:cubicBezTo>
                  <a:pt x="0" y="21405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авая круглая скобка 20"/>
          <p:cNvSpPr/>
          <p:nvPr/>
        </p:nvSpPr>
        <p:spPr>
          <a:xfrm>
            <a:off x="8001000" y="2000160"/>
            <a:ext cx="358920" cy="1643040"/>
          </a:xfrm>
          <a:custGeom>
            <a:avLst/>
            <a:gdLst>
              <a:gd name="textAreaLeft" fmla="*/ 0 w 358920"/>
              <a:gd name="textAreaRight" fmla="*/ 251640 w 358920"/>
              <a:gd name="textAreaTop" fmla="*/ 14760 h 1643040"/>
              <a:gd name="textAreaBottom" fmla="*/ 16282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97"/>
                  <a:pt x="21600" y="393"/>
                </a:cubicBezTo>
                <a:lnTo>
                  <a:pt x="21600" y="21207"/>
                </a:lnTo>
                <a:cubicBezTo>
                  <a:pt x="21600" y="21404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1"/>
          <p:cNvSpPr/>
          <p:nvPr/>
        </p:nvSpPr>
        <p:spPr>
          <a:xfrm>
            <a:off x="5786280" y="3786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ирог 22"/>
          <p:cNvSpPr/>
          <p:nvPr/>
        </p:nvSpPr>
        <p:spPr>
          <a:xfrm>
            <a:off x="3714840" y="37861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914400" y="457200"/>
                </a:moveTo>
                <a:lnTo>
                  <a:pt x="914400" y="457200"/>
                </a:lnTo>
                <a:arcTo wR="457200" hR="457200" stAng="0" swAng="16200008"/>
                <a:lnTo>
                  <a:pt x="457200" y="457200"/>
                </a:lnTo>
                <a:close/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ирог 23"/>
          <p:cNvSpPr/>
          <p:nvPr/>
        </p:nvSpPr>
        <p:spPr>
          <a:xfrm>
            <a:off x="7358040" y="23572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914400" y="457200"/>
                </a:moveTo>
                <a:lnTo>
                  <a:pt x="914400" y="457200"/>
                </a:lnTo>
                <a:arcTo wR="457200" hR="457200" stAng="0" swAng="16200008"/>
                <a:lnTo>
                  <a:pt x="457200" y="457200"/>
                </a:lnTo>
                <a:close/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Равнобедренный треугольник 24"/>
          <p:cNvSpPr/>
          <p:nvPr/>
        </p:nvSpPr>
        <p:spPr>
          <a:xfrm>
            <a:off x="5286240" y="221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овина рамки 25"/>
          <p:cNvSpPr/>
          <p:nvPr/>
        </p:nvSpPr>
        <p:spPr>
          <a:xfrm rot="19028400">
            <a:off x="4970160" y="3827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0"/>
                </a:moveTo>
                <a:lnTo>
                  <a:pt x="914400" y="0"/>
                </a:lnTo>
                <a:lnTo>
                  <a:pt x="609603" y="304797"/>
                </a:lnTo>
                <a:lnTo>
                  <a:pt x="304797" y="304797"/>
                </a:lnTo>
                <a:lnTo>
                  <a:pt x="304797" y="609603"/>
                </a:lnTo>
                <a:lnTo>
                  <a:pt x="0" y="914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6429240" y="27147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инус 30"/>
          <p:cNvSpPr/>
          <p:nvPr/>
        </p:nvSpPr>
        <p:spPr>
          <a:xfrm rot="18191400">
            <a:off x="2301120" y="2328120"/>
            <a:ext cx="1620720" cy="914400"/>
          </a:xfrm>
          <a:custGeom>
            <a:avLst/>
            <a:gdLst>
              <a:gd name="textAreaLeft" fmla="*/ 214560 w 1620720"/>
              <a:gd name="textAreaRight" fmla="*/ 1406160 w 162072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1620838" h="914400">
                <a:moveTo>
                  <a:pt x="214842" y="349667"/>
                </a:moveTo>
                <a:lnTo>
                  <a:pt x="1405996" y="349667"/>
                </a:lnTo>
                <a:lnTo>
                  <a:pt x="1405996" y="564733"/>
                </a:lnTo>
                <a:lnTo>
                  <a:pt x="214842" y="56473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1"/>
          <p:cNvSpPr/>
          <p:nvPr/>
        </p:nvSpPr>
        <p:spPr>
          <a:xfrm>
            <a:off x="990720" y="5257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9 : 7 = 4 (ост.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25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 марта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4360" y="1844280"/>
            <a:ext cx="79912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8  8  8  8  8  8  8  8  8  8  8  8 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762120" y="2895480"/>
            <a:ext cx="31431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35280" y="333360"/>
            <a:ext cx="6049800" cy="5376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1908000" y="5875920"/>
            <a:ext cx="60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а – это «лёгкие нашей планеты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52280" y="1447920"/>
            <a:ext cx="830592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дерево за 1 сутки выделяет кислорода  для    3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оличество учеников  в нашей школе – 9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колько деревьев необходимо иметь на территории школы для  обеспечения кислородом  96 челове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Users\User\Desktop\i (1).jpg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3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52280" y="152280"/>
            <a:ext cx="8686800" cy="2590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сканирование0001"/>
          <p:cNvPicPr/>
          <p:nvPr/>
        </p:nvPicPr>
        <p:blipFill>
          <a:blip r:embed="rId1"/>
          <a:srcRect l="11063" t="2298" r="1720" b="9632"/>
          <a:stretch/>
        </p:blipFill>
        <p:spPr>
          <a:xfrm>
            <a:off x="304920" y="457200"/>
            <a:ext cx="4038480" cy="1730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сканирование0001"/>
          <p:cNvPicPr/>
          <p:nvPr/>
        </p:nvPicPr>
        <p:blipFill>
          <a:blip r:embed="rId2"/>
          <a:srcRect l="11063" t="2298" r="1720" b="9632"/>
          <a:stretch/>
        </p:blipFill>
        <p:spPr>
          <a:xfrm>
            <a:off x="4267080" y="457200"/>
            <a:ext cx="4038840" cy="1730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>
            <a:off x="700920" y="5029200"/>
            <a:ext cx="464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лей -  5 рядов  по 12 ш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рез - 3 ряда  по  13 ш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5562720" y="51055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776560" y="545004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380880" y="28954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ьники посадили 5 рядов елей по 12 деревьев в каждом ряду и 3 ряда берёз по 13 деревьев в ряду. Сколько всего деревьев посадили школь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05280" y="2133360"/>
            <a:ext cx="9448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яд                      2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: 3 = 17          а • 4 = 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Тяжело в учении – легко в бою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AG00317_"/>
          <p:cNvPicPr/>
          <p:nvPr/>
        </p:nvPicPr>
        <p:blipFill>
          <a:blip r:embed="rId1"/>
          <a:stretch/>
        </p:blipFill>
        <p:spPr>
          <a:xfrm>
            <a:off x="533520" y="4419720"/>
            <a:ext cx="1697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80880" y="4267080"/>
            <a:ext cx="2865600" cy="137160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0" y="2819520"/>
            <a:ext cx="3500280" cy="14364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rcRect l="63338" t="3398" r="1663" b="48547"/>
          <a:stretch/>
        </p:blipFill>
        <p:spPr>
          <a:xfrm>
            <a:off x="990720" y="3505320"/>
            <a:ext cx="1531800" cy="19447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1447920" y="380880"/>
            <a:ext cx="631332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Домашнее задание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886200" y="32004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.3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№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G00319_"/>
          <p:cNvPicPr/>
          <p:nvPr/>
        </p:nvPicPr>
        <p:blipFill>
          <a:blip r:embed="rId3"/>
          <a:stretch/>
        </p:blipFill>
        <p:spPr>
          <a:xfrm>
            <a:off x="0" y="-152280"/>
            <a:ext cx="224172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Математику учить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м точит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гожданный дан звон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чинается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G00319_"/>
          <p:cNvPicPr/>
          <p:nvPr/>
        </p:nvPicPr>
        <p:blipFill>
          <a:blip r:embed="rId2"/>
          <a:stretch/>
        </p:blipFill>
        <p:spPr>
          <a:xfrm>
            <a:off x="3276720" y="3429000"/>
            <a:ext cx="2241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1214280"/>
            <a:ext cx="8715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расселись по местам, никому не т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секрету вам скажу: «Будет интересно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м мы считать, писать и решать зада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б сегодня, как всегда, в руки шла у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toysgames.ru/wp-content/uploads/2010/09/rebyacheskiy-ekologicheskiy-sredotochie-so-smesharikami-1.jpg"/>
          <p:cNvPicPr/>
          <p:nvPr/>
        </p:nvPicPr>
        <p:blipFill>
          <a:blip r:embed="rId1"/>
          <a:stretch/>
        </p:blipFill>
        <p:spPr>
          <a:xfrm>
            <a:off x="5715000" y="4000680"/>
            <a:ext cx="34290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042920" y="112536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3" descr="mal6"/>
          <p:cNvPicPr/>
          <p:nvPr/>
        </p:nvPicPr>
        <p:blipFill>
          <a:blip r:embed="rId3"/>
          <a:stretch/>
        </p:blipFill>
        <p:spPr>
          <a:xfrm>
            <a:off x="2987640" y="2852640"/>
            <a:ext cx="286380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797040" y="1295280"/>
            <a:ext cx="764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овторенье – мать учен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ятно 1 1"/>
          <p:cNvSpPr/>
          <p:nvPr/>
        </p:nvSpPr>
        <p:spPr>
          <a:xfrm>
            <a:off x="324000" y="836640"/>
            <a:ext cx="1655640" cy="165564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ятно 1 2"/>
          <p:cNvSpPr/>
          <p:nvPr/>
        </p:nvSpPr>
        <p:spPr>
          <a:xfrm>
            <a:off x="468360" y="3933720"/>
            <a:ext cx="1655640" cy="165600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ятно 1 3"/>
          <p:cNvSpPr/>
          <p:nvPr/>
        </p:nvSpPr>
        <p:spPr>
          <a:xfrm>
            <a:off x="2916360" y="2133720"/>
            <a:ext cx="1655640" cy="165564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ятно 1 4"/>
          <p:cNvSpPr/>
          <p:nvPr/>
        </p:nvSpPr>
        <p:spPr>
          <a:xfrm>
            <a:off x="4356000" y="4869000"/>
            <a:ext cx="1656000" cy="165564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ятно 1 5"/>
          <p:cNvSpPr/>
          <p:nvPr/>
        </p:nvSpPr>
        <p:spPr>
          <a:xfrm>
            <a:off x="5867280" y="836640"/>
            <a:ext cx="1657440" cy="165564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но 1 6"/>
          <p:cNvSpPr/>
          <p:nvPr/>
        </p:nvSpPr>
        <p:spPr>
          <a:xfrm>
            <a:off x="7093080" y="3860640"/>
            <a:ext cx="1655640" cy="165600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8"/>
          <p:cNvCxnSpPr/>
          <p:nvPr/>
        </p:nvCxnSpPr>
        <p:spPr>
          <a:xfrm flipH="1">
            <a:off x="1186560" y="2349000"/>
            <a:ext cx="2520" cy="1585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 flipV="1">
            <a:off x="1979640" y="3572640"/>
            <a:ext cx="1440360" cy="86436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79" name="Прямая со стрелкой 10"/>
          <p:cNvCxnSpPr/>
          <p:nvPr/>
        </p:nvCxnSpPr>
        <p:spPr>
          <a:xfrm>
            <a:off x="4140720" y="3573360"/>
            <a:ext cx="646920" cy="151200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80" name="Прямая со стрелкой 11"/>
          <p:cNvCxnSpPr/>
          <p:nvPr/>
        </p:nvCxnSpPr>
        <p:spPr>
          <a:xfrm flipV="1">
            <a:off x="5578920" y="2349000"/>
            <a:ext cx="793080" cy="266472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81" name="Прямая со стрелкой 12"/>
          <p:cNvCxnSpPr/>
          <p:nvPr/>
        </p:nvCxnSpPr>
        <p:spPr>
          <a:xfrm>
            <a:off x="7021440" y="2133360"/>
            <a:ext cx="936000" cy="187236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pic>
        <p:nvPicPr>
          <p:cNvPr id="82" name="Прямоугольник 19" descr=""/>
          <p:cNvPicPr/>
          <p:nvPr/>
        </p:nvPicPr>
        <p:blipFill>
          <a:blip r:embed="rId1"/>
          <a:stretch/>
        </p:blipFill>
        <p:spPr>
          <a:xfrm>
            <a:off x="30240" y="2736720"/>
            <a:ext cx="1238040" cy="8906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0" descr=""/>
          <p:cNvPicPr/>
          <p:nvPr/>
        </p:nvPicPr>
        <p:blipFill>
          <a:blip r:embed="rId2"/>
          <a:stretch/>
        </p:blipFill>
        <p:spPr>
          <a:xfrm>
            <a:off x="1517760" y="3097080"/>
            <a:ext cx="1695240" cy="8892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1" descr=""/>
          <p:cNvPicPr/>
          <p:nvPr/>
        </p:nvPicPr>
        <p:blipFill>
          <a:blip r:embed="rId3"/>
          <a:stretch/>
        </p:blipFill>
        <p:spPr>
          <a:xfrm>
            <a:off x="3249720" y="4102200"/>
            <a:ext cx="1560240" cy="8967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2" descr=""/>
          <p:cNvPicPr/>
          <p:nvPr/>
        </p:nvPicPr>
        <p:blipFill>
          <a:blip r:embed="rId4"/>
          <a:stretch/>
        </p:blipFill>
        <p:spPr>
          <a:xfrm>
            <a:off x="4937040" y="2803680"/>
            <a:ext cx="1238400" cy="8967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3" descr=""/>
          <p:cNvPicPr/>
          <p:nvPr/>
        </p:nvPicPr>
        <p:blipFill>
          <a:blip r:embed="rId5"/>
          <a:stretch/>
        </p:blipFill>
        <p:spPr>
          <a:xfrm>
            <a:off x="7205760" y="2230560"/>
            <a:ext cx="12794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ятно 1 1"/>
          <p:cNvSpPr/>
          <p:nvPr/>
        </p:nvSpPr>
        <p:spPr>
          <a:xfrm>
            <a:off x="0" y="765000"/>
            <a:ext cx="1440000" cy="136872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ятно 1 7"/>
          <p:cNvSpPr/>
          <p:nvPr/>
        </p:nvSpPr>
        <p:spPr>
          <a:xfrm>
            <a:off x="1258920" y="2852640"/>
            <a:ext cx="1441440" cy="136836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ятно 1 9"/>
          <p:cNvSpPr/>
          <p:nvPr/>
        </p:nvSpPr>
        <p:spPr>
          <a:xfrm>
            <a:off x="5219640" y="907920"/>
            <a:ext cx="1440000" cy="136872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10"/>
          <p:cNvSpPr/>
          <p:nvPr/>
        </p:nvSpPr>
        <p:spPr>
          <a:xfrm>
            <a:off x="1979640" y="5229360"/>
            <a:ext cx="1440000" cy="136836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ятно 1 11"/>
          <p:cNvSpPr/>
          <p:nvPr/>
        </p:nvSpPr>
        <p:spPr>
          <a:xfrm>
            <a:off x="5076720" y="4149720"/>
            <a:ext cx="1440000" cy="136692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ятно 1 12"/>
          <p:cNvSpPr/>
          <p:nvPr/>
        </p:nvSpPr>
        <p:spPr>
          <a:xfrm>
            <a:off x="7236000" y="3716280"/>
            <a:ext cx="1908000" cy="172872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4"/>
          <p:cNvCxnSpPr/>
          <p:nvPr/>
        </p:nvCxnSpPr>
        <p:spPr>
          <a:xfrm>
            <a:off x="1258920" y="1773360"/>
            <a:ext cx="721440" cy="108000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94" name="Прямая со стрелкой 15"/>
          <p:cNvCxnSpPr/>
          <p:nvPr/>
        </p:nvCxnSpPr>
        <p:spPr>
          <a:xfrm>
            <a:off x="6658560" y="1988640"/>
            <a:ext cx="1369080" cy="1801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95" name="Прямая со стрелкой 17"/>
          <p:cNvCxnSpPr/>
          <p:nvPr/>
        </p:nvCxnSpPr>
        <p:spPr>
          <a:xfrm flipV="1">
            <a:off x="5866200" y="2133360"/>
            <a:ext cx="73800" cy="208800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96" name="Прямая со стрелкой 18"/>
          <p:cNvCxnSpPr/>
          <p:nvPr/>
        </p:nvCxnSpPr>
        <p:spPr>
          <a:xfrm flipV="1">
            <a:off x="3708360" y="5299920"/>
            <a:ext cx="1512000" cy="793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cxnSp>
        <p:nvCxnSpPr>
          <p:cNvPr id="97" name="Прямая со стрелкой 19"/>
          <p:cNvCxnSpPr/>
          <p:nvPr/>
        </p:nvCxnSpPr>
        <p:spPr>
          <a:xfrm>
            <a:off x="1978560" y="4005000"/>
            <a:ext cx="144720" cy="1585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pic>
        <p:nvPicPr>
          <p:cNvPr id="98" name="Прямоугольник 34" descr=""/>
          <p:cNvPicPr/>
          <p:nvPr/>
        </p:nvPicPr>
        <p:blipFill>
          <a:blip r:embed="rId1"/>
          <a:stretch/>
        </p:blipFill>
        <p:spPr>
          <a:xfrm>
            <a:off x="1450800" y="1438200"/>
            <a:ext cx="1152720" cy="8971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5" descr=""/>
          <p:cNvPicPr/>
          <p:nvPr/>
        </p:nvPicPr>
        <p:blipFill>
          <a:blip r:embed="rId2"/>
          <a:stretch/>
        </p:blipFill>
        <p:spPr>
          <a:xfrm>
            <a:off x="426960" y="4102200"/>
            <a:ext cx="1693800" cy="8967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6" descr=""/>
          <p:cNvPicPr/>
          <p:nvPr/>
        </p:nvPicPr>
        <p:blipFill>
          <a:blip r:embed="rId3"/>
          <a:stretch/>
        </p:blipFill>
        <p:spPr>
          <a:xfrm>
            <a:off x="3524400" y="4608360"/>
            <a:ext cx="1279440" cy="8906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7" descr=""/>
          <p:cNvPicPr/>
          <p:nvPr/>
        </p:nvPicPr>
        <p:blipFill>
          <a:blip r:embed="rId4"/>
          <a:stretch/>
        </p:blipFill>
        <p:spPr>
          <a:xfrm>
            <a:off x="4705200" y="2803680"/>
            <a:ext cx="12384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3" descr=""/>
          <p:cNvPicPr/>
          <p:nvPr/>
        </p:nvPicPr>
        <p:blipFill>
          <a:blip r:embed="rId5"/>
          <a:stretch/>
        </p:blipFill>
        <p:spPr>
          <a:xfrm>
            <a:off x="7077240" y="1798560"/>
            <a:ext cx="1280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те суммой разрядных слагаемых чис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928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6,  23,  48,  51,  9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83808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+6=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914400" y="4724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+3=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181480" y="38098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0+8=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181480" y="4800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+1=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971800" y="5562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0+6=9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785880" y="29289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1714680" y="29289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узел 7"/>
          <p:cNvSpPr/>
          <p:nvPr/>
        </p:nvSpPr>
        <p:spPr>
          <a:xfrm>
            <a:off x="2786040" y="314316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8"/>
          <p:cNvSpPr/>
          <p:nvPr/>
        </p:nvSpPr>
        <p:spPr>
          <a:xfrm>
            <a:off x="3357720" y="29289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Равно 9"/>
          <p:cNvSpPr/>
          <p:nvPr/>
        </p:nvSpPr>
        <p:spPr>
          <a:xfrm>
            <a:off x="4429080" y="292896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 flipH="1" flipV="1">
            <a:off x="1143000" y="2499840"/>
            <a:ext cx="10008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3"/>
          <p:cNvSpPr/>
          <p:nvPr/>
        </p:nvSpPr>
        <p:spPr>
          <a:xfrm flipV="1">
            <a:off x="2171160" y="2428560"/>
            <a:ext cx="4284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5"/>
          <p:cNvSpPr/>
          <p:nvPr/>
        </p:nvSpPr>
        <p:spPr>
          <a:xfrm>
            <a:off x="714240" y="1714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6"/>
          <p:cNvSpPr/>
          <p:nvPr/>
        </p:nvSpPr>
        <p:spPr>
          <a:xfrm>
            <a:off x="1785960" y="17146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рест 18"/>
          <p:cNvSpPr/>
          <p:nvPr/>
        </p:nvSpPr>
        <p:spPr>
          <a:xfrm>
            <a:off x="7000920" y="3071880"/>
            <a:ext cx="503280" cy="5032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хема 23" descr=""/>
          <p:cNvPicPr/>
          <p:nvPr/>
        </p:nvPicPr>
        <p:blipFill>
          <a:blip r:embed="rId1"/>
          <a:stretch/>
        </p:blipFill>
        <p:spPr>
          <a:xfrm>
            <a:off x="669960" y="4565520"/>
            <a:ext cx="2854440" cy="1841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4"/>
          <p:cNvSpPr/>
          <p:nvPr/>
        </p:nvSpPr>
        <p:spPr>
          <a:xfrm>
            <a:off x="31240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3 = 30 + 12 = 4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0.00255 C 0.06494 -0.05664 0.1283 -0.1105 0.18021 -0.08461 C 0.23212 -0.05849 0.26806 0.15048 0.31251 0.15487 C 0.35695 0.1588 0.4073 -0.03606 0.44688 -0.05895 C 0.48646 -0.0816 0.5316 -0.02682 0.55035 0.01826 C 0.56928 0.06334 0.55591 0.184 0.55938 0.21151 C 0.56251 0.23902 0.56945 0.19024 0.57049 0.18308 E">
                                      <p:cBhvr>
                                        <p:cTn id="108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25335E-006 C 0.06354 -0.04253 0.12726 -0.08506 0.15868 -0.06125 C 0.19011 -0.03767 0.17257 0.12552 0.18733 0.14194 C 0.20191 0.15835 0.18577 0.07837 0.2467 0.03699 C 0.30764 -0.00416 0.48629 -0.12991 0.55295 -0.10702 C 0.61997 -0.08391 0.63229 0.13153 0.64844 0.1773 E">
                                      <p:cBhvr>
                                        <p:cTn id="112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3"/>
          <p:cNvSpPr/>
          <p:nvPr/>
        </p:nvSpPr>
        <p:spPr>
          <a:xfrm>
            <a:off x="1071720" y="235728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противолежащими углами 5"/>
          <p:cNvSpPr/>
          <p:nvPr/>
        </p:nvSpPr>
        <p:spPr>
          <a:xfrm>
            <a:off x="2000160" y="235728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противолежащими углами 6"/>
          <p:cNvSpPr/>
          <p:nvPr/>
        </p:nvSpPr>
        <p:spPr>
          <a:xfrm>
            <a:off x="4000680" y="2357280"/>
            <a:ext cx="914400" cy="914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914400"/>
              <a:gd name="textAreaBottom" fmla="*/ 869760 h 914400"/>
            </a:gdLst>
            <a:ahLst/>
            <a:rect l="textAreaLeft" t="textAreaTop" r="textAreaRight" b="textAreaBottom"/>
            <a:pathLst>
              <a:path w="914400" h="914400">
                <a:moveTo>
                  <a:pt x="152403" y="0"/>
                </a:moveTo>
                <a:lnTo>
                  <a:pt x="914400" y="0"/>
                </a:lnTo>
                <a:lnTo>
                  <a:pt x="914400" y="761997"/>
                </a:lnTo>
                <a:lnTo>
                  <a:pt x="914400" y="761997"/>
                </a:lnTo>
                <a:arcTo wR="152403" hR="152403" stAng="0" swAng="5400000"/>
                <a:lnTo>
                  <a:pt x="0" y="914400"/>
                </a:lnTo>
                <a:lnTo>
                  <a:pt x="0" y="152403"/>
                </a:lnTo>
                <a:lnTo>
                  <a:pt x="0" y="152403"/>
                </a:lnTo>
                <a:arcTo wR="152403" hR="152403" stAng="108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узел 7"/>
          <p:cNvSpPr/>
          <p:nvPr/>
        </p:nvSpPr>
        <p:spPr>
          <a:xfrm>
            <a:off x="3214800" y="228600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узел 8"/>
          <p:cNvSpPr/>
          <p:nvPr/>
        </p:nvSpPr>
        <p:spPr>
          <a:xfrm>
            <a:off x="3214800" y="2857680"/>
            <a:ext cx="457200" cy="457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 9"/>
          <p:cNvSpPr/>
          <p:nvPr/>
        </p:nvSpPr>
        <p:spPr>
          <a:xfrm>
            <a:off x="5072040" y="235728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188280 h 914400"/>
              <a:gd name="textAreaBottom" fmla="*/ 7261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2"/>
          <p:cNvSpPr/>
          <p:nvPr/>
        </p:nvSpPr>
        <p:spPr>
          <a:xfrm flipH="1" flipV="1">
            <a:off x="1500120" y="1928880"/>
            <a:ext cx="2880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4"/>
          <p:cNvSpPr/>
          <p:nvPr/>
        </p:nvSpPr>
        <p:spPr>
          <a:xfrm flipH="1" flipV="1">
            <a:off x="2428560" y="1856880"/>
            <a:ext cx="2844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15"/>
          <p:cNvSpPr/>
          <p:nvPr/>
        </p:nvSpPr>
        <p:spPr>
          <a:xfrm>
            <a:off x="1143000" y="1643040"/>
            <a:ext cx="647640" cy="6476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17"/>
          <p:cNvSpPr/>
          <p:nvPr/>
        </p:nvSpPr>
        <p:spPr>
          <a:xfrm>
            <a:off x="2357280" y="1643040"/>
            <a:ext cx="648000" cy="6476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00040" y="507204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4786200" y="5072040"/>
            <a:ext cx="1643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000840" y="5072040"/>
            <a:ext cx="1143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Крест 24"/>
          <p:cNvSpPr/>
          <p:nvPr/>
        </p:nvSpPr>
        <p:spPr>
          <a:xfrm>
            <a:off x="7072200" y="2500200"/>
            <a:ext cx="612720" cy="6127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rganization Chart 5"/>
          <p:cNvGrpSpPr/>
          <p:nvPr/>
        </p:nvGrpSpPr>
        <p:grpSpPr>
          <a:xfrm>
            <a:off x="380880" y="4191120"/>
            <a:ext cx="3393720" cy="1756800"/>
            <a:chOff x="380880" y="4191120"/>
            <a:chExt cx="3393720" cy="1756800"/>
          </a:xfrm>
        </p:grpSpPr>
        <p:cxnSp>
          <p:nvCxnSpPr>
            <p:cNvPr id="139" name="_s1028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2358360" y="4611960"/>
              <a:ext cx="352080" cy="91440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29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1444320" y="4612320"/>
              <a:ext cx="352080" cy="91404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1030"/>
            <p:cNvSpPr/>
            <p:nvPr/>
          </p:nvSpPr>
          <p:spPr>
            <a:xfrm>
              <a:off x="1294200" y="419112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1"/>
            <p:cNvSpPr/>
            <p:nvPr/>
          </p:nvSpPr>
          <p:spPr>
            <a:xfrm>
              <a:off x="380880" y="524520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2"/>
            <p:cNvSpPr/>
            <p:nvPr/>
          </p:nvSpPr>
          <p:spPr>
            <a:xfrm>
              <a:off x="2208240" y="524520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5"/>
          <p:cNvSpPr/>
          <p:nvPr/>
        </p:nvSpPr>
        <p:spPr>
          <a:xfrm>
            <a:off x="3132000" y="419112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 3= 20+3=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50254E-006 C 0.08837 -0.06265 0.17673 -0.12529 0.23784 -0.11235 C 0.29896 -0.0994 0.32448 0.07096 0.36649 0.07697 C 0.40885 0.08298 0.4592 -0.08207 0.49114 -0.07675 C 0.52274 -0.07143 0.54809 0.07466 0.55764 0.10957 C 0.56719 0.14447 0.54809 0.1313 0.54896 0.13315 C 0.54948 0.13499 0.55573 0.12806 0.56232 0.12136 E">
                                      <p:cBhvr>
                                        <p:cTn id="12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-0.0104 C 0.07326 -0.07698 0.13663 -0.14355 0.17222 -0.12575 C 0.20781 -0.10795 0.17517 0.08876 0.22326 0.09616 C 0.27135 0.10356 0.3967 -0.08576 0.46111 -0.08137 C 0.52552 -0.07698 0.58507 0.08876 0.6099 0.12274 E">
                                      <p:cBhvr>
                                        <p:cTn id="130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02T00:52:4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