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2.png" ContentType="image/png"/>
  <Override PartName="/ppt/media/image2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8BE-B0DC-4F73-86E6-E4697461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651E-BBB8-4CF2-A8BD-E64B764B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2C43-2673-434F-8F7F-E1D18725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1CB4-2E8C-41F1-AEDF-FFA2A920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7AB7-9B35-4F7E-AF54-2F535F86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9240-D4F0-4FEE-8BC9-CC431321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4732-5E13-4855-A911-8FDFADDD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268F-9E01-48C1-AD6C-DB101583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7BA2-0A16-4B11-B629-E56675D8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7A68-EAD7-4439-8310-17F6E865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0352-7652-4272-BF3C-38544AD7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95D0-CF78-424B-9E36-DF80C0ED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0CDA-3A6A-4DF7-BD14-3EED9AF5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A5EE-8977-44EC-83B5-4E6DB1F8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68B6-64E5-4B87-99E4-A16997B3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3E14-B566-479A-852D-ABAFA198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083A-E03D-4DA1-96F4-501A951F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4B1B0-8F50-4B30-9B04-CC683D16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99DFF-9E35-485D-AA06-B2AF107F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CF87A-E146-4840-B361-13819855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1D533-7C2E-4E99-ACE5-159A1B10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6CF25-DF9C-4DB5-AC12-1968ED41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5741-6537-4C59-9125-BE541096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E12B0-793E-4359-9780-4E67EDFD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F75E3-83F4-4AA4-AA8A-EF99484A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B0E0E-E65C-45C8-8CD7-62AE2E02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87043-7B73-483A-BB07-F75EF258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E424B-FD2A-4BF9-AFDB-21DA95CA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0CCEE-207E-41C3-BA28-6CCA9D3A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1657C-7506-4374-81DC-B340A307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A4968-AED3-4F46-A9A2-5E6FF96B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55AF9-3244-4E90-8FBB-54FA3718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CEAEF-DB80-4B7F-80D8-D5415419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B9D5-C9B7-4C21-8169-9676678F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6AE33-56C9-4641-963C-603AD6F6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1501A-AF77-4BF5-BC4A-8757E383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5E839-7CAC-4166-A77C-C068FB0A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C1B28-5668-4120-B36B-A6C6906A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97FB3-11A6-4988-8DBE-38D5D226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EBCB5-C505-4CE0-90CD-40B64048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14A11-DCA5-4E50-97DF-1D798370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31F7F-3849-450B-B845-56781CBC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65A7A-15F8-4E5C-8E73-CD08AE9F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5B849-BEF6-417D-8A1D-072DE88F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BB18-48CE-4B57-9510-1828C6E3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37883-637F-496B-93D8-A87B1403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67C0C-C4D0-49BD-A5EA-CFBC1EA0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2FD20-BFC0-4AE2-9EA6-5F350849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2AD95-4183-4832-8E8F-F2590D6B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A6C5D-FB7C-4601-811A-1CE10D9A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D5D26-49D0-4A7F-AB1C-59919202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52248-3C33-469E-A597-563A292E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019BC-B4C7-44E9-8982-2A59312A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6466D-5D5C-4A4A-89BF-6A4DE75E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66CBD-0357-47E5-AE5C-82A5FF4A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3972-E305-48DB-A7A9-B71E4587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6C7F4-7A63-48BC-9191-F32D9C96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BD78F-8178-49A5-B6F1-7A5B7454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15496-114D-4041-8426-44F73DEA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DC2EA-171C-4B0B-972C-DDAD9F6A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1F155-6829-4F18-BE66-7FDDB134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ECBDD-77E0-4AC7-B6CD-6344A573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21183-692A-4E0B-996E-C60B7896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09955-3006-4653-A6C9-1AD1A36F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62B19-533E-4DB8-976C-74DFFE8A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31312-09C4-4085-AE70-DB5C5654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2A9D-28C6-467A-BD18-8C1ACF92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D46AB-AB4F-4BEC-BF89-AAD2282F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6F5FD-5C51-41F1-BC06-F37FD058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98220-D382-403A-975B-8C0093FF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0A132-731F-44B1-A559-9A005F15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952DF-A2F3-4195-BC44-CEA71394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25EE0-0D69-4DDA-9A11-EA30C599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59100-0E0C-489F-BA8E-CCCD8607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DE04A-20F1-4933-80E6-FC6F87EE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C6F5A-C800-49FF-BA42-5740C5F1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E7856-A5A7-4ABC-BCF9-A7F8B6B5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561-F8B5-4CF8-9B14-36A8A2AC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BCB57-FB06-4ACD-BBA8-165C14C1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7C348-B751-4CCE-9C90-23F3670E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15311-03BA-42B1-906F-1EFE56C3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A755D-4DF0-472A-B90C-9A34D319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56553-2E39-4A80-990A-27868F3B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8DDE-4B70-4A2C-8239-9D273934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4617b">
                  <a:alpha val="1176"/>
                </a:srgbClr>
              </a:gs>
              <a:gs pos="100000">
                <a:srgbClr val="04617b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bebeb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deded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E4ED-D5BE-46CB-88E2-D74AE97345F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4617b">
                  <a:alpha val="1176"/>
                </a:srgbClr>
              </a:gs>
              <a:gs pos="100000">
                <a:srgbClr val="04617b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bebeb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deded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47BB-110D-4930-8231-DDD920C06A92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4617b">
                  <a:alpha val="1176"/>
                </a:srgbClr>
              </a:gs>
              <a:gs pos="100000">
                <a:srgbClr val="04617b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bebeb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deded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7E43-5BD2-45EE-8B15-4AF9F662E9E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4617b">
                  <a:alpha val="1176"/>
                </a:srgbClr>
              </a:gs>
              <a:gs pos="100000">
                <a:srgbClr val="04617b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deded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bebeb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28C0-1001-4CA1-B876-C1D205C2C48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43A8-99BB-4E4C-A782-69E0949CCDC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F98D-659A-43A4-81E1-FDBE49CA3FF0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2234-8970-493E-8FCE-681517BC0C5D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536400" y="407880"/>
            <a:ext cx="8455320" cy="124488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3" descr="http://zdorovie.com/wp-content/uploads/2012/08/agressive-01.jpg"/>
          <p:cNvPicPr/>
          <p:nvPr/>
        </p:nvPicPr>
        <p:blipFill>
          <a:blip r:embed="rId2"/>
          <a:stretch/>
        </p:blipFill>
        <p:spPr>
          <a:xfrm>
            <a:off x="285840" y="3071880"/>
            <a:ext cx="5429160" cy="350028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4"/>
          <p:cNvSpPr/>
          <p:nvPr/>
        </p:nvSpPr>
        <p:spPr>
          <a:xfrm>
            <a:off x="1916280" y="2967120"/>
            <a:ext cx="185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450720" y="109440"/>
            <a:ext cx="8242560" cy="82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"/>
          <p:cNvGraphicFramePr/>
          <p:nvPr/>
        </p:nvGraphicFramePr>
        <p:xfrm>
          <a:off x="457200" y="957240"/>
          <a:ext cx="8229600" cy="5757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85800">
                <a:tc>
                  <a:txBody>
                    <a:bodyPr lIns="24120" rIns="24120" tIns="24120" bIns="241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атеги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пита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24120" rIns="24120" tIns="24120" bIns="241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кретные примеры стратег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24120" rIns="24120" tIns="24120" bIns="241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иль поведени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бенк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24120" rIns="24120" tIns="24120" bIns="241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чему ребенок так поступа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765440">
                <a:tc>
                  <a:txBody>
                    <a:bodyPr lIns="24120" rIns="24120" tIns="24120" bIns="241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кое подавление агрессивного поведения реб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24120" rIns="24120" tIns="24120" bIns="241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екрати!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е смей так говорить». Родители наказывают реб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24120" rIns="24120" tIns="24120" bIns="241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ессив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ебенок может прекратить сейчас, но выплеснет свои отрицательные эмоции в другое время и в другом мест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24120" rIns="24120" tIns="24120" bIns="241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копирует родителей и учится у них агрессивным формам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325520">
                <a:tc>
                  <a:txBody>
                    <a:bodyPr lIns="15120" rIns="15120" tIns="15120" bIns="151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норирование агрессивных вспышек реб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15120" rIns="15120" tIns="15120" bIns="151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 делают вид, что не замечают агрессии ребенка или считают, что ребенок еще м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15120" rIns="15120" tIns="15120" bIns="151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ессив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ебенок продолжает действовать агрессивн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15120" rIns="15120" tIns="15120" bIns="151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думает, что все правильно, и агрессивные формы поведения закрепляются в черту характ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981080">
                <a:tc>
                  <a:txBody>
                    <a:bodyPr lIns="9000" rIns="9000" tIns="9000" bIns="90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 дают возможность ребенку выплеснуть агрессию приемлемым способом и в тактичной форме запрещают вести себя агрессивно по отношению к друг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" rIns="9000" tIns="9000" bIns="90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родители видят, что ребенок разгневан, они могут вовлечь его в игру, которая снимет его гнев. Родители объясняют ребенку, как надо вести себя в определенных ситуац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" rIns="9000" tIns="9000" bIns="90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ее всего, ребенок научиться управлять своим гнев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" rIns="9000" tIns="9000" bIns="90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учится анализировать различные ситуации и берет пример со своих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"/>
          <p:cNvSpPr/>
          <p:nvPr/>
        </p:nvSpPr>
        <p:spPr>
          <a:xfrm>
            <a:off x="0" y="1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трет агрессивного ребё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Схема 2" descr=""/>
          <p:cNvPicPr/>
          <p:nvPr/>
        </p:nvPicPr>
        <p:blipFill>
          <a:blip r:embed="rId1"/>
          <a:stretch/>
        </p:blipFill>
        <p:spPr>
          <a:xfrm>
            <a:off x="609480" y="853920"/>
            <a:ext cx="7925040" cy="54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1" descr=""/>
          <p:cNvPicPr/>
          <p:nvPr/>
        </p:nvPicPr>
        <p:blipFill>
          <a:blip r:embed="rId1"/>
          <a:stretch/>
        </p:blipFill>
        <p:spPr>
          <a:xfrm>
            <a:off x="450720" y="-92160"/>
            <a:ext cx="8242560" cy="17622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Существует три основных этапа в работе над агрессией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Работа с гневом. Обучение приемлемым способам выражения гнева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Обучение навыкам распознавания и контроля, умению владеть собой в ситуациях, провоцирующих вспышки гнева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Формирование способности к доверию, сочувствию, сопереживанию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1"/>
          <p:cNvSpPr/>
          <p:nvPr/>
        </p:nvSpPr>
        <p:spPr>
          <a:xfrm>
            <a:off x="500040" y="357120"/>
            <a:ext cx="7929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Gothic"/>
              </a:rPr>
              <a:t>Человек обладает способностью любить и может найти применение своей способности любить, но способен он и ненавидеть, проявляя агрессию и жестокость. Этим средством он руководствуется как бегством от собственной душевной боли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Gothic"/>
              </a:rPr>
              <a:t>Эрик Фром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401760" y="262080"/>
            <a:ext cx="8334360" cy="20476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28760" y="1714680"/>
            <a:ext cx="4038480" cy="177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Гнев, злоба, агрессия - эмоции разрушения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785840" y="1714680"/>
            <a:ext cx="403884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Боль, страх, обида - эмоции страдания</a:t>
            </a: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08" name="Picture 5" descr="slovo_pics1s"/>
          <p:cNvPicPr/>
          <p:nvPr/>
        </p:nvPicPr>
        <p:blipFill>
          <a:blip r:embed="rId2"/>
          <a:stretch/>
        </p:blipFill>
        <p:spPr>
          <a:xfrm>
            <a:off x="5857920" y="2571840"/>
            <a:ext cx="3000240" cy="27860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289417_fc160020"/>
          <p:cNvPicPr/>
          <p:nvPr/>
        </p:nvPicPr>
        <p:blipFill>
          <a:blip r:embed="rId3"/>
          <a:stretch/>
        </p:blipFill>
        <p:spPr>
          <a:xfrm>
            <a:off x="3857760" y="4214880"/>
            <a:ext cx="2928960" cy="264312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7" descr="http://www.passion.ru/sites/passion.ru/files/imagecache/img460x313/content/images/s_article/16665/bodyimages/1128bab_3.jpg"/>
          <p:cNvPicPr/>
          <p:nvPr/>
        </p:nvPicPr>
        <p:blipFill>
          <a:blip r:embed="rId4"/>
          <a:stretch/>
        </p:blipFill>
        <p:spPr>
          <a:xfrm>
            <a:off x="285840" y="2714760"/>
            <a:ext cx="3857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02680" cy="1407960"/>
          </a:xfrm>
          <a:prstGeom prst="rect">
            <a:avLst/>
          </a:prstGeom>
          <a:ln w="0">
            <a:noFill/>
          </a:ln>
        </p:spPr>
      </p:pic>
      <p:pic>
        <p:nvPicPr>
          <p:cNvPr id="312" name="Содержимое 3" descr=""/>
          <p:cNvPicPr/>
          <p:nvPr/>
        </p:nvPicPr>
        <p:blipFill>
          <a:blip r:embed="rId2"/>
          <a:stretch/>
        </p:blipFill>
        <p:spPr>
          <a:xfrm>
            <a:off x="3852720" y="1768320"/>
            <a:ext cx="5297760" cy="474840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4" descr="http://www.tigrulki.ru/wp-content/uploads/2010/02/ar.jpeg"/>
          <p:cNvPicPr/>
          <p:nvPr/>
        </p:nvPicPr>
        <p:blipFill>
          <a:blip r:embed="rId3"/>
          <a:stretch/>
        </p:blipFill>
        <p:spPr>
          <a:xfrm>
            <a:off x="357120" y="1500120"/>
            <a:ext cx="38577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73080" y="268200"/>
            <a:ext cx="7553160" cy="13716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380520" y="1633680"/>
            <a:ext cx="3886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использование физической силы против другого лиц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16" name="Рисунок 3" descr="http://doublex.ru/upload/3d/ef/18/125/8c957231_big.jpg"/>
          <p:cNvPicPr/>
          <p:nvPr/>
        </p:nvPicPr>
        <p:blipFill>
          <a:blip r:embed="rId2"/>
          <a:stretch/>
        </p:blipFill>
        <p:spPr>
          <a:xfrm>
            <a:off x="0" y="2500200"/>
            <a:ext cx="4214880" cy="385776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4" descr="http://glavmed.com.ua/pics/news/childagress.jpg"/>
          <p:cNvPicPr/>
          <p:nvPr/>
        </p:nvPicPr>
        <p:blipFill>
          <a:blip r:embed="rId3"/>
          <a:stretch/>
        </p:blipFill>
        <p:spPr>
          <a:xfrm>
            <a:off x="7215120" y="428760"/>
            <a:ext cx="1928880" cy="222228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5" descr="http://bilostalo.ru/sites/default/files/imagecache/profile_image/detskaya-agressiya-bilo.jpg"/>
          <p:cNvPicPr/>
          <p:nvPr/>
        </p:nvPicPr>
        <p:blipFill>
          <a:blip r:embed="rId4"/>
          <a:stretch/>
        </p:blipFill>
        <p:spPr>
          <a:xfrm>
            <a:off x="4214880" y="1357200"/>
            <a:ext cx="2984400" cy="284184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6" descr="http://img3.imgbb.ru/b/8/e/b8eb5af6823c9e62c93f916fd1f200b0.jpg"/>
          <p:cNvPicPr/>
          <p:nvPr/>
        </p:nvPicPr>
        <p:blipFill>
          <a:blip r:embed="rId5"/>
          <a:stretch/>
        </p:blipFill>
        <p:spPr>
          <a:xfrm>
            <a:off x="4214880" y="3708360"/>
            <a:ext cx="492912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73080" y="268200"/>
            <a:ext cx="7553160" cy="13716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380520" y="1633680"/>
            <a:ext cx="3886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ыражение негативных чувств как через форму (крик, визг), так и через содержание словесных ответов (проклятия, угрозы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22" name="Рисунок 3" descr="http://svetrus.org/uploads/posts/2012-12/1354640025_detskaya-agresiya.jpg"/>
          <p:cNvPicPr/>
          <p:nvPr/>
        </p:nvPicPr>
        <p:blipFill>
          <a:blip r:embed="rId2"/>
          <a:stretch/>
        </p:blipFill>
        <p:spPr>
          <a:xfrm>
            <a:off x="4429080" y="1714680"/>
            <a:ext cx="4714920" cy="514332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4" descr="http://static2.aif.ru/public/article/big/867/86cd7e17b9c8ca843473971b91a6fb99.0.jpg"/>
          <p:cNvPicPr/>
          <p:nvPr/>
        </p:nvPicPr>
        <p:blipFill>
          <a:blip r:embed="rId3"/>
          <a:stretch/>
        </p:blipFill>
        <p:spPr>
          <a:xfrm>
            <a:off x="285840" y="4143240"/>
            <a:ext cx="38574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378000" y="268200"/>
            <a:ext cx="7345080" cy="137160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380520" y="1633320"/>
            <a:ext cx="7691400" cy="15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ппозиционная манера в поведении от пассивного сопротивления до активной борьбы против установившихся обычаев и прави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4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26" name="Рисунок 3" descr="http://www.sidimdoma.net/wp-content/uploads/2011/03/detskaya-agressia.jpg"/>
          <p:cNvPicPr/>
          <p:nvPr/>
        </p:nvPicPr>
        <p:blipFill>
          <a:blip r:embed="rId2"/>
          <a:stretch/>
        </p:blipFill>
        <p:spPr>
          <a:xfrm>
            <a:off x="4929120" y="3000240"/>
            <a:ext cx="4214880" cy="385776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4" descr="http://kroskimami.ru/wp-content/uploads/2012/05/1288808266_agress.jpg"/>
          <p:cNvPicPr/>
          <p:nvPr/>
        </p:nvPicPr>
        <p:blipFill>
          <a:blip r:embed="rId3"/>
          <a:stretch/>
        </p:blipFill>
        <p:spPr>
          <a:xfrm>
            <a:off x="642960" y="3286080"/>
            <a:ext cx="37148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Рисунок 1" descr="http://festival.1september.ru/articles/528444/01.gif"/>
          <p:cNvPicPr/>
          <p:nvPr/>
        </p:nvPicPr>
        <p:blipFill>
          <a:blip r:embed="rId1"/>
          <a:stretch/>
        </p:blipFill>
        <p:spPr>
          <a:xfrm>
            <a:off x="6072120" y="0"/>
            <a:ext cx="307188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2" descr="http://zeus-portal.ucoz.ru/_nw/10/71479281.jpeg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64600" cy="14079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Gothic"/>
              </a:rPr>
              <a:t>Вспышки ярости с элементами агрессивного поведения наблюдаются тогда, когда желание ребёнка по каким-либо причинам не выполняется. Препятствием служит запрет или ограничения со стороны взрослого;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Gothic"/>
              </a:rPr>
              <a:t>Нередко встречаются ситуации, когда агрессивность ребёнка является частью протеста против действий взрослых. Родители заставляют ребёнка что-то делать, вызывая у него реакцию протеста;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Gothic"/>
              </a:rPr>
              <a:t>Агрессивность может быть следствием переживаний, связана с обидой, ущемлением самолюбия, или возникла как подражание.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03:44:13Z</dcterms:created>
  <dc:creator>Люда</dc:creator>
  <dc:description/>
  <dc:language>en-US</dc:language>
  <cp:lastModifiedBy>Андрей</cp:lastModifiedBy>
  <dcterms:modified xsi:type="dcterms:W3CDTF">2017-03-28T15:25:13Z</dcterms:modified>
  <cp:revision>90</cp:revision>
  <dc:subject/>
  <dc:title>Слайд 1</dc:title>
</cp:coreProperties>
</file>