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29.gif" ContentType="image/gif"/>
  <Override PartName="/ppt/media/image26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28.jpeg" ContentType="image/jpeg"/>
  <Override PartName="/ppt/media/image24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5EF-3A5C-4AD4-9938-36CF34F0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6FD-FDA8-4DE3-BF21-D28CC3B1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B387E6-7134-4F43-B1F8-CF4066BD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ED3733-03AA-45D1-AFCE-DBE09EF1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01D58-0D34-4E10-9472-0DFEEBA4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33D8C3-86F3-4AF4-BAC3-027BE4A6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319502-C29C-406D-A498-36245FD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964879-8C8F-460D-9C6F-71D7B38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661FC6-CD2E-431F-B18A-4B883395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6FB053-9B9E-46F8-8905-77152A5F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779944-8D50-446A-8238-123DCE32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1F6-63B4-4904-BE1E-81162787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28B-6C5C-4E10-886A-5413FE5F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63835-B302-4289-84D4-4D9E723A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76391-CE10-42C9-ACC1-7A6E1A6A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5A82-03EE-46A0-BA01-9C2FC20B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2765F-8BE1-4226-BF35-4B8C5551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F3E05-DBFD-4F43-AB48-078AA708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471D8-A098-499A-8626-4580E072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55EC-7DD8-45E6-8955-EC7C1A8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577-0E4A-4A0A-87FF-920F97B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4B7E3-3F30-415B-9B0D-7712FA0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D8516-1AFE-4FCB-918C-54DE46F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98E69-39B0-4FB1-989D-1658007C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66B6A-2704-44B4-A03C-6E6F11F0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6C6AF-2FBE-4C0B-9670-414663FB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C7A1-6533-4ECF-B2EA-9943A2C6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066F-B464-49BC-B9CE-4594434A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7599-8200-4170-A4EA-B4F71F7C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915B-8D1B-4F6E-BCE2-16E063BA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1F9B-3688-4B4E-94B0-92939ECC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84F-E142-424A-BA84-5CDB051F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EAB6E-552E-4693-BFF8-F2D3D763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4DE2-B2AC-42D5-BDF9-C112559F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0BEA-8067-44D6-A6E4-044BAF7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9A5B-917C-4AD8-8128-B90FFA7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398E-6CE0-4BFA-BACC-6922CFFF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133E-22EB-4C9A-B73B-0EE0B8CC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D397-C106-4FF5-9B98-1E54A921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F12FA-0479-4BA1-A74E-7234FD1C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58707-EBA9-46AE-9C8E-692EA8FB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677E0-54DA-42D7-9186-9A9370DA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172-3546-4C1C-8BBB-A2CE5DE3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1013F-2EE1-4E97-973B-986EE933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D3630-494F-4DA2-9922-09F69080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4CD6B-CBB8-4DB1-AE17-EA1333C4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D8B15-8686-4FA9-B45B-79B1B69F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1C50B-92B9-4EE4-A7C6-1DEA3563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95FAC-4A02-4DF1-A95D-E15433BA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50C59-3DA4-4E45-9879-1B8A3395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F6D12-7796-4965-BDA9-D8FB6FF4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52B55-AB70-45A0-83AC-93306208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F22FB-838F-40AE-9DE6-61D46642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50F-8DEA-42C5-BE93-DCDBF59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0FF2B-2E0C-4563-AD76-673A3434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627F-52E5-4A1E-B506-0727EF99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E9BF5-F380-4084-954A-9014AFF3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858F-D26D-4839-81BE-2E57F0A0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9FD79-8637-4F02-977C-206A2B74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A926-D420-4B1A-AFDA-D60DE08B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E110B-6599-48FD-AB61-0E8C413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FA29-6824-4F56-AC1E-F8BD9081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4D67F-2485-435B-AF0E-7679515E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6A7F-B974-43D2-A302-70C48E4A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A78-E16B-4185-9B2B-59BB9EDC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2C77B-5DC2-4DF0-B12F-B90E471A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0DF9-5596-4AB3-9257-B127F4D2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EBAF-E703-42CB-BD7D-1A9754FF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3B86C-19C6-49F4-9DF7-CD770EF6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89E9F-1641-4F0D-820A-8A27C68C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7A921-4A72-41C9-8D13-054D9D6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87FCA-F5DD-420C-95B8-EDA094B1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20AD-F411-472A-917D-CC800A7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A1711-A70D-4CF1-887E-B5F764BC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F6CB8-1265-4F1F-86C4-5683404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9D0-1B68-452D-9B8A-D7DADD0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0F8AF-14E5-4AC1-992B-501C12F4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7F644-032D-4A57-AEBA-398FF71D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5CA7B-9878-4519-AEC8-EED5CD1B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11A8B-5C83-4005-992D-7B6804E7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10FE-B196-45B1-8C34-2A6A0433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D1100-FEEE-4D10-911C-B900669A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D48C-2DDB-4150-A2FE-AE514D3E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B6D45-024D-45B8-AE50-5FD5BF6D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5CA3-DD83-4343-87EA-510D4F99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94E5E-BA72-4B46-B5A6-4112A02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A8F-4E64-45A0-B551-068200E1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CAB4-7FF8-41D8-915C-A52CA045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018A6-010C-4412-8C55-82EF217F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2F8EF-F3F4-460E-B97E-41454FE7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C26A4-8A93-4B0B-ADB3-8A99E851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BDC6F-01EF-4075-8420-7E1A6D96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DC6941-3349-4B1C-B6C8-679948A3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B096E8-58F5-4A54-BD2C-0F9209A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02990A-7288-4A45-9607-D62FFDF7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397F9E-10C2-4BA6-BF75-BD9A43E2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379487-F124-464F-A487-6198B3B0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1B8-B7EF-47C1-93D4-889FEDF3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4C4DDE-C355-4407-A6FE-57484DB9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309593-AB37-4A59-B8E0-53EC0E4F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29724A-94C9-4BD1-A0B7-98CB8398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468EA4-A82E-422A-8096-93C8D871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9CE82-8B4C-4B0F-A80A-5D1CC78B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199DA4-FD9B-4162-850A-4519A55F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207C6-E5E4-40DD-B83F-0D9A7A4F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3C80D-15F8-4DD5-BCB8-A827FDA9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9F17D-F7D7-4766-BBF4-518AC5C4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CABB40-8B28-441B-AB76-D53BE9D8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C24A-0987-4C02-B6CA-E4716591E86A}" type="slidenum">
              <a:rPr b="0" lang="en-US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AE9-3EFC-4F4B-BA22-FB4854D0CD84}" type="slidenum">
              <a:rPr b="0" lang="en-US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114-AEA5-42C8-9117-E55DECD61A50}" type="slidenum">
              <a:rPr b="0" lang="en-US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7E21-D697-453F-897D-CD09517442AA}" type="slidenum">
              <a:rPr b="0" lang="en-US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26AB-08A3-4BA6-BCA1-13B300717E75}" type="slidenum">
              <a:rPr b="0" lang="en-US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248-E85E-4829-94F1-70F4D521B303}" type="slidenum">
              <a:rPr b="0" lang="en-US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EAB1-D084-4452-AC4C-2EF9CC919420}" type="slidenum">
              <a:rPr b="0" lang="en-US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65E2-F859-4431-9D25-AEA31AC2F58C}" type="slidenum">
              <a:rPr b="0" lang="en-US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7850-0B1A-4885-86DA-FF1916987315}" type="slidenum">
              <a:rPr b="0" lang="en-US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4952880"/>
            <a:ext cx="655956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Выполнила: Моисеева Юлия, ученица8 «Б» класса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МОУ «Гимназия №20»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6952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Теплый воздух имеет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меньшую плотность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и со стороны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холодного воздуха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а него действует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ила Архимеда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аправленная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ертикально вверх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4" descr="Рис"/>
          <p:cNvPicPr/>
          <p:nvPr/>
        </p:nvPicPr>
        <p:blipFill>
          <a:blip r:embed="rId2"/>
          <a:stretch/>
        </p:blipFill>
        <p:spPr>
          <a:xfrm>
            <a:off x="4495680" y="1981080"/>
            <a:ext cx="398016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4" descr=""/>
          <p:cNvPicPr/>
          <p:nvPr/>
        </p:nvPicPr>
        <p:blipFill>
          <a:blip r:embed="rId2"/>
          <a:stretch/>
        </p:blipFill>
        <p:spPr>
          <a:xfrm>
            <a:off x="450720" y="1639800"/>
            <a:ext cx="4584960" cy="28591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C:\Users\123\Desktop\Shema-ustrojstva-pechi-kamina.jpg"/>
          <p:cNvPicPr/>
          <p:nvPr/>
        </p:nvPicPr>
        <p:blipFill>
          <a:blip r:embed="rId3"/>
          <a:stretch/>
        </p:blipFill>
        <p:spPr>
          <a:xfrm>
            <a:off x="5181480" y="1752480"/>
            <a:ext cx="34261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А – жидкость нагревается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и вследствие уменьшения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ее плотности,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движется вверх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– нагретая жидкость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однимается вверх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 – на место поднявшейся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жидкости приходит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холодная,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роцесс повторяется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7" name="Picture 5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124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  результате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онвекции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  атмосфере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образуются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етры у  моря -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это  дневные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и  ночные  бризы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0" name="Picture 7" descr="P7290064"/>
          <p:cNvPicPr/>
          <p:nvPr/>
        </p:nvPicPr>
        <p:blipFill>
          <a:blip r:embed="rId2"/>
          <a:stretch/>
        </p:blipFill>
        <p:spPr>
          <a:xfrm>
            <a:off x="457200" y="1731960"/>
            <a:ext cx="4038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63040" cy="1165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Cambria"/>
              </a:rPr>
              <a:t>обеспечивается  водяное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Cambria"/>
              </a:rPr>
              <a:t>охлаждение  двигателей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Cambria"/>
              </a:rPr>
              <a:t>внутреннего  сгорания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3" name="Picture 7" descr="29021"/>
          <p:cNvPicPr/>
          <p:nvPr/>
        </p:nvPicPr>
        <p:blipFill>
          <a:blip r:embed="rId2"/>
          <a:stretch/>
        </p:blipFill>
        <p:spPr>
          <a:xfrm>
            <a:off x="762120" y="1523880"/>
            <a:ext cx="3343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0200" cy="14810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Это теплопередача, при которой энергия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ереносится различными лучами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Темные тела лучше поглощают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излучение и быстрее нагреваются,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чем светлые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Темные тела быстрее охлаждаютс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7" name="Picture 6" descr="volvo_S40_11"/>
          <p:cNvPicPr/>
          <p:nvPr/>
        </p:nvPicPr>
        <p:blipFill>
          <a:blip r:embed="rId2"/>
          <a:stretch/>
        </p:blipFill>
        <p:spPr>
          <a:xfrm>
            <a:off x="5181480" y="4648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11"/>
          <p:cNvPicPr/>
          <p:nvPr/>
        </p:nvPicPr>
        <p:blipFill>
          <a:blip r:embed="rId3"/>
          <a:stretch/>
        </p:blipFill>
        <p:spPr>
          <a:xfrm>
            <a:off x="2209680" y="4038480"/>
            <a:ext cx="1143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явление передачи внутренней энергии от одного тела к другому или от одной его части к другой. В этом случае тела и все части, участвующие в процессе, находятся в непосредственном контакте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амо вещество не перемещается вдоль тела- переносится лишь энергия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01760" y="249120"/>
            <a:ext cx="858996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6840" y="164592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мплитуда колебаний атомов в узлахкристаллической решетки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точке А меньше, чем в точке В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следствие взаимодействия атомов друг с другом амплитуда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олебаний атомов, находящихся рядом с точкой В,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озрастает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558180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еталлы обладают хорошей теплопроводностью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Жидкости обладают меньшей теплопроводностью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Газы плохо проводят тепло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04" name="Picture 2" descr="5 теплоиз материалы"/>
          <p:cNvPicPr/>
          <p:nvPr/>
        </p:nvPicPr>
        <p:blipFill>
          <a:blip r:embed="rId1"/>
          <a:stretch/>
        </p:blipFill>
        <p:spPr>
          <a:xfrm>
            <a:off x="1554120" y="1143000"/>
            <a:ext cx="6035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28680" y="249120"/>
            <a:ext cx="866304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нег  предохраняет озимые  посевы  от  вымерзания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7" name="Содержимое 5" descr="0359166428.jpg"/>
          <p:cNvPicPr/>
          <p:nvPr/>
        </p:nvPicPr>
        <p:blipFill>
          <a:blip r:embed="rId2"/>
          <a:stretch/>
        </p:blipFill>
        <p:spPr>
          <a:xfrm>
            <a:off x="3368520" y="3124080"/>
            <a:ext cx="52498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380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Мех  животных  из-за  плохой теплопроводности предохраняет  их  от  перей охлаждения  зимой и  перегрева  летом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5" descr="tiger003"/>
          <p:cNvPicPr/>
          <p:nvPr/>
        </p:nvPicPr>
        <p:blipFill>
          <a:blip r:embed="rId1"/>
          <a:stretch/>
        </p:blipFill>
        <p:spPr>
          <a:xfrm>
            <a:off x="4876920" y="380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tiger2"/>
          <p:cNvPicPr/>
          <p:nvPr/>
        </p:nvPicPr>
        <p:blipFill>
          <a:blip r:embed="rId2"/>
          <a:stretch/>
        </p:blipFill>
        <p:spPr>
          <a:xfrm>
            <a:off x="762120" y="3429000"/>
            <a:ext cx="3816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14360" y="249120"/>
            <a:ext cx="857736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>
              <a:lnSpc>
                <a:spcPct val="9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"/>
              </a:rPr>
              <a:t>Для того, чтобы предотвратить ожоги тела от прикосновения к нагревающимся до высокой температуры приборам – их защищают оболочкой из материалов с низкой теплопроводностью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74320" indent="-274320">
              <a:lnSpc>
                <a:spcPct val="9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"/>
              </a:rPr>
              <a:t>Для ускорения процесса нагрева или охлаждения соответствующие детали устройств делают из материалов с высокой теплопроводностью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(от лат. конвекцио – перенесение)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еренос энергии самими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труями газа или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жидкости. Этот вид теплопередачи не является чисто тепловым процессом, так как перемешивание слоев газа или жидкости всегда связано с какими-то внешними, нетепловыми причинами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онвекция в твердых телах и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акууме происходить не может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6T19:33:58Z</dcterms:created>
  <dc:creator>123</dc:creator>
  <dc:description/>
  <dc:language>en-US</dc:language>
  <cp:lastModifiedBy>Гимназия 20</cp:lastModifiedBy>
  <dcterms:modified xsi:type="dcterms:W3CDTF">2017-12-29T05:20:37Z</dcterms:modified>
  <cp:revision>13</cp:revision>
  <dc:subject/>
  <dc:title>Способы теплопередачи в природе и технике.</dc:title>
</cp:coreProperties>
</file>