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C5C-BDEF-49E0-A294-66ECEF98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865-7C2D-4094-8C81-10EC26AA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D07-697C-40A6-A6CB-86622C3A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BAF-AFD0-4749-BBAD-19F0ABD1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BD91B-EAD2-4982-8D07-0391F02B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1CC37-3C15-4B88-8F73-ED05CECF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B3F66-86C6-4EB2-87EB-6B5827E2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A4B99-0BDC-4319-9EF2-79399802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3FEF5-4769-4048-80B9-4C8FD659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A6128-EC5F-4747-BE36-5F3D11BC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AB34D-173C-45F2-B9A5-771A485C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919-6370-40C8-B96E-ADF22018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87103-0173-48FE-99DF-47611EA7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29EB7-F6F4-4F60-8894-C9F4369F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F8BE5-28A7-49BA-A5DC-EF580C2D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E16FB-C626-4065-B4F7-2963FF30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C1883-B82F-486F-BDE1-75CFF4F8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C8D-B73D-4069-B0F8-F10E2614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6DC-203F-4FD3-A646-235D8141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9D1-533F-40B8-B7DA-D11E0C37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20C-0D40-49F1-A709-AFCF6625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712-127D-4182-A639-E9517411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FB5-4CA5-4705-9721-3DC96148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E57-BB7F-4752-99D2-D197B48F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497E-F164-41B3-BEE1-F675195591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6330-5B7A-4AEF-B6E6-FE737E023A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atematika-na.ru/5class/mat_5_8.php" TargetMode="External"/><Relationship Id="rId2" Type="http://schemas.openxmlformats.org/officeDocument/2006/relationships/hyperlink" Target="http://www.matematika-na.ru/5class/mat_5_8.php" TargetMode="External"/><Relationship Id="rId3" Type="http://schemas.openxmlformats.org/officeDocument/2006/relationships/hyperlink" Target="http://www.matematika-na.ru/5class/mat_5_8.php" TargetMode="External"/><Relationship Id="rId4" Type="http://schemas.openxmlformats.org/officeDocument/2006/relationships/hyperlink" Target="http://www.matematika-na.ru/5class/mat_5_8.php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Учебное пособие по решению задач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343040" y="4038480"/>
            <a:ext cx="4419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Выполнил ученик 5 класс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Гуляев Дани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Руководитель Пивкина Е. 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859120" cy="35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ff99"/>
                </a:solidFill>
                <a:latin typeface="Arial"/>
              </a:rPr>
              <a:t>Не забудьте сделать проверку </a:t>
            </a:r>
            <a:r>
              <a:rPr b="1" i="1" lang="en-US" sz="6000" spc="-1" strike="noStrike">
                <a:solidFill>
                  <a:srgbClr val="99ff99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859120" cy="35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ef40a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f40a"/>
                </a:solidFill>
                <a:latin typeface="Arial"/>
              </a:rPr>
              <a:t>Решите задачу, составив уравн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2120" y="2716200"/>
            <a:ext cx="8076960" cy="414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0a"/>
                </a:solidFill>
                <a:latin typeface="Arial"/>
              </a:rPr>
              <a:t>Верёвку длиной 18м разрезали на два куска, причём длина одного куска в 5 раз больше другого. Найдите длину меньшего кус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0a"/>
                </a:solidFill>
                <a:latin typeface="Arial"/>
              </a:rPr>
              <a:t>Коля прочитал книгу за 2 дня, причём в первый день он прочитал в 3 раза больше страниц, чем во второй. Сколько страниц прочитал Коля во второй день, если в книге 96 страниц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За два букета цветов заплатили 660 рублей, причём за первый букет заплатили в 3 раза больше, чем за второй. Сколько стоит каждый букет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умма двух чисел равна 264. Одно из них в 3 раза меньше другого. Найдите меньшее чис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40a"/>
                </a:solidFill>
                <a:latin typeface="Arial"/>
              </a:rPr>
              <a:t>Для приготовления смеси для рассады берут 1 часть торфа, 2 части перегноя и 5 частей земли. Сколько килограммов торфа, перегноя и земли надо взять для приготовления 72 кг смеси для рассады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40a"/>
                </a:solidFill>
                <a:latin typeface="Arial"/>
              </a:rPr>
              <a:t>Для оклеивания комнаты и коридора купили 25 рулонов обоев. Сколько рулонов пойдёт на оклеивание комнаты, если для неё нужно в 4 раза больше обоев, чем для коридор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0a"/>
                </a:solidFill>
                <a:latin typeface="Arial"/>
              </a:rPr>
              <a:t>Масса первой детали в 7 раз больше массы второй детали , а масса второй детали на 90кг меньше первой. Найдите массу каждой дет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0a"/>
                </a:solidFill>
                <a:latin typeface="Arial"/>
              </a:rPr>
              <a:t>Латунь состоит из 2 частей цинка и 3 частей меди. Сколько граммов меди в куске латуни массой 450г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Задачи, составленные учащимися 5 класс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ё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В первой банке варенья в 4 раза больше, чем во второй. Сколько варенья во второй банке, если в двух банках 40 литров варень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Arial"/>
              </a:rPr>
              <a:t>Кир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На немецком автозаводе было 45 машин. Мерседесов было на 5 больше, чем фольксвагенов. Сколько фольксвагенов было на заводе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Эд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33"/>
                </a:solidFill>
                <a:latin typeface="Arial"/>
              </a:rPr>
              <a:t>Самолёт стоит 9000000 рублей, а вертолёт в </a:t>
            </a: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ccff33"/>
                </a:solidFill>
                <a:latin typeface="Arial"/>
              </a:rPr>
              <a:t> раз больше. Вместе они стоят 27000000 рублей. Сколько стоит вертол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ед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Два брата убрали 45 вёдер картошки. Старший убрал в 4 раза больше, чем младший. Сколько вёдер картошки  убрал каждый бра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главл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0a"/>
                </a:solidFill>
                <a:latin typeface="Arial"/>
              </a:rPr>
              <a:t>1.Пояснительная запис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0a"/>
                </a:solidFill>
                <a:latin typeface="Arial"/>
              </a:rPr>
              <a:t>2.Цели и задачи автора пособ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0a"/>
                </a:solidFill>
                <a:latin typeface="Arial"/>
              </a:rPr>
              <a:t>3.Уравн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0a"/>
                </a:solidFill>
                <a:latin typeface="Arial"/>
              </a:rPr>
              <a:t>4. Задачи на составление урав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0a"/>
                </a:solidFill>
                <a:latin typeface="Arial"/>
              </a:rPr>
              <a:t>5.Используемый ресур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Кат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В двух корзинах 80 грибов, причём во второй корзине в 3 раза больше, чем в первой. Сколько грибов в первой корзине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0101"/>
                </a:solidFill>
                <a:latin typeface="Arial"/>
              </a:rPr>
              <a:t>Дани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Arial"/>
              </a:rPr>
              <a:t>На одной стороне улицы 12 домов, а на другой в 5 раз больше. Сколько домов на второй улице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Оле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Мама, Лиза и Катя собирали ирисы. Всего ирисов 178, мама собрала 30 ирисов, Лиза в 3 раза больше, чем мама. Сколько ирисов собрала Кат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Ар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Чтобы съездить в Анапу и США необходимо 350 тысяч рублей. В США потребуется в 4 раза больше денег. Сколько денег потребуется для поездки в Анапу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Ираи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Три девочки собрали на берегу моря 44 ракушки. Маша нашла в 4 раза больше ракушек, чем Лена, а Лена в 2 раза больше, чем Настя. Сколько ракушек собрала каждая из девочек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f40a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1)Рабочая тетрадь по математике к учебнику Н. Я. Виленкина  «Математика 5 класс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Автор  Ерина Т. М. издательство «Экзамен» Москва   2013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2)Дидактические материалы по математике 5 класс, авторы А. С. Чесноков, К. И. Неш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Издательство  Академкнига/учебник  Москва 2014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3)интернет ресурс </a:t>
            </a:r>
            <a:r>
              <a:rPr b="0" lang="ru-RU" sz="16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www.matematika-na.ru</a:t>
            </a:r>
            <a:r>
              <a:rPr b="0" lang="ru-RU" sz="16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/5class/mat_5_8.p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4)Задачи, составленные учащимися 5класса МОУ «СОШ» Деревянск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Малев Алекс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Медведева Ираи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Малева Оле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Карпинская Екатер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Липин Фёд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Холопов Эдуар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Ракина Ар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Игнатов Кирил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Гуляев Дании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02" descr=""/>
          <p:cNvPicPr/>
          <p:nvPr/>
        </p:nvPicPr>
        <p:blipFill>
          <a:blip r:embed="rId5"/>
          <a:stretch/>
        </p:blipFill>
        <p:spPr>
          <a:xfrm>
            <a:off x="6858000" y="3886200"/>
            <a:ext cx="2075040" cy="242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5050"/>
                </a:solidFill>
                <a:latin typeface="Arial"/>
              </a:rPr>
              <a:t>Спасибо за внимание </a:t>
            </a:r>
            <a:r>
              <a:rPr b="1" i="1" lang="en-US" sz="7200" spc="-1" strike="noStrike">
                <a:solidFill>
                  <a:srgbClr val="ff505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4216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859120" cy="35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f40a"/>
                </a:solidFill>
                <a:latin typeface="Arial"/>
              </a:rPr>
              <a:t>Многими математическими знаниями люди пользовались ещё в глубокой  древности -тысячи лет назад. Они были необходимы древним купцам и строителям, воинам и землемерам, жрецам и путешественни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f40a"/>
                </a:solidFill>
                <a:latin typeface="Arial"/>
              </a:rPr>
              <a:t>И в наши дни ни одному человеку не обойтись в жизни без хорошего знания математики. Рабочий и моряк, инженер и полевод, лётчик и домашняя хозяйка выполняют различные вычисления, решают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f40a"/>
                </a:solidFill>
                <a:latin typeface="Arial"/>
              </a:rPr>
              <a:t>Очень часто эти задачи сложны и не решаются по действиям. Тогда на помощь приходят уравнения. Решать уравнения тоже очень непросто и лучше начинать с самых  прост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f40a"/>
                </a:solidFill>
                <a:latin typeface="Arial"/>
              </a:rPr>
              <a:t>В данном учебном пособии, которое рассчитано на уровень 4-5 класса, представлены и простые уравнения и более сложные, а также задачи с применением уравн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f40a"/>
                </a:solidFill>
                <a:latin typeface="Arial"/>
              </a:rPr>
              <a:t>Задачи были подобраны из разных источников, некоторые задания были составлены учениками 5 класса МОУ «СОШ» Деревянс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f40a"/>
                </a:solidFill>
                <a:latin typeface="Arial"/>
              </a:rPr>
              <a:t>Это пособие предназначено и для учащихся и для преподавателей, которые могут использовать его в раб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Цели и задачи пособия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40a"/>
                </a:solidFill>
                <a:latin typeface="Arial"/>
              </a:rPr>
              <a:t>Основной целью пособия является привлечение более пристального внимания к математике как к школьному предмету, оказание помощи в решении задач, повышение успеваемости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40a"/>
                </a:solidFill>
                <a:latin typeface="Arial"/>
              </a:rPr>
              <a:t>Для достижения этой цели поставлены следующие 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40a"/>
                </a:solidFill>
                <a:latin typeface="Arial"/>
              </a:rPr>
              <a:t>Научиться решать уравнения от простых к сложным, устранить пробелы в зна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40a"/>
                </a:solidFill>
                <a:latin typeface="Arial"/>
              </a:rPr>
              <a:t>Научиться решать задачи с применением уравнений и составлять 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Решение уравне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апишите и сформулируйте определ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991640" cy="221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Придумайте и запишите какое-нибудь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14280" y="2895480"/>
            <a:ext cx="8829720" cy="2589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02" descr=""/>
          <p:cNvPicPr/>
          <p:nvPr/>
        </p:nvPicPr>
        <p:blipFill>
          <a:blip r:embed="rId2"/>
          <a:stretch/>
        </p:blipFill>
        <p:spPr>
          <a:xfrm>
            <a:off x="6629400" y="2971800"/>
            <a:ext cx="197496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Проверьте, правильно ли решены уравне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2455920" cy="1147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581280" y="3276720"/>
            <a:ext cx="2438640" cy="1152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400800" y="3352680"/>
            <a:ext cx="2330280" cy="11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33520" y="4648320"/>
            <a:ext cx="2711160" cy="131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657600" y="4751280"/>
            <a:ext cx="2286000" cy="1363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6477120" y="4800600"/>
            <a:ext cx="2286000" cy="117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Решите каждое уравнение двумя способам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7391520" cy="481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Уравнения для самостоятельной работ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99"/>
                </a:solidFill>
                <a:latin typeface="Arial"/>
              </a:rPr>
              <a:t>13 + </a:t>
            </a: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X = 37                            X – 56 =41                             X – 391 =9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X + 37 = 85                            156 + Y = 218                        m – 94 = 18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37X = 259                               252</a:t>
            </a:r>
            <a:r>
              <a:rPr b="1" lang="ru-RU" sz="2400" spc="-1" strike="noStrike">
                <a:solidFill>
                  <a:srgbClr val="ccff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Y = 21                              4X + 4X = 424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3X + 7X + 18 = 178                 X – (133 + 75) = 32</a:t>
            </a:r>
            <a:r>
              <a:rPr b="1" lang="ru-RU" sz="2400" spc="-1" strike="noStrike">
                <a:solidFill>
                  <a:srgbClr val="ccff99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(163 – X) – 117 =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(39 + X) – 27 = 2</a:t>
            </a:r>
            <a:r>
              <a:rPr b="1" lang="ru-RU" sz="2400" spc="-1" strike="noStrike">
                <a:solidFill>
                  <a:srgbClr val="ccff99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44 – (22 + X) = 22</a:t>
            </a:r>
            <a:r>
              <a:rPr b="1" lang="ru-RU" sz="2400" spc="-1" strike="noStrike">
                <a:solidFill>
                  <a:srgbClr val="ccff99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(X – 87) – 27 =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( X + 15) – 8 = 17</a:t>
            </a:r>
            <a:r>
              <a:rPr b="1" lang="ru-RU" sz="2400" spc="-1" strike="noStrike">
                <a:solidFill>
                  <a:srgbClr val="ccff99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(24 + X) – 21 = 10</a:t>
            </a:r>
            <a:r>
              <a:rPr b="1" lang="ru-RU" sz="2400" spc="-1" strike="noStrike">
                <a:solidFill>
                  <a:srgbClr val="ccff99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(45 – Y) + 18 = 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0T08:13:40Z</dcterms:created>
  <dc:creator>Екатерина</dc:creator>
  <dc:description/>
  <dc:language>en-US</dc:language>
  <cp:lastModifiedBy>Екатерина</cp:lastModifiedBy>
  <dcterms:modified xsi:type="dcterms:W3CDTF">2016-03-29T16:22:5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