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67E9-9334-4F01-95D1-A6732D3577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C8C5-C1C4-4A4A-B126-05691901C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1E5D-9B77-4122-9F49-7EC27A343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436A-55D3-40D4-ADEA-B2407DA5B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D11-C888-4BD5-9BE8-D2CD7D10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F9B-F854-4FC6-ABCF-EA94D809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804-8CEF-4DC0-977C-2D2E2570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CD3-25F5-4B65-A5B5-2932D18D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9C2-CC19-4F6F-8DE4-5F606A5D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A54-4E14-4DA7-A137-CFFB542A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4C1-6492-4786-A5CD-90721C6D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8A9-C35E-421E-B0C9-5AE36FE0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58B-B87E-4C79-9490-CD6876D9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F0F-6FD5-4DDB-B0D4-BCDAE77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D6C-3EDF-4B6A-8CF5-6713EB82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942-DEF2-453F-8A56-D448A761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7075-F38C-415E-BEBD-32811EEC938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306828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98989"/>
                </a:solidFill>
                <a:latin typeface="Calibri"/>
              </a:rPr>
              <a:t>Как правильно взаимодействовать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100" spc="-1" strike="noStrike">
                <a:solidFill>
                  <a:srgbClr val="898989"/>
                </a:solidFill>
                <a:latin typeface="Calibri"/>
              </a:rPr>
              <a:t>с подростком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13880" y="1285920"/>
            <a:ext cx="79153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, что дурные поступки не всегда являются отражением внутреннего мира подрос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переживайте, не высмеивайте и не отталкивайте в минуты откров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42960" y="356760"/>
            <a:ext cx="812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проводить время вместе. Только не сидите молча у телевизора, а займитесь интересным ему делом. Например, сыграйте в баскетбол или спойте под гита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мешивайтесь в занятия, с которыми он справляется и без вас, не навязывайте свое мнение по любому вопросу, не критикуйт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71680" y="428760"/>
            <a:ext cx="791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йте, когда он просит вас об э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ивайте даже самые ничтожные успехи во всем - в учебе, спорте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итесь своими чувств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ешайте конфликты мирным путем. Не давайте волю слезам, крикам, угроз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13880" y="1071360"/>
            <a:ext cx="7844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ще используйте приветливые фразы. Например: «Мне хорошо с тобой», «Я рада тебя видеть», «Мне нравится, как ты...», «Я по тебе соскучилась», «Давай (посидим, поделаем...) вместе», «Ты, конечно, справишься», «Как хорошо, что ты у нас есть»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42600" y="1143000"/>
            <a:ext cx="8272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имайтесь! Не менее четырех, а лучше восьми раз в день. В проявлениях родительской ласки «взрослые» подростки нуждаются порой отчаяннее, чем крохотные карапуз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остаё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9680" y="1213920"/>
            <a:ext cx="7986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, подросшие дети - не подарки. Очень сложно порой вести себя с ними сдержанно и спокойно. Но важно помнить мудрые слова: «И это пройдет». Возьмите за правило, ложась спать, анализировать прожитый день. Мысленно отмечайте ошибки в общении с подростком, старайтесь спрогнозировать его повед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99680" y="1109520"/>
            <a:ext cx="798660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ая предсказуемость поможет спокойному и доброжелательному общению. Тогда, став действительно взрослым человеком, он не потеряет уверенности в том, что лучшие друзья - это родители. Ведь именно они в трудную минуту поддержали, смогли понять и прин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28800" y="1143000"/>
            <a:ext cx="7696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радой вам будут доверие, уважение и любов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это так важ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5" descr="\\MICROSOF-05BCCC\User (D)\Семейная\Ирина\Анимашки\13 (1).gif"/>
          <p:cNvPicPr/>
          <p:nvPr/>
        </p:nvPicPr>
        <p:blipFill>
          <a:blip r:embed="rId1"/>
          <a:stretch/>
        </p:blipFill>
        <p:spPr>
          <a:xfrm>
            <a:off x="3571920" y="2928960"/>
            <a:ext cx="22860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1:02:16Z</dcterms:created>
  <dc:creator>Zver</dc:creator>
  <dc:description/>
  <dc:language>en-US</dc:language>
  <cp:lastModifiedBy>Каменная степь</cp:lastModifiedBy>
  <dcterms:modified xsi:type="dcterms:W3CDTF">2017-12-29T08:40:53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