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E88F-C231-426B-A73E-67759A09A9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32C4-7B35-42D9-9B2F-5422262239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E9AC-23E6-4FD0-A90C-FCEAD59A29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41BA-631A-48AF-91B3-E541281998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9DA3-EF2D-44FF-A2D1-835E9F40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B38-6634-48D9-B3D1-CF92DF46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A96C-894A-4E1E-ACF8-12BB0E8B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CC2D-D80B-4AF4-A432-9815FF84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5DA-38DE-4424-B761-C606A7DC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28D-89F5-4AE8-95FA-3DB04680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3A8-D322-40BC-848F-6455BA61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81E-FFFB-48E1-A7C5-74932228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0845-EE44-43FD-BCAA-7FC4F81F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A8B-FBA8-4386-A2AD-9F657838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0503-E12F-43CB-A8EE-9E6E6E70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004-CA52-4A79-9F80-94562A44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268D-8757-4DDE-85FC-2EB0BFA21DC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alibri"/>
              </a:rPr>
              <a:t>Советы родителям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7640" y="306828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898989"/>
                </a:solidFill>
                <a:latin typeface="Calibri"/>
              </a:rPr>
              <a:t>Как правильно взаимодействовать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3100" spc="-1" strike="noStrike">
                <a:solidFill>
                  <a:srgbClr val="898989"/>
                </a:solidFill>
                <a:latin typeface="Calibri"/>
              </a:rPr>
              <a:t>с подростком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13880" y="1285920"/>
            <a:ext cx="79153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те, что дурные поступки не всегда являются отражением внутреннего мира подрост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переживайте, не высмеивайте и не отталкивайте в минуты откровен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42960" y="356760"/>
            <a:ext cx="812952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айтесь проводить время вместе. Только не сидите молча у телевизора, а займитесь интересным ему делом. Например, сыграйте в баскетбол или спойте под гита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мешивайтесь в занятия, с которыми он справляется и без вас, не навязывайте свое мнение по любому вопросу, не критикуйт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71680" y="428760"/>
            <a:ext cx="791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гайте, когда он просит вас об э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держивайте даже самые ничтожные успехи во всем - в учебе, спорте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литесь своими чувствам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ешайте конфликты мирным путем. Не давайте волю слезам, крикам, угроз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13880" y="1071360"/>
            <a:ext cx="7844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ще используйте приветливые фразы. Например: «Мне хорошо с тобой», «Я рада тебя видеть», «Мне нравится, как ты...», «Я по тебе соскучилась», «Давай (посидим, поделаем...) вместе», «Ты, конечно, справишься», «Как хорошо, что ты у нас есть»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42600" y="1143000"/>
            <a:ext cx="82724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нимайтесь! Не менее четырех, а лучше восьми раз в день. В проявлениях родительской ласки «взрослые» подростки нуждаются порой отчаяннее, чем крохотные карапуз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остаёт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9680" y="1213920"/>
            <a:ext cx="79866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, подросшие дети - не подарки. Очень сложно порой вести себя с ними сдержанно и спокойно. Но важно помнить мудрые слова: «И это пройдет». Возьмите за правило, ложась спать, анализировать прожитый день. Мысленно отмечайте ошибки в общении с подростком, старайтесь спрогнозировать его повед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99680" y="1109520"/>
            <a:ext cx="798660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ая предсказуемость поможет спокойному и доброжелательному общению. Тогда, став действительно взрослым человеком, он не потеряет уверенности в том, что лучшие друзья - это родители. Ведь именно они в трудную минуту поддержали, смогли понять и приня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28800" y="1143000"/>
            <a:ext cx="7696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градой вам будут доверие, уважение и любов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это так важ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5" descr="\\MICROSOF-05BCCC\User (D)\Семейная\Ирина\Анимашки\13 (1).gif"/>
          <p:cNvPicPr/>
          <p:nvPr/>
        </p:nvPicPr>
        <p:blipFill>
          <a:blip r:embed="rId1"/>
          <a:stretch/>
        </p:blipFill>
        <p:spPr>
          <a:xfrm>
            <a:off x="3571920" y="2928960"/>
            <a:ext cx="228600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1:02:16Z</dcterms:created>
  <dc:creator>Zver</dc:creator>
  <dc:description/>
  <dc:language>en-US</dc:language>
  <cp:lastModifiedBy>Каменная степь</cp:lastModifiedBy>
  <dcterms:modified xsi:type="dcterms:W3CDTF">2017-12-29T08:40:53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49</vt:lpwstr>
  </property>
</Properties>
</file>