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56C-E88F-4311-9877-9E68A104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584-26AF-4D2A-BABF-09D0A2F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FD3-DEE4-486E-91EE-3E402A25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608-F425-4981-A4D0-CA65DCCB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696-8DB1-43EB-9309-C6EC90FB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1DB-0BBF-43B8-9FEC-BF278BB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67D-63FB-4E56-A92F-402378C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4CC-C038-4D86-9EEF-2CCBF37C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DE6-C061-47D0-A1DB-02152E3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E9E-BF2F-4A38-BF07-221EB7D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2A9-4566-4B6C-804D-44F80A3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D20-9063-466A-94A1-B793DD6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41E2-9F17-49E0-89CD-7A801A78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В мире эмоц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увство успеха – это ваша дружба с ребятами, симпатия со стороны других людей (одноклассников, знакомых, друзей по двору) и радость от общения. Общим словом: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Я – нравлюс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веренность в способностях – это достижение в учёбе нужных результатов, победы в другой вашей деятельности (в спортивной секции, кружке, где вы занимаетесь)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им словом: «Я способе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увство защищённости – это значимость в кругу, в котором ты общаешься (в школе, дворе, компании, секции…), отсутствие тревожности, чувство комфортности в общении с этими людьми, нет вражды со стороны окружающих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им словом: «Я защищё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ичто так не способствует успеху, как уверенность в нё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ибольшее значение для выражения эмоций имеет лиц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CRCTR049"/>
          <p:cNvPicPr/>
          <p:nvPr/>
        </p:nvPicPr>
        <p:blipFill>
          <a:blip r:embed="rId1"/>
          <a:stretch/>
        </p:blipFill>
        <p:spPr>
          <a:xfrm>
            <a:off x="2916360" y="2637000"/>
            <a:ext cx="3625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1870560"/>
            <a:ext cx="101916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658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0"/>
          <a:ext cx="8135640" cy="6864480"/>
        </p:xfrm>
        <a:graphic>
          <a:graphicData uri="http://schemas.openxmlformats.org/drawingml/2006/table">
            <a:tbl>
              <a:tblPr/>
              <a:tblGrid>
                <a:gridCol w="2808000"/>
                <a:gridCol w="1511280"/>
                <a:gridCol w="1297080"/>
                <a:gridCol w="1224000"/>
                <a:gridCol w="12952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жд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о не согла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ном не согла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ном согла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согла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Я сейчас споко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не ничто не угрож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Я нахожусь в напря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Я внутренне ско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Я чувствую себя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Я расстро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еня волнуют возможные неу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Я ощущаю душевный по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Я встревож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8360" y="0"/>
          <a:ext cx="7920000" cy="6735600"/>
        </p:xfrm>
        <a:graphic>
          <a:graphicData uri="http://schemas.openxmlformats.org/drawingml/2006/table">
            <a:tbl>
              <a:tblPr/>
              <a:tblGrid>
                <a:gridCol w="2890800"/>
                <a:gridCol w="1284120"/>
                <a:gridCol w="1297080"/>
                <a:gridCol w="1224000"/>
                <a:gridCol w="1224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Я испытываю чувство внутреннего удовле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Я уверен в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Я нервни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Я не нахожу себ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Я взвин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Я не чувствую внутренней скованности, напряжё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Я доволен со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Я озабо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Я слишком возбуждён, и мне не по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Мне радо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Мне при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ровень тревожности подсчитываем по форму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= А1 – А2 +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А1 – сумма цифр по пунктам 3, 4, 6,    7, 9, 12, 13, 14, 17,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2 – сумма остальных ци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 30 баллов – низкая тревожность;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1-45 – умеренная;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6 и более – высо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шли мне бури и ненаст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руй мучительные дни,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 от преступного бесстраст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 от покоя – сохр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управлять эмоция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32360" y="4076280"/>
            <a:ext cx="3951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Учитесь властвовать собой,» - писал 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учиться управлять своими эмоциями – это, в первую очередь, значит выражать их в такой форме, чтобы было понятно другим людям и не причиняло им вре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вление эмоция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ажайте чувства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явите терпимость к чей-то бурной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в других желаемое для вас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ажитесь от конфликтов, грубости, а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йтрализуйте желание отом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ас переполняют отрицательные эмоции, переведите тему раз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4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28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80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40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4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24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ами овладела сильная эмо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просите помощ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выход эмоциям, например, поплачь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лайте перерыв, посчитайте про себ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умайте о чём-то хорош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себе физическую нагруз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ймитесь самовнушением, что всё хорош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знайте, как успокаиваются другие, и попробуйте этот спосо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5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9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7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39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35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47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91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ши эмоции должны быть положительными – от этого зависит ваш успех. Если вы будете относится к людям с хорошими чувствами, они будут отвечать вам тем же. Научитесь, прежде всего, сопереживать, сочувствовать – это спасает не только другого человека, но и вас сам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м не дано предугадать,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ак слово наше отзовётся,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 нам сочувствие даётся,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ак нам даётся благо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ость! Возьми с собой в дорог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ую заветную мечт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людей душевную тревог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рдца жар и мыслей красот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дрость чувств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йкость в бурях жизн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жество во всём и до конц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ность друг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анность Отчизн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я гражданина и б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185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моция – это реакция человек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различные воздействия, проявляющаяся в виде удовольствия или неудовольствия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збуждения или успокоенности, напряжения или расслаб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ая эмоция имеет свой характер, при этом почти каждая из них имеет свою противополо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410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вер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щищё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ла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са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н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нави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765000"/>
            <a:ext cx="403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во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 сильные проявления эмоций – это аффект, гнев, ярость, агрессия, стресс, шок, паника, страсть, отчаяние ненави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3097440" cy="206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3024360" cy="201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03640" y="4724280"/>
            <a:ext cx="2504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37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7" autoRev="1" fill="hold">
                                          <p:stCondLst>
                                            <p:cond delay="1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1" fill="hold">
                                          <p:stCondLst>
                                            <p:cond delay="2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050"/>
                            </p:stCondLst>
                            <p:childTnLst>
                              <p:par>
                                <p:cTn id="1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увства – это высший уровень эмоций, отвечающий потребностям и отношениям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брые 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щё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лые 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в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ве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нави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250"/>
                            </p:stCondLst>
                            <p:childTnLst>
                              <p:par>
                                <p:cTn id="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75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2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61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110"/>
                            </p:stCondLst>
                            <p:childTnLst>
                              <p:par>
                                <p:cTn id="2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61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11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61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109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61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93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8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8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98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48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13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63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63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13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63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13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3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cf3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моциональное чувство складывается из основных эмоциональных ощущений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увство успеха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уверенность в способностях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увство защищ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8:48:30Z</dcterms:created>
  <dc:creator>Наташа</dc:creator>
  <dc:description/>
  <dc:language>en-US</dc:language>
  <cp:lastModifiedBy>Наташа</cp:lastModifiedBy>
  <dcterms:modified xsi:type="dcterms:W3CDTF">2013-02-08T16:03:00Z</dcterms:modified>
  <cp:revision>5</cp:revision>
  <dc:subject/>
  <dc:title>В мире эмоций</dc:title>
</cp:coreProperties>
</file>