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4D7-C7FE-4552-8CCD-79610153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49B-90CF-48CD-AB94-9716210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903-8DFB-4D5C-89A6-72D0EED8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115-FC21-4C31-A277-E7BD3910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FED0-9FF5-4D38-9E3A-B3DECEBF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EDC3-84CC-40B9-AF14-76419330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115F-1659-4F61-8D07-049D1C9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52D1-C993-4BCE-A5D4-7A17C8DE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3286-45C0-4EF3-B0CF-B52135C9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DD20-B487-4DA2-B3C2-9F17C11C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A5E4-BBEA-43C8-A4C5-6E3882C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97C-E741-41F3-8BA2-76D349E9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8605-5AE7-43F7-9919-D5B197F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B509-1B10-453B-890E-B5FBF1D0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DE84-03D9-406B-B00F-5E95518D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BBB0-34C6-443A-B278-986E8819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1745-4543-4262-8789-F26EB91C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231-0B24-4F2F-8F72-E39458C2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D96-3543-420F-843E-26D8A4FF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045-55C8-44FA-B5D3-099311BB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5ED-879E-4725-9EF2-66743175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43E-D40A-4275-829E-F50078DE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E46-B1A6-4A3E-A278-8C12303E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D48-2EF0-47A1-AE39-25CC3232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D6F7-06D2-4D0D-8675-0361780804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3C7D-84A5-4FB1-B9C5-9F8E120A80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Компот и кисель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Составление технологической карты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шить приме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соответствии с ответом    примера выбрать карточ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ить в нужном порядк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грибы ягоды.mp3" descr=""/>
          <p:cNvPicPr/>
          <p:nvPr/>
        </p:nvPicPr>
        <p:blipFill>
          <a:blip r:embed="rId1"/>
          <a:stretch/>
        </p:blipFill>
        <p:spPr>
          <a:xfrm>
            <a:off x="6094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22421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Times New Roman"/>
              </a:rPr>
              <a:t>Техника безопасности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работе с горячей посудой и жид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олняя кастрюлю жидкостью, не доливая д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жидкость закипит уменьшите нагр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мать горячую посуду с плиты прихва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работе с электропли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ать и выключать электроприбор сухи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включением проверь шн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Практическая работа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Picture 10" descr="33"/>
          <p:cNvPicPr/>
          <p:nvPr/>
        </p:nvPicPr>
        <p:blipFill>
          <a:blip r:embed="rId1"/>
          <a:stretch/>
        </p:blipFill>
        <p:spPr>
          <a:xfrm>
            <a:off x="838080" y="3506760"/>
            <a:ext cx="3733920" cy="2624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26"/>
          <p:cNvPicPr/>
          <p:nvPr/>
        </p:nvPicPr>
        <p:blipFill>
          <a:blip r:embed="rId2"/>
          <a:stretch/>
        </p:blipFill>
        <p:spPr>
          <a:xfrm>
            <a:off x="4495680" y="3584520"/>
            <a:ext cx="3810240" cy="24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11"/>
          <p:cNvPicPr/>
          <p:nvPr/>
        </p:nvPicPr>
        <p:blipFill>
          <a:blip r:embed="rId3"/>
          <a:stretch/>
        </p:blipFill>
        <p:spPr>
          <a:xfrm>
            <a:off x="4572000" y="1295280"/>
            <a:ext cx="3733920" cy="2490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ягод"/>
          <p:cNvPicPr/>
          <p:nvPr/>
        </p:nvPicPr>
        <p:blipFill>
          <a:blip r:embed="rId4"/>
          <a:stretch/>
        </p:blipFill>
        <p:spPr>
          <a:xfrm>
            <a:off x="838080" y="1295280"/>
            <a:ext cx="3733920" cy="249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Вспомним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- Вторые блюд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Узнаем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- Как готовить компот и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кисел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Будем учиться-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Готовить сладкие напитки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Times New Roman"/>
              </a:rPr>
              <a:t>Тема урока: </a:t>
            </a:r>
            <a:r>
              <a:rPr b="1" lang="ru-RU" sz="3600" spc="-1" strike="noStrike">
                <a:solidFill>
                  <a:srgbClr val="006633"/>
                </a:solidFill>
                <a:latin typeface="Times New Roman"/>
              </a:rPr>
              <a:t>Приготовление третьих блюд. Кисель и компот из ягод.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Picture 6" descr="12"/>
          <p:cNvPicPr/>
          <p:nvPr/>
        </p:nvPicPr>
        <p:blipFill>
          <a:blip r:embed="rId1"/>
          <a:stretch/>
        </p:blipFill>
        <p:spPr>
          <a:xfrm>
            <a:off x="380880" y="1676520"/>
            <a:ext cx="518184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g1"/>
          <p:cNvPicPr/>
          <p:nvPr/>
        </p:nvPicPr>
        <p:blipFill>
          <a:blip r:embed="rId2"/>
          <a:stretch/>
        </p:blipFill>
        <p:spPr>
          <a:xfrm>
            <a:off x="5715000" y="1676520"/>
            <a:ext cx="3048120" cy="403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Times New Roman"/>
              </a:rPr>
              <a:t>Повесть временных лет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оты стали широко распространены в Росси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е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исель на Руси славится издавна, овсяный кисель спас в </a:t>
            </a:r>
            <a:r>
              <a:rPr b="1" lang="en-N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еке город Белгород от печенег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6892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5"/>
          <p:cNvPicPr/>
          <p:nvPr/>
        </p:nvPicPr>
        <p:blipFill>
          <a:blip r:embed="rId1"/>
          <a:stretch/>
        </p:blipFill>
        <p:spPr>
          <a:xfrm>
            <a:off x="457200" y="38088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4572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Фруктовые и ягодные сладкие кисели появились у нас сравнительно недавно, в начале XIX в., вслед за распространением картофеля и началом производства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Times New Roman"/>
              </a:rPr>
              <a:t>крахмала.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Peter_der-Grosse_1838"/>
          <p:cNvPicPr/>
          <p:nvPr/>
        </p:nvPicPr>
        <p:blipFill>
          <a:blip r:embed="rId1"/>
          <a:stretch/>
        </p:blipFill>
        <p:spPr>
          <a:xfrm>
            <a:off x="4952880" y="533520"/>
            <a:ext cx="3886200" cy="601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Times New Roman"/>
              </a:rPr>
              <a:t>Игра- Угада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малинка сладеньк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черника гладеньк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брусника кисленьк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ежевика синеньк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лтенькая моро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голубики немнож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адай ты их дружок, лишь положишь их в ро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Times New Roman"/>
              </a:rPr>
              <a:t>Игра- Соберем ягоду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9" descr="28"/>
          <p:cNvPicPr/>
          <p:nvPr/>
        </p:nvPicPr>
        <p:blipFill>
          <a:blip r:embed="rId1"/>
          <a:stretch/>
        </p:blipFill>
        <p:spPr>
          <a:xfrm>
            <a:off x="4724280" y="1523880"/>
            <a:ext cx="3429000" cy="2262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26"/>
          <p:cNvPicPr/>
          <p:nvPr/>
        </p:nvPicPr>
        <p:blipFill>
          <a:blip r:embed="rId2"/>
          <a:stretch/>
        </p:blipFill>
        <p:spPr>
          <a:xfrm>
            <a:off x="692280" y="3659040"/>
            <a:ext cx="3886200" cy="2471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23"/>
          <p:cNvPicPr/>
          <p:nvPr/>
        </p:nvPicPr>
        <p:blipFill>
          <a:blip r:embed="rId3"/>
          <a:stretch/>
        </p:blipFill>
        <p:spPr>
          <a:xfrm>
            <a:off x="685800" y="1523880"/>
            <a:ext cx="4038480" cy="218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25"/>
          <p:cNvPicPr/>
          <p:nvPr/>
        </p:nvPicPr>
        <p:blipFill>
          <a:blip r:embed="rId4"/>
          <a:stretch/>
        </p:blipFill>
        <p:spPr>
          <a:xfrm>
            <a:off x="4572000" y="3505320"/>
            <a:ext cx="3581280" cy="2665440"/>
          </a:xfrm>
          <a:prstGeom prst="rect">
            <a:avLst/>
          </a:prstGeom>
          <a:ln w="0">
            <a:noFill/>
          </a:ln>
        </p:spPr>
      </p:pic>
      <p:pic>
        <p:nvPicPr>
          <p:cNvPr id="105" name="грибы ягоды.mp3" descr=""/>
          <p:cNvPicPr/>
          <p:nvPr/>
        </p:nvPicPr>
        <p:blipFill>
          <a:blip r:embed="rId5"/>
          <a:stretch/>
        </p:blipFill>
        <p:spPr>
          <a:xfrm>
            <a:off x="6858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22421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609480" y="5257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ква – 25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304812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 – 8 ст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61722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– 7 ста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33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 – 3 ст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остав</a:t>
            </a: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 продук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87692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  - 8 ст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4876920" y="2057400"/>
            <a:ext cx="29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ква – 25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4572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7ста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3736800" y="568008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ка- 2 ст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613200" y="56037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а- 1 ст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48148E-006 L -0.0125 -0.4669 E">
                                      <p:cBhvr>
                                        <p:cTn id="18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-0.28333 -0.3669 E">
                                      <p:cBhvr>
                                        <p:cTn id="19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04421 L -0.13333 -0.27801 E">
                                      <p:cBhvr>
                                        <p:cTn id="20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40741E-007 L 0.48333 -0.24468 E">
                                      <p:cBhvr>
                                        <p:cTn id="20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8</dc:creator>
  <dc:description/>
  <dc:language>en-US</dc:language>
  <cp:lastModifiedBy>8</cp:lastModifiedBy>
  <dcterms:modified xsi:type="dcterms:W3CDTF">2017-11-12T14:19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