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3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0.jpeg" ContentType="image/jpeg"/>
  <Override PartName="/ppt/media/image28.png" ContentType="image/png"/>
  <Override PartName="/ppt/media/image12.jpeg" ContentType="image/jpeg"/>
  <Override PartName="/ppt/media/image4.png" ContentType="image/png"/>
  <Override PartName="/ppt/media/image3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EC2-D7EE-4587-BFC7-67AE16674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5B9C-62CB-4F6D-8192-DD809820E2EE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F173-8EE2-4D9A-B9CD-E47CE4442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6FE2-EB35-40A8-B822-F21C054AB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52F3-D1FC-48D4-A8EF-931EAD90A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3F0D-73AA-445E-A5C3-7A643CA8B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C0728-C694-4BEF-B4F4-E9FB651F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E5FC-F8D5-44E2-9672-DE50834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EF7BD-D8D8-439B-86D9-6ABBF69C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D0669-CF81-404C-B7DA-E110E7B5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D1EB6-198E-4FAE-B676-9191898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75E25-4963-4F7C-9E4D-5EFE90AC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1FC2-4877-4426-9FBC-E7A6C01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7163-8017-4927-B054-E84E762FB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54FBA-F5EB-4443-8A55-7096389E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9824-5F0B-4C85-9E33-55DA2303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205E2-8416-485E-9099-FEE4D5CF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9A708-F0DC-48B6-9E4E-CE567254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ED08-FEAE-4677-AE8E-542E9838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F5594-6465-4EC4-951D-1FC5FE3F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41F0E-F6E5-4BE2-976A-32014E19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13E0D-E06C-4E05-83B4-D37082C9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1B6E8-C3B1-4334-840D-8585738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EB7CD7-BB44-4EDE-8A7F-EA337208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ACCA-EF30-4770-99C6-B53FE348EF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611DD-BB19-4B31-850B-745512B6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5737A-DF72-4F10-996C-1654172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90DAA-AB5A-4012-BDC9-441067A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353B2-7C21-4B4B-BC03-9F5ACE0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7898D-8351-4F05-B1AF-9AF663EF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13E9E-82D1-482F-A6F8-A244946C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17C00-F29F-47CD-B195-D9D812FC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DB538-8AD1-4D7B-94F5-20EC5BB1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7402C-2498-4D33-A3E6-4C8FA4A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3DBBD-0F86-4AD7-9BE7-54D67FC1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B23B-32AC-489D-955B-E886B20B2D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78B63-7B17-462F-B285-9A96D19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9F6A5-ED49-4816-B0D4-9CFC6798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26064-7733-4457-8DD6-10D2FFFC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84194-33EB-43CC-8D50-B8919A5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9D6B5-9FE8-4F0F-A381-7F0515C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5BF30-DCAE-4679-81E7-E6DE450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9444D-2427-49FB-BC1B-2E46E87A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03654-50F5-4966-8458-2CEFE3BE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14484-068E-408F-8AEE-2A2AD984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3AC37-BE8E-4300-B267-8FADFA2B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89B3-3074-495A-BD3B-32698FF839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4BFC08-D9C4-4E01-844A-444C9AEE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26791-2F2F-4C27-AA93-315C5928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3B7680-C091-424C-B7BE-5FEE548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91006-F6F2-42DF-9E25-BD00CE5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AE794-CAFA-4944-AE1E-E8EC2922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0E0FC-25BF-4D5F-AE87-3C86FAE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74CCD-7F68-4FC4-BBEC-F2EBB2B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150FDD-03D4-4AB0-9C81-577C7F4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8D8E6-1F17-48FE-AE46-871904D1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83106-E015-4D95-ABC3-5393F581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1435-D922-402B-A610-6D5EBC40F9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2F59B-CF28-4C9B-B557-CD090791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D990E-11E7-4BEE-B144-BCC7E4A2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9CB26-94E7-414E-84B3-3CC4CDFC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C2E270-CB9B-4110-9159-6A8C0B6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D4E1B-1A4E-4274-9C4F-302C056A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87B816-62E1-4AEA-B9B6-1BBA287E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99308-CF53-4A47-90B5-F9CB2BEA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E56DF-CAED-4FF1-85EA-98698AE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96E6D-56FF-45F2-A2BE-28B2E41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9D908-E663-4C52-9EB4-F529C14B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E64C-2846-4A70-BD15-FFE6111635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1AA92-9AA6-4D57-9475-C0489FA0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696EA-468A-42DF-ADAA-31AB28BE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F2B8E-6D71-44E4-A07A-494CE377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EFC2-8E02-427F-AEBB-292919013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5973-9A4F-4C6A-A589-692740736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1B0B-5C18-42FB-886C-BEB993CC865C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0E2-D90D-430A-B767-CDBF8C579F3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4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86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A24-794E-4FC2-8F3D-D9D44B560E3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2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8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9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0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528-0CF6-4DF4-A713-9DB4B2BECC0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DB7-A359-4187-8A19-DD8EDF103DF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1BC-FC8E-4865-90C8-8130D5CF79A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5" descr=""/>
          <p:cNvPicPr/>
          <p:nvPr/>
        </p:nvPicPr>
        <p:blipFill>
          <a:blip r:embed="rId1"/>
          <a:stretch/>
        </p:blipFill>
        <p:spPr>
          <a:xfrm>
            <a:off x="633240" y="1420920"/>
            <a:ext cx="8394840" cy="34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74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dri8"/>
          <p:cNvPicPr/>
          <p:nvPr/>
        </p:nvPicPr>
        <p:blipFill>
          <a:blip r:embed="rId2"/>
          <a:stretch/>
        </p:blipFill>
        <p:spPr>
          <a:xfrm>
            <a:off x="457200" y="2611440"/>
            <a:ext cx="3521160" cy="25034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286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10800000"/>
          </a:gradFill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Trebuchet MS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Trebuchet MS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rebuchet MS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1712880" y="212760"/>
            <a:ext cx="7564320" cy="14828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84204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984204"/>
                </a:solidFill>
                <a:latin typeface="Arial"/>
              </a:rPr>
              <a:t>Мировое производств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ru-RU" sz="2000" spc="-1" strike="noStrike">
                <a:solidFill>
                  <a:srgbClr val="984204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9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560520" y="212760"/>
            <a:ext cx="8205480" cy="1482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743040" y="1890720"/>
            <a:ext cx="6667560" cy="4286160"/>
          </a:xfrm>
          <a:prstGeom prst="rect">
            <a:avLst/>
          </a:prstGeom>
          <a:ln w="9360">
            <a:solidFill>
              <a:srgbClr val="b13f9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29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1712880" y="212760"/>
            <a:ext cx="7564320" cy="14828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10800000"/>
          </a:gradFill>
          <a:ln w="9360">
            <a:solidFill>
              <a:srgbClr val="5c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84204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ru-RU" sz="1800" spc="-1" strike="noStrike">
                <a:solidFill>
                  <a:srgbClr val="984204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20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84204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5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0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384120" y="212760"/>
            <a:ext cx="8551800" cy="1482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b13f9a"/>
            </a:solidFill>
            <a:miter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85840" y="324000"/>
            <a:ext cx="8735760" cy="14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305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b13f9a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2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7407360" cy="492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- открытым способом с земной поверхности при неглубоком залегании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- подземным способом при глубоком залегании путем проходки шахт, штолен, а для жидких и газообразных полезных ископаемых - буровых скважин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горнодобывающая-промышленность"/>
          <p:cNvPicPr/>
          <p:nvPr/>
        </p:nvPicPr>
        <p:blipFill>
          <a:blip r:embed="rId2"/>
          <a:stretch/>
        </p:blipFill>
        <p:spPr>
          <a:xfrm>
            <a:off x="285840" y="1643040"/>
            <a:ext cx="7696080" cy="451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669440" cy="1505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p6011984_resize"/>
          <p:cNvPicPr/>
          <p:nvPr/>
        </p:nvPicPr>
        <p:blipFill>
          <a:blip r:embed="rId2"/>
          <a:stretch/>
        </p:blipFill>
        <p:spPr>
          <a:xfrm>
            <a:off x="500040" y="17146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7242120" cy="1476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276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5400000"/>
          </a:gradFill>
          <a:ln w="9360">
            <a:solidFill>
              <a:srgbClr val="f9b63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Trebuchet MS"/>
                <a:ea typeface="Times New Roman"/>
              </a:rPr>
              <a:t>Горнодобывающая промышленность обеспечивает </a:t>
            </a:r>
            <a:r>
              <a:rPr b="1" i="1" lang="ru-RU" sz="2000" spc="-1" strike="noStrike">
                <a:solidFill>
                  <a:srgbClr val="660066"/>
                </a:solidFill>
                <a:latin typeface="Trebuchet MS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rebuchet MS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ru-RU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073160" y="182520"/>
            <a:ext cx="7272360" cy="147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57200" y="1735200"/>
            <a:ext cx="7238880" cy="4595760"/>
          </a:xfrm>
          <a:prstGeom prst="rect">
            <a:avLst/>
          </a:prstGeom>
          <a:ln w="9360">
            <a:solidFill>
              <a:srgbClr val="b13f9a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706320" y="0"/>
            <a:ext cx="8004240" cy="17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b13f9a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7607160" cy="14763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13500000"/>
          </a:gradFill>
          <a:ln w="936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8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b13f9a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/>
  <dc:description/>
  <dc:language>en-US</dc:language>
  <cp:lastModifiedBy/>
  <dcterms:modified xsi:type="dcterms:W3CDTF">2017-12-31T13:38:51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