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6CF6-E718-4B31-B56B-4DEEDDADAF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6F93-752D-4EF1-AEC5-833BF94A630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E0C-2822-4DCA-9E02-064659FA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EDF-113D-46CB-B1F8-E82F5F12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B89-4180-435D-99A8-1F39C4F4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291-9C6F-4D30-BA9D-C602ADF1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72A-C92D-4207-A598-FB84363F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599-581E-4C5E-99A1-B60E32CF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87B-4F16-431F-A5B1-2C3ACAE3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BB9-C0AE-4709-964B-588C3A07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B92-0731-46CB-BEE0-0EE820CC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BA8-E00B-4636-9F2E-CC662F7B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154-9072-4B7A-A989-24D3CA8C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514-3B4C-4763-AA59-6B9038B6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42FF-D820-4675-82F1-890C1819B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Нина\Новая папка\VK_Saved_Photo_ 635796437459274949.jpg"/>
          <p:cNvPicPr/>
          <p:nvPr/>
        </p:nvPicPr>
        <p:blipFill>
          <a:blip r:embed="rId1"/>
          <a:stretch/>
        </p:blipFill>
        <p:spPr>
          <a:xfrm>
            <a:off x="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67840" y="2987640"/>
            <a:ext cx="86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Цветные ладошки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58920" y="2103480"/>
            <a:ext cx="8426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етрадиционные техники рисов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611280" y="274680"/>
            <a:ext cx="79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ДОУ «Детский сад №92 общеразвивающего вид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3357720" y="565308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ыктывкар, 201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3334320" y="478008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атель: Габова Наталия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716000" y="176040"/>
            <a:ext cx="41036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Calibri"/>
              </a:rPr>
              <a:t>«Истоки способностей и дарования детей - на кончиках пальцев. От пальцев, образно говоря, идут тончайшие нити – ручейки, которые питают источник творческой мысли. Другими словами, чем больше мастерства в детской руке, тем умнее ребёно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Calibri"/>
              </a:rPr>
              <a:t>                      </a:t>
            </a:r>
            <a:r>
              <a:rPr b="0" lang="ru-RU" sz="2400" spc="-1" strike="noStrike">
                <a:solidFill>
                  <a:srgbClr val="00664d"/>
                </a:solidFill>
                <a:latin typeface="Calibri"/>
              </a:rPr>
              <a:t>В.А.Сухомли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54360" cy="2739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1060560" y="4365720"/>
            <a:ext cx="7310160" cy="21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468360" y="539640"/>
            <a:ext cx="3898800" cy="2925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4932360" y="539640"/>
            <a:ext cx="3971880" cy="297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4873680" y="3716280"/>
            <a:ext cx="3900600" cy="2925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4"/>
          <a:stretch/>
        </p:blipFill>
        <p:spPr>
          <a:xfrm>
            <a:off x="468360" y="3716280"/>
            <a:ext cx="39006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2"/>
          <a:stretch/>
        </p:blipFill>
        <p:spPr>
          <a:xfrm>
            <a:off x="5219640" y="45720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"/>
          <p:cNvPicPr/>
          <p:nvPr/>
        </p:nvPicPr>
        <p:blipFill>
          <a:blip r:embed="rId3"/>
          <a:stretch/>
        </p:blipFill>
        <p:spPr>
          <a:xfrm>
            <a:off x="395280" y="3978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4"/>
          <a:stretch/>
        </p:blipFill>
        <p:spPr>
          <a:xfrm>
            <a:off x="5219640" y="3951360"/>
            <a:ext cx="34927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706920" cy="2779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3"/>
          <a:stretch/>
        </p:blipFill>
        <p:spPr>
          <a:xfrm>
            <a:off x="4788000" y="404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4"/>
          <a:stretch/>
        </p:blipFill>
        <p:spPr>
          <a:xfrm>
            <a:off x="4824360" y="387828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ский сад 92</dc:creator>
  <dc:description/>
  <dc:language>en-US</dc:language>
  <cp:lastModifiedBy>Наталия Габова</cp:lastModifiedBy>
  <dcterms:modified xsi:type="dcterms:W3CDTF">2017-12-31T10:04:17Z</dcterms:modified>
  <cp:revision>43</cp:revision>
  <dc:subject/>
  <dc:title>Слайд 1</dc:title>
</cp:coreProperties>
</file>