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86FD-2EFA-4F35-8D04-CD20C86F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A51C-6D1A-4F21-9971-90B6A5B7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C6F2-1E39-4D21-8468-BF730BC6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D5C2-1052-430B-ACE0-AFB18406A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9D2A-8A29-40C9-B9F2-5D36FE93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11EF-B710-4755-A6C3-6A148E15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48FD-9C85-4BBD-BEA1-D5D805FE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AEC5-54F8-4455-AD1F-454B548A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F0C3-965E-4343-93B7-E3F094ED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01E8-EF1A-4271-BC08-10EB45DC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DC12-E920-4E23-B47E-CB904DCC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ACD-D7B2-4705-8347-663DEDFE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DA31-AE8A-4737-AF96-B46567B9AC13}" type="slidenum">
              <a:rPr b="0" lang="ru-RU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90;&#1088;&#1086;&#1087;&#1086;&#1083;&#1086;&#1075;&#1080;&#1103;" TargetMode="External"/><Relationship Id="rId2" Type="http://schemas.openxmlformats.org/officeDocument/2006/relationships/hyperlink" Target="http://ru.wikipedia.org/wiki/&#1040;&#1088;&#1093;&#1077;&#1086;&#1083;&#1086;&#1075;&#1080;&#1103;" TargetMode="External"/><Relationship Id="rId3" Type="http://schemas.openxmlformats.org/officeDocument/2006/relationships/hyperlink" Target="http://ru.wikipedia.org/wiki/&#1069;&#1089;&#1090;&#1077;&#1090;&#1080;&#1082;&#1072;" TargetMode="External"/><Relationship Id="rId4" Type="http://schemas.openxmlformats.org/officeDocument/2006/relationships/hyperlink" Target="http://ru.wikipedia.org/wiki/&#1069;&#1090;&#1085;&#1086;&#1075;&#1088;&#1072;&#1092;&#1080;&#1103;" TargetMode="External"/><Relationship Id="rId5" Type="http://schemas.openxmlformats.org/officeDocument/2006/relationships/hyperlink" Target="http://ru.wikipedia.org/wiki/&#1048;&#1089;&#1090;&#1086;&#1088;&#1080;&#1103;" TargetMode="External"/><Relationship Id="rId6" Type="http://schemas.openxmlformats.org/officeDocument/2006/relationships/hyperlink" Target="http://ru.wikipedia.org/wiki/&#1053;&#1072;&#1091;&#1082;&#1072;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1500120"/>
            <a:ext cx="77738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Calibri"/>
              </a:rPr>
              <a:t>Сохраняем культурное наследие родного города в проектной деятельности с дошкольниками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1336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Старший воспитател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МБДОУ  «Детский сад № 65 – ЦР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Чернышова М.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Calibri"/>
              </a:rPr>
              <a:t>Продолжите, пожалуйста, фразу "Проект – это,                                              проектная деятельность – это…"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alibri"/>
              </a:rPr>
              <a:t>Продолжите, пожалуйста, фразу                         "Проект – это,                                              проектная деятельность – это…"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Прое́кт (от лат. projectus — брошенный вперёд, выступающий, выдающийся вперёд) — замысел, идея, образ, воплощённые в форму описания, обоснования, расчётов, чертежей, раскрывающих сущность замысла и возможность его практической реализации. Проект — это работы, планы, мероприятия и другие задачи, направленные на создание нового продукта (устройства, работы, услуги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Проектная деятельность (Хабарова Татьяна Валерьевна) — это целенаправленная деятельность с определенной целью, по определенному плану для решения поисковых, исследовательских, практических задач по любому направлению содержания образ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Calibri"/>
              </a:rPr>
              <a:t>Напишите, какие ассоциации возникают у вас, когда вы думаете о взаимосвязи культурного наследия города и проектной деятельности в детском саду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Теория  амплификации (обогащения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)                          развития  личности  ребенка ( А. Запорожц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7120" y="10000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Амплификация</a:t>
            </a: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  - это широкое развертывание  и  максимальное  обогащение  содержания  специфически детских  форм  игровой,  практической  и  изобразительной  деятельностью,  а также общение детей друг с другом и с взрослыми с целью формирования психических  свойств  и  качеств,  для  возникновения  которых  наиболее благоприятные предпосылки создаются в раннем детств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Принципы реализаци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"позитивный  центризм"  (отбор  знаний,  наиболее  актуальных  для ребенка данного возраста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непрерывность и преемственность педагогического процесса;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дифференцированный подход к каждому ребенку, максимальный учет его психологических особенностей, возможностей и интересов;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рациональное  сочетание  разных  видов  деятельности,  адекватный возрасту  баланс  интеллектуальных,  эмоциональных  и  двигательных нагрузок;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деятельностный подход;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развивающий характер обучения, основанный на детской актив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Чем отличается проектная деятельность от продуктивной деятельност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Чем отличается проектная деятельность от продуктивной деятельности?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0004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Проектная деятельность является проектной только в том случае, если прямое действие в той или иной ситуации оказывается невозмож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Дошкольник исследует различные варианты решения поставленной задачи, по определенным критериям выбирает оптимальный способ решения.</a:t>
            </a: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Проектная деятельность ориентирована на исследование как можно большего числа заложенных в ситуации возможностей, а не на прохождение заранее заданного (и известного педагогу) пути.</a:t>
            </a: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Педагог организует проблемную ситуацию для детей, но не предлагает свои варианты решения задачи.</a:t>
            </a: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Необходимость формирования субъектной позиции педагог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Чем отличается проектная деятельность от исследовательской деятельност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Calibri"/>
              </a:rPr>
              <a:t>Чем отличается проектная деятельность от исследовательской деятельности?</a:t>
            </a: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1225440"/>
          <a:ext cx="9144000" cy="5632560"/>
        </p:xfrm>
        <a:graphic>
          <a:graphicData uri="http://schemas.openxmlformats.org/drawingml/2006/table">
            <a:tbl>
              <a:tblPr/>
              <a:tblGrid>
                <a:gridCol w="4767120"/>
                <a:gridCol w="4376880"/>
              </a:tblGrid>
              <a:tr h="5899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Проект -  в современном русском языке слово «проект»: во-первых  - совокупность документов (расчетов, чертежей и др.), необходимых для создания какого-либо сооружения или изделия; во-вторых — предварительный текст какого-либо документа и третье значение — какой-либо замысел или план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Проектирование - процесс разработки и создания проекта (прототипа, прообраза, предполагаемого или возможного объекта или состояния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Проектирование — это не творчество в полной мере, это творчество по плану в определенных контролируемых рамках. Метод проектов предполагает составление четкого плана проводимых изысканий, с неизбежностью требует ясного формулирования и осознания изучаемой проблемы, выработку реальных гипотез, их проверку в соответствии с четким план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Исследование - процесс выработки новых знаний, один из видов познавательной деятельности челове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Под «способами и приемами исследовательской деятельности» следует понимать способы и приемы, такие, как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660033"/>
                        </a:buClr>
                        <a:buSzPct val="62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умение видеть проблем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660033"/>
                        </a:buClr>
                        <a:buSzPct val="62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умение вырабатывать гипотез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660033"/>
                        </a:buClr>
                        <a:buSzPct val="62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умение наблюдать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660033"/>
                        </a:buClr>
                        <a:buSzPct val="62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умение проводить эксперимент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660033"/>
                        </a:buClr>
                        <a:buSzPct val="62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умение давать определения понятиям и друг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660033"/>
                        </a:buClr>
                        <a:buSzPct val="62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660033"/>
                        </a:buClr>
                        <a:buSzPct val="62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Исследование  не предполагает создания какого-либо заранее планируемого объекта, даже его модели или прототипа. Исследование — по сути, процесс поиска неизвестного, новых знаний, один из видов познавательной деятельности челове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660033"/>
                        </a:buClr>
                        <a:buSzPct val="62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2876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кие возрастные этапы развития проектной деятельности детей дошкольного возраста вы знаете,  определите роль педагога и детей на этих этапах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alibri"/>
              </a:rPr>
              <a:t>Е. Евдокимова выделила три этапа развития проектной деятельности детей дошкольного возраста: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Первый этап автор обозначает как </a:t>
            </a:r>
            <a:r>
              <a:rPr b="1" i="1" lang="ru-RU" sz="2400" spc="-1" strike="noStrike">
                <a:solidFill>
                  <a:srgbClr val="660033"/>
                </a:solidFill>
                <a:latin typeface="Calibri"/>
              </a:rPr>
              <a:t>подражательско-исполнительский</a:t>
            </a:r>
            <a:r>
              <a:rPr b="0" i="1" lang="ru-RU" sz="2400" spc="-1" strike="noStrike">
                <a:solidFill>
                  <a:srgbClr val="660033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реализация которого возможна с детьми трех с полови­ной — пяти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Второй этап </a:t>
            </a:r>
            <a:r>
              <a:rPr b="1" i="1" lang="ru-RU" sz="2400" spc="-1" strike="noStrike">
                <a:solidFill>
                  <a:srgbClr val="660033"/>
                </a:solidFill>
                <a:latin typeface="Calibri"/>
              </a:rPr>
              <a:t>развивающий</a:t>
            </a:r>
            <a:r>
              <a:rPr b="0" i="1" lang="ru-RU" sz="2400" spc="-1" strike="noStrike">
                <a:solidFill>
                  <a:srgbClr val="660033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он характерен для детей пяти-шести лет, которые уже имеют опыт разнообразной совместной деятельности, могут согласовывать действия, оказывать друг другу помощ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Третий этап — </a:t>
            </a:r>
            <a:r>
              <a:rPr b="1" i="1" lang="ru-RU" sz="2400" spc="-1" strike="noStrike">
                <a:solidFill>
                  <a:srgbClr val="660033"/>
                </a:solidFill>
                <a:latin typeface="Calibri"/>
              </a:rPr>
              <a:t>творческий</a:t>
            </a:r>
            <a:r>
              <a:rPr b="0" i="1" lang="ru-RU" sz="2400" spc="-1" strike="noStrike">
                <a:solidFill>
                  <a:srgbClr val="660033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он характерен для детей шести-семи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5" descr="31053854.jpg"/>
          <p:cNvPicPr/>
          <p:nvPr/>
        </p:nvPicPr>
        <p:blipFill>
          <a:blip r:embed="rId1"/>
          <a:stretch/>
        </p:blipFill>
        <p:spPr>
          <a:xfrm>
            <a:off x="1785960" y="285840"/>
            <a:ext cx="5715000" cy="5715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78844920.jpg"/>
          <p:cNvPicPr/>
          <p:nvPr/>
        </p:nvPicPr>
        <p:blipFill>
          <a:blip r:embed="rId2"/>
          <a:stretch/>
        </p:blipFill>
        <p:spPr>
          <a:xfrm>
            <a:off x="1714680" y="214200"/>
            <a:ext cx="592920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Алгоритм действий взрослых и детей на каждом возрастном этапе проект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857160"/>
          <a:ext cx="9001080" cy="5999400"/>
        </p:xfrm>
        <a:graphic>
          <a:graphicData uri="http://schemas.openxmlformats.org/drawingml/2006/table">
            <a:tbl>
              <a:tblPr/>
              <a:tblGrid>
                <a:gridCol w="928800"/>
                <a:gridCol w="2571480"/>
                <a:gridCol w="3000600"/>
                <a:gridCol w="2500200"/>
              </a:tblGrid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Алгоритм действ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Подражательско-исполнительский этап проект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Развивающий этап проект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Творческий этап развития проект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Шаг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Определение   проблемы,  отвечающей  потребностям дет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Выделение (взрослым или детьми) проблемы, отвечающей потребностям детей или обеих сторо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Шаг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Постановка цели проекта, его мотивац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Совместное определение цели проекта, прогнозирование результа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Самостоятельное определение детьми цели проекта, прогнозирование результа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285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Шаг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Привлечение детей к участию в планировании деятельности и реализации намеченного план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Планирование деятельности детьми при незначительной помощи взрослого;    определение  средств реализации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Планирование деятельности детьми (при возможном участии взрослого как партнера определение средств реализации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285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Шаг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Совместная    деятельность взрослого и детей по достижению результа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Выполнение     детьми проекта; дифференцированная       помощь взрослог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Выполнение детьми проекта; решение творческих споров, достижение договоренности; взаимообучение, помощь друг друг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Шаг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Совместный     анализ выполнения   проекта, переживание    результа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Обсуждение результата: хода работы, действий каждого, выяснение причин успехов и неуда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Шаг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Совместное определение перспективы развития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Определение перспективы развития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Calibri"/>
              </a:rPr>
              <a:t>На основании представленного алгоритма шагов,  какие этапы организации проектной деятельности с детьми дошкольного возраста мы можем выделить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7168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alibri"/>
              </a:rPr>
              <a:t>Этапы проект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1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660033"/>
                </a:solidFill>
                <a:latin typeface="Calibri"/>
              </a:rPr>
              <a:t>Постановка проблем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1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Calibri"/>
              </a:rPr>
              <a:t>Определение цели деятельност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1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Calibri"/>
              </a:rPr>
              <a:t>Конкретный замысе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1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Calibri"/>
              </a:rPr>
              <a:t>Планирова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1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Calibri"/>
              </a:rPr>
              <a:t>Реализация проекта и постоянная рефлекс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1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Calibri"/>
              </a:rPr>
              <a:t>Анализ результатов и презентац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1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кие типы проектной деятельности вы знает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Исследовательская проектная дея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400" y="1213920"/>
            <a:ext cx="83581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Цель:</a:t>
            </a:r>
            <a:r>
              <a:rPr b="0" lang="ru-RU" sz="1600" spc="-1" strike="noStrike">
                <a:solidFill>
                  <a:srgbClr val="660033"/>
                </a:solidFill>
                <a:latin typeface="Calibri"/>
              </a:rPr>
              <a:t>  получение ответа на вопрос, почему существует то или иное явление и как оно объясняется с точки зрения современного зна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Calibri"/>
              </a:rPr>
              <a:t>Первый этап </a:t>
            </a:r>
            <a:r>
              <a:rPr b="0" i="1" lang="ru-RU" sz="1600" spc="-1" strike="noStrike">
                <a:solidFill>
                  <a:srgbClr val="660033"/>
                </a:solidFill>
                <a:latin typeface="Calibri"/>
              </a:rPr>
              <a:t>- создание ситуации, в ходе которой ребенок самостоятельно приходит к формулировке исследовательской задачи.</a:t>
            </a:r>
            <a:r>
              <a:rPr b="0" lang="ru-RU" sz="1600" spc="-1" strike="noStrike">
                <a:solidFill>
                  <a:srgbClr val="660033"/>
                </a:solidFill>
                <a:latin typeface="Calibri"/>
              </a:rPr>
              <a:t> Возможные  три стратегии поведения педагог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0033"/>
                </a:solidFill>
                <a:uFillTx/>
                <a:latin typeface="Calibri"/>
              </a:rPr>
              <a:t>Первая </a:t>
            </a:r>
            <a:r>
              <a:rPr b="0" lang="ru-RU" sz="16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660033"/>
                </a:solidFill>
                <a:uFillTx/>
                <a:latin typeface="Calibri"/>
              </a:rPr>
              <a:t>стратегия </a:t>
            </a:r>
            <a:r>
              <a:rPr b="0" lang="ru-RU" sz="1600" spc="-1" strike="noStrike">
                <a:solidFill>
                  <a:srgbClr val="660033"/>
                </a:solidFill>
                <a:latin typeface="Calibri"/>
              </a:rPr>
              <a:t>- создание одной и той же проблемной ситуации для всех детей, формулирование общего исследовательского вопрос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0033"/>
                </a:solidFill>
                <a:uFillTx/>
                <a:latin typeface="Calibri"/>
              </a:rPr>
              <a:t>Вторая стратегия  </a:t>
            </a:r>
            <a:r>
              <a:rPr b="0" lang="ru-RU" sz="1600" spc="-1" strike="noStrike">
                <a:solidFill>
                  <a:srgbClr val="660033"/>
                </a:solidFill>
                <a:latin typeface="Calibri"/>
              </a:rPr>
              <a:t>- наблюдение за деятельностью детей, выявление сферы интересов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0033"/>
                </a:solidFill>
                <a:uFillTx/>
                <a:latin typeface="Calibri"/>
              </a:rPr>
              <a:t>Третья стратегия </a:t>
            </a:r>
            <a:r>
              <a:rPr b="0" lang="ru-RU" sz="1600" spc="-1" strike="noStrike">
                <a:solidFill>
                  <a:srgbClr val="660033"/>
                </a:solidFill>
                <a:latin typeface="Calibri"/>
              </a:rPr>
              <a:t>- привлечение родителей, которые совместно с ребенком формулируют исследовательскую задачу для проек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Calibri"/>
              </a:rPr>
              <a:t>На втором этапе ребенок оформляет проект.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0033"/>
                </a:solidFill>
                <a:uFillTx/>
                <a:latin typeface="Calibri"/>
              </a:rPr>
              <a:t>Первая страница проекта посвящается формулировке основного вопроса исследования </a:t>
            </a:r>
            <a:r>
              <a:rPr b="0" lang="ru-RU" sz="1600" spc="-1" strike="noStrike">
                <a:solidFill>
                  <a:srgbClr val="660033"/>
                </a:solidFill>
                <a:latin typeface="Calibri"/>
              </a:rPr>
              <a:t>и, как правило, представляет собой красочный заголовок, создаваемый общими усилиями: родители пишут надпись, ребенок помогает украсить страниц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0033"/>
                </a:solidFill>
                <a:uFillTx/>
                <a:latin typeface="Calibri"/>
              </a:rPr>
              <a:t>Вторая страница раскрывает важность поставленного вопроса</a:t>
            </a:r>
            <a:r>
              <a:rPr b="0" lang="ru-RU" sz="1600" spc="-1" strike="noStrike">
                <a:solidFill>
                  <a:srgbClr val="660033"/>
                </a:solidFill>
                <a:latin typeface="Calibri"/>
              </a:rPr>
              <a:t>, с точки зрения ребенка, сверстников, родителей и знакомы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0033"/>
                </a:solidFill>
                <a:uFillTx/>
                <a:latin typeface="Calibri"/>
              </a:rPr>
              <a:t>Ребенок должен самостоятельно провести опрос и нарисовать иллюстрации</a:t>
            </a:r>
            <a:r>
              <a:rPr b="0" lang="ru-RU" sz="1600" spc="-1" strike="noStrike">
                <a:solidFill>
                  <a:srgbClr val="660033"/>
                </a:solidFill>
                <a:latin typeface="Calibri"/>
              </a:rPr>
              <a:t>, изображающие содержание ответов, данных сверстниками, родителями, знакомыми и им самим. Важно, чтобы в проекте было представлено несколько разных точек зрения (одна из них должна принадлежать ребенку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Творческая проектная деятельность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28760" y="57168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В ходе творческой проектной деятельности создается новый творческий продукт  коллективно или совместно с родителям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Каждый ребенок предлагает свою идею проекта, но для реализации выбирается только одн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1) подготовительная работа,  педагоги обсуждают возможные темы проектов, связанные со значимыми социальными ситуациями в жизни детей и взрослы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2) определяются мотивы участия детей в предстоящей деятельности,  дети делятся идеями по поводу предстоящего проек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3) дети высказывают свои идеи реализации проекта, педагог  отмечает наиболее оригинальные идеи, чтобы в дальнейшем (если дети их не воспроизведут), напомнить о ни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4)  дети зарисовывают свои иде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5) дети демонстрируют свои работы сверстникам, рассказывают о своих рисунках, отвечают на вопросы воспитателя и ровеснико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6)  информирование родителей,  для этого идея проекта (рисунок) и название вывешиваются на стен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7) педагог вместе с детьми организует работу по реализации общего замысла, дошкольники (в зависимости от содержания проекта) делятся на рабочие групп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8) педагоги продумывают, как представить полученный продукт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9) презентация продукта творческого проект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Calibri"/>
              </a:rPr>
              <a:t>Нормативная проектная деятельность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8760" y="85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Нормативные ситуации, сопровождающие жизнь ребенка, можно разделить на три групп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а) запрещающи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б) позитивно нормирующи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в) поддерживающие инициативу дошкольника, приводящие к созданию новой нормы – нормотворческ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Работа по созданию новой нормы (нормотворчество) основывается на реальных ситуациях, возникающих в жизни детей в детском саду. Обычно это типичные, повторяющиеся конфликтные ситуации. Конфликты дошкольников характеризуются столкновением детских инициатив, при котором каждый ребенок настаивает на своем варианте повед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СОЗДАНИЕ ПРОЕКТОВ ПО ПРЕДЛОЖЕННЫМ ПАМЯТК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0004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alibri"/>
              </a:rPr>
              <a:t>Алгоритм действий взрослых и детей на каждом возрастном этапе проектной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alibri"/>
              </a:rPr>
              <a:t>Системная паутинка по проек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alibri"/>
              </a:rPr>
              <a:t>Модель трех вопро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alibri"/>
              </a:rPr>
              <a:t>Образ "Семь мы" (по Заир-Бек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Типология проектов в ДОУ</a:t>
            </a: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       ( по Е.С. Евдокимово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24000" y="1773360"/>
            <a:ext cx="3311280" cy="1439640"/>
          </a:xfrm>
          <a:prstGeom prst="rect">
            <a:avLst/>
          </a:prstGeom>
          <a:solidFill>
            <a:srgbClr val="4f81b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о доминирующей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деятельности</a:t>
            </a:r>
            <a:r>
              <a:rPr b="0" lang="ru-RU" sz="1800" spc="-1" strike="noStrike">
                <a:solidFill>
                  <a:srgbClr val="1f497d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(Исследовательские,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информационные, творческие,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игровые, приключенческие,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практико-ориентированные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24000" y="3357720"/>
            <a:ext cx="3311280" cy="1439640"/>
          </a:xfrm>
          <a:prstGeom prst="rect">
            <a:avLst/>
          </a:prstGeom>
          <a:solidFill>
            <a:srgbClr val="4f81b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о характеру 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одержания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(Ребенок и семья, ребенок и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природа, ребенок и рукотворный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мир, ребенок и общество и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его культурные ценности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57120" y="5000760"/>
            <a:ext cx="3311640" cy="1511280"/>
          </a:xfrm>
          <a:prstGeom prst="rect">
            <a:avLst/>
          </a:prstGeom>
          <a:solidFill>
            <a:srgbClr val="4f81b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о характеру участия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бенка в проекте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(Заказчик, эксперт, исполнитель,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участник от зарождения до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получения результатов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5364000" y="1773360"/>
            <a:ext cx="3384720" cy="1368360"/>
          </a:xfrm>
          <a:prstGeom prst="rect">
            <a:avLst/>
          </a:prstGeom>
          <a:solidFill>
            <a:srgbClr val="4f81b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о характеру контактов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(Внутри одной возрастной группы,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в контакте с другой возрастной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группой, внутри ДОУ, в контакте с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семьей,  учреждениями культуры,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общественными организациями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5364000" y="3357720"/>
            <a:ext cx="3384720" cy="1439640"/>
          </a:xfrm>
          <a:prstGeom prst="rect">
            <a:avLst/>
          </a:prstGeom>
          <a:solidFill>
            <a:srgbClr val="4f81b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о количеству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участников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(Индивидуальный, парный,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групповой, фронтальный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5364000" y="5013360"/>
            <a:ext cx="3384720" cy="1440000"/>
          </a:xfrm>
          <a:prstGeom prst="rect">
            <a:avLst/>
          </a:prstGeom>
          <a:solidFill>
            <a:srgbClr val="4f81b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о продолжительности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(Краткосрочный, средней продолжи-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тельности, долгосрочный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4284720" y="3213000"/>
            <a:ext cx="42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 Black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 Black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 Black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 Black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 Black"/>
              </a:rPr>
              <a:t>Т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Line 12"/>
          <p:cNvSpPr/>
          <p:nvPr/>
        </p:nvSpPr>
        <p:spPr>
          <a:xfrm flipH="1" flipV="1">
            <a:off x="3708000" y="2637000"/>
            <a:ext cx="57636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Line 13"/>
          <p:cNvSpPr/>
          <p:nvPr/>
        </p:nvSpPr>
        <p:spPr>
          <a:xfrm flipH="1">
            <a:off x="3708000" y="4149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Line 14"/>
          <p:cNvSpPr/>
          <p:nvPr/>
        </p:nvSpPr>
        <p:spPr>
          <a:xfrm flipH="1">
            <a:off x="3708000" y="4365720"/>
            <a:ext cx="57636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Line 15"/>
          <p:cNvSpPr/>
          <p:nvPr/>
        </p:nvSpPr>
        <p:spPr>
          <a:xfrm flipV="1">
            <a:off x="4572000" y="2708280"/>
            <a:ext cx="72072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457200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Line 18"/>
          <p:cNvSpPr/>
          <p:nvPr/>
        </p:nvSpPr>
        <p:spPr>
          <a:xfrm>
            <a:off x="4572000" y="4437000"/>
            <a:ext cx="72072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8688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Сравнительная характеристика  проек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71680" y="714240"/>
          <a:ext cx="8319960" cy="6097680"/>
        </p:xfrm>
        <a:graphic>
          <a:graphicData uri="http://schemas.openxmlformats.org/drawingml/2006/table">
            <a:tbl>
              <a:tblPr/>
              <a:tblGrid>
                <a:gridCol w="1609560"/>
                <a:gridCol w="2235240"/>
                <a:gridCol w="2238480"/>
                <a:gridCol w="2236680"/>
              </a:tblGrid>
              <a:tr h="587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 Black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 Black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 Black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 Black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0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 Black"/>
                        </a:rPr>
                        <a:t>Информацио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 Black"/>
                        </a:rPr>
                        <a:t>Изучение объ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 Black"/>
                        </a:rPr>
                        <a:t>Анализ и обобщение фа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 Black"/>
                        </a:rPr>
                        <a:t>Получение и обработка информации по установленной метод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 Black"/>
                        </a:rPr>
                        <a:t>Доклад, альбом, презен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 Black"/>
                        </a:rPr>
                        <a:t>Твор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 Black"/>
                        </a:rPr>
                        <a:t>Накопление творческого опы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 Black"/>
                        </a:rPr>
                        <a:t>Развитие фантазии и вообра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 Black"/>
                        </a:rPr>
                        <a:t>Детально не прорабатывается, только намечается. Подчинена конечному результа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 Black"/>
                        </a:rPr>
                        <a:t>Фильм или концерт с четко продуман-ной структур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 Black"/>
                        </a:rPr>
                        <a:t>Игр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 Black"/>
                        </a:rPr>
                        <a:t>Накопление игрового опы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 Black"/>
                        </a:rPr>
                        <a:t>Детально не прорабатывается, только намечается. Подчинена конечному результа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 Black"/>
                        </a:rPr>
                        <a:t>Ожидаемый, четко обозначенный, ориентированный на социальные интере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 Black"/>
                        </a:rPr>
                        <a:t>Практ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 Black"/>
                        </a:rPr>
                        <a:t>ориенти-рова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 Black"/>
                        </a:rPr>
                        <a:t>Обогащение социально-практического опы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 Black"/>
                        </a:rPr>
                        <a:t>Структура продумана. Четкая организация работы на каждом этап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 Black"/>
                        </a:rPr>
                        <a:t>Ожидаемый, четко обозначенный, ориентированный на социальные интере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«Ромашка знани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C:\Users\adm\Downloads\krGT1.jpg"/>
          <p:cNvPicPr/>
          <p:nvPr/>
        </p:nvPicPr>
        <p:blipFill>
          <a:blip r:embed="rId1"/>
          <a:srcRect l="0" t="0" r="0" b="7504"/>
          <a:stretch/>
        </p:blipFill>
        <p:spPr>
          <a:xfrm>
            <a:off x="1554120" y="1600200"/>
            <a:ext cx="603576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Формы презентации</a:t>
            </a:r>
            <a:br>
              <a:rPr sz="4400"/>
            </a:b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229600" cy="5156280"/>
        </p:xfrm>
        <a:graphic>
          <a:graphicData uri="http://schemas.openxmlformats.org/drawingml/2006/table">
            <a:tbl>
              <a:tblPr/>
              <a:tblGrid>
                <a:gridCol w="2971800"/>
                <a:gridCol w="2514600"/>
                <a:gridCol w="2743200"/>
              </a:tblGrid>
              <a:tr h="2041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коллективный рисунок, колла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праздн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спектакль, концер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реклама-рассказ, букле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газе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конкур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сочинение сказ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557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выстав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рукописная книг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литературна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0033"/>
                          </a:solidFill>
                          <a:latin typeface="Calibri"/>
                        </a:rPr>
                        <a:t>гостина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ЛИТЕРАТУР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Хабарова Т. В.  Педагогические технологии в дошкольном образовании. — СПб . -  ООО «ИЗДАТЕЛЬСТВО «ДЕТСТВО-ПРЕСС», 2011.- 80 с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Веракса Н.Е. Проектная деятельность дошкольников. Пособие для педагогов дошкольных учреждений/ Н.Е. Веракса, А.Н. Веракса/  Библиотека «Программы воспитания и обучения в детском саду» под общей редакцией М. А. Васильевой, В. В. Гербовой, Т. С. Комаровой)  – М.: М.: Мозаика-синтез, 201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Образовательные технологии. Учебно-методическое пособие / А. П. Чернявская,  Л. В. Байбородова,   Л. Н. Серебренников,  И. Г. Харисова,  В. В. Белкина,   В. Е. Гаибова. - Федеральное агентство по образованию. Ярославский государственный педагогический университет им. К. Д. Ушинского, 200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Родительская академия: организация семейного досуга и создание детско-родительских проектов. Методическое пособие для родителей в 2-х частях / Под ред. Т.С. Ивановой, Н.В. Микляевой. – М.: МГПИ, 2008. – 100 с. – Часть 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Актуализация. Знакомство с терминологией изучаемой т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7168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Calibri"/>
              </a:rPr>
              <a:t>Продолжите, пожалуйста, фразу "Культурное наследие – это…«                       (блиц-опрос педагог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28760" y="64260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Культу́рное насле́дие</a:t>
            </a: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 — часть материальной и духовной культуры, созданная прошлыми поколениями, выдержавшая испытание временем и передающаяся поколениям как нечто ценное и почитаемо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Объект культурного наследия</a:t>
            </a: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 — место, сооружение (творение), комплекс (ансамбль), их части, связанные с ними территории или водные объекты, другие естественные, естественно антропогенные или созданные человеком объекты независимо от состояния сохранности, которые донесли до нашего времени ценность с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антропологическо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рхеологическо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эстетично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этнографическо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историческо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научно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или художественной точки зрения и сохранили свою подлин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Достопримечательность</a:t>
            </a: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 — объект культурного наследия национального или местного значения, который занесен к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Государственному реестру неподвижных достопримечательностей Росс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Типы объектов культурного наслед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Сооружения (творения)</a:t>
            </a: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 — произведения архитектуры и инженерного искусства вместе с естественными или созданными человеком элементами, произведения монументальной скульптуры и монументального занятия живописью, археологические объекты, пещеры, с имеющимися свидетельствами жизнедеятельности человека, здания или помещения, в них, что сохранили аутентичные свидетельства о примечательных исторических событиях, жизнях и деятельности известных лиц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Комплексы (ансамбли)</a:t>
            </a: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 — топографически определенная совокупность отдельных или соединенных между собой сооружений разного назначения, которые отмечаются своей архитектурой и органической связью с ландшафт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Выдающиеся места</a:t>
            </a: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 — топографическое определенные зоны или ландшафты, естественные, естественно антропогенные творения, которые донесли до нашего времени ценность с антропологической, археологической, эстетичной, этнографической, исторической, художественной, научной или художественной точки зр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00040" y="214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Виды объектов культурного наслед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Археологические</a:t>
            </a:r>
            <a:r>
              <a:rPr b="0" lang="ru-RU" sz="1600" spc="-1" strike="noStrike">
                <a:solidFill>
                  <a:srgbClr val="660033"/>
                </a:solidFill>
                <a:latin typeface="Calibri"/>
              </a:rPr>
              <a:t> — </a:t>
            </a:r>
            <a:r>
              <a:rPr b="0" lang="ru-RU" sz="1600" spc="-1" strike="noStrike" u="sng">
                <a:solidFill>
                  <a:srgbClr val="660033"/>
                </a:solidFill>
                <a:uFillTx/>
                <a:latin typeface="Calibri"/>
              </a:rPr>
              <a:t>городища</a:t>
            </a:r>
            <a:r>
              <a:rPr b="0" lang="ru-RU" sz="1600" spc="-1" strike="noStrike">
                <a:solidFill>
                  <a:srgbClr val="660033"/>
                </a:solidFill>
                <a:latin typeface="Calibri"/>
              </a:rPr>
              <a:t>, </a:t>
            </a:r>
            <a:r>
              <a:rPr b="0" lang="ru-RU" sz="1600" spc="-1" strike="noStrike" u="sng">
                <a:solidFill>
                  <a:srgbClr val="660033"/>
                </a:solidFill>
                <a:uFillTx/>
                <a:latin typeface="Calibri"/>
              </a:rPr>
              <a:t>курганы</a:t>
            </a:r>
            <a:r>
              <a:rPr b="0" lang="ru-RU" sz="1600" spc="-1" strike="noStrike">
                <a:solidFill>
                  <a:srgbClr val="660033"/>
                </a:solidFill>
                <a:latin typeface="Calibri"/>
              </a:rPr>
              <a:t>, остатки древних поселений, стоянок, укреплений, военных лагерей, производств, </a:t>
            </a:r>
            <a:r>
              <a:rPr b="0" lang="ru-RU" sz="1600" spc="-1" strike="noStrike" u="sng">
                <a:solidFill>
                  <a:srgbClr val="660033"/>
                </a:solidFill>
                <a:uFillTx/>
                <a:latin typeface="Calibri"/>
              </a:rPr>
              <a:t>ирригационных</a:t>
            </a:r>
            <a:r>
              <a:rPr b="0" lang="ru-RU" sz="1600" spc="-1" strike="noStrike">
                <a:solidFill>
                  <a:srgbClr val="660033"/>
                </a:solidFill>
                <a:latin typeface="Calibri"/>
              </a:rPr>
              <a:t> сооружений, путей, могильщики, </a:t>
            </a:r>
            <a:r>
              <a:rPr b="0" lang="ru-RU" sz="1600" spc="-1" strike="noStrike" u="sng">
                <a:solidFill>
                  <a:srgbClr val="660033"/>
                </a:solidFill>
                <a:uFillTx/>
                <a:latin typeface="Calibri"/>
              </a:rPr>
              <a:t>культовые места</a:t>
            </a:r>
            <a:r>
              <a:rPr b="0" lang="ru-RU" sz="1600" spc="-1" strike="noStrike">
                <a:solidFill>
                  <a:srgbClr val="660033"/>
                </a:solidFill>
                <a:latin typeface="Calibri"/>
              </a:rPr>
              <a:t> и сооружения, мегалиты, наскальные изображения, участки исторического </a:t>
            </a:r>
            <a:r>
              <a:rPr b="0" lang="ru-RU" sz="1600" spc="-1" strike="noStrike" u="sng">
                <a:solidFill>
                  <a:srgbClr val="660033"/>
                </a:solidFill>
                <a:uFillTx/>
                <a:latin typeface="Calibri"/>
              </a:rPr>
              <a:t>культурного слоя</a:t>
            </a:r>
            <a:r>
              <a:rPr b="0" lang="ru-RU" sz="1600" spc="-1" strike="noStrike">
                <a:solidFill>
                  <a:srgbClr val="660033"/>
                </a:solidFill>
                <a:latin typeface="Calibri"/>
              </a:rPr>
              <a:t>, поля давних битв, остатки жизнедеятельности первобытных и древних люде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Исторические</a:t>
            </a:r>
            <a:r>
              <a:rPr b="0" lang="ru-RU" sz="1600" spc="-1" strike="noStrike">
                <a:solidFill>
                  <a:srgbClr val="660033"/>
                </a:solidFill>
                <a:latin typeface="Calibri"/>
              </a:rPr>
              <a:t> — дома, сооружения, их комплексы (ансамбли), отдельные захоронения и некрополи, выдающиеся места, связанные с важными историческими событиями, с жизнью и деятельностью известных лиц, культурой и бытом народ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Монументального искусства</a:t>
            </a:r>
            <a:r>
              <a:rPr b="0" lang="ru-RU" sz="1600" spc="-1" strike="noStrike">
                <a:solidFill>
                  <a:srgbClr val="660033"/>
                </a:solidFill>
                <a:latin typeface="Calibri"/>
              </a:rPr>
              <a:t> — произведения изобразительного искусства, как самостоятельные (отдельные), так и те, которые связаны с архитектурными, археологическими или другими достопримечательностями или с образуемыми ими комплексами (ансамблями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Архитектуры и градостроительства</a:t>
            </a:r>
            <a:r>
              <a:rPr b="0" lang="ru-RU" sz="1600" spc="-1" strike="noStrike">
                <a:solidFill>
                  <a:srgbClr val="660033"/>
                </a:solidFill>
                <a:latin typeface="Calibri"/>
              </a:rPr>
              <a:t> — исторические центры, улицы, кварталы, площади, архитектурные ансамбли, остатки давнего планирования и застройки, отдельные архитектурные сооружения, а также связанные с ними произведения монументального, декоративного и изобразительного искусств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Садово-паркового искусства</a:t>
            </a:r>
            <a:r>
              <a:rPr b="0" lang="ru-RU" sz="1600" spc="-1" strike="noStrike">
                <a:solidFill>
                  <a:srgbClr val="660033"/>
                </a:solidFill>
                <a:latin typeface="Calibri"/>
              </a:rPr>
              <a:t> — сочетания </a:t>
            </a:r>
            <a:r>
              <a:rPr b="0" lang="ru-RU" sz="1600" spc="-1" strike="noStrike" u="sng">
                <a:solidFill>
                  <a:srgbClr val="660033"/>
                </a:solidFill>
                <a:uFillTx/>
                <a:latin typeface="Calibri"/>
              </a:rPr>
              <a:t>паркового строительства</a:t>
            </a:r>
            <a:r>
              <a:rPr b="0" lang="ru-RU" sz="1600" spc="-1" strike="noStrike">
                <a:solidFill>
                  <a:srgbClr val="660033"/>
                </a:solidFill>
                <a:latin typeface="Calibri"/>
              </a:rPr>
              <a:t> с естественными или созданными человеком ландшафтам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Ландшафтные</a:t>
            </a:r>
            <a:r>
              <a:rPr b="0" lang="ru-RU" sz="1600" spc="-1" strike="noStrike">
                <a:solidFill>
                  <a:srgbClr val="660033"/>
                </a:solidFill>
                <a:latin typeface="Calibri"/>
              </a:rPr>
              <a:t> — естественные территории, которые имеют историческую ценность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Зачем педагогу дошкольного учреждения заниматься проблемой сохранения культурного наследия родного город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Зачем педагогу дошкольного учреждения заниматься проблемой сохранения культурного наследия родного город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Выполнение  основной образовательной программы дошкольного образ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Выполнение постановления Администрации Алтайского края от 26 мая 2010 г. N 228 "Об утверждении концепции сохранения, использования, популяризации  объектов культурного наследия в Алтайском крае на период  до 2020 года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Историко-культурное  наследие  является  базой,  на  которой  строится последующее  воспитание  и  развитие  ребенка.</a:t>
            </a: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4:26:21Z</dcterms:created>
  <dc:creator>Геннадий</dc:creator>
  <dc:description/>
  <dc:language>en-US</dc:language>
  <cp:lastModifiedBy>Admin</cp:lastModifiedBy>
  <dcterms:modified xsi:type="dcterms:W3CDTF">2017-12-31T02:38:37Z</dcterms:modified>
  <cp:revision>23</cp:revision>
  <dc:subject/>
  <dc:title>           Проектный   метод        как  способ  реализации        образовательных программ в ДОУ</dc:title>
</cp:coreProperties>
</file>